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F6A-0991-4699-9253-46AABB8D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CCF-7DCA-47EB-B7A5-C2698A71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51E-81BA-4334-96D1-B1E1F294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BC4-15FD-4501-AA55-3D2BD747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9CCC-233C-4FA7-895E-51FE4362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2974-2B66-4115-A918-D9877C01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ABCF-C5D8-477F-8CDC-88B13E0D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E4B1-761C-4208-902F-EBE5F6B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4D41-FF50-4BB3-BAE2-5461B13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D66D-DE44-4537-8137-7BCD9FA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FE67-205B-46D0-9880-7274B6C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4DC-2A89-4F2B-9482-99B24F69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FCD-B1A7-4AA1-9690-0AC168EF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B3D6-BEE4-40B9-8EC8-2D6C401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812-916E-4CCD-AB12-66908A2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0CD3-5588-4585-94D9-A7C267F0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28E-A221-462C-9F30-3D1D618F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950-492B-487A-A944-6938E4A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6E9-38CA-4042-834F-8273E47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4B6-CC01-4138-AF69-3DC17223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202-B757-4A3A-8ADA-6ECDB5FD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20A-1DCE-4C5E-B83B-0DC30D4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435-16D2-4C67-967D-B629AF7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697-DBC8-4CE1-ABE5-EA838DB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0D7E-4788-416E-B575-D178BF860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58A-C8A2-443E-9A2E-68EC0ECF45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4919-C5D9-4AB6-98C7-5AC5D37183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C:\Documents and Settings\t\桌面\jrhy2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12" descr="C:\Documents and Settings\t\桌面\jrhy\11.JPG"/>
          <p:cNvPicPr/>
          <p:nvPr/>
        </p:nvPicPr>
        <p:blipFill>
          <a:blip r:embed="rId2"/>
          <a:stretch/>
        </p:blipFill>
        <p:spPr>
          <a:xfrm>
            <a:off x="2819520" y="601992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C:\Documents and Settings\t\桌面\jrhy\11.JPG"/>
          <p:cNvPicPr/>
          <p:nvPr/>
        </p:nvPicPr>
        <p:blipFill>
          <a:blip r:embed="rId3"/>
          <a:stretch/>
        </p:blipFill>
        <p:spPr>
          <a:xfrm>
            <a:off x="1219320" y="601992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Documents and Settings\t\桌面\jrhy\11.JPG"/>
          <p:cNvPicPr/>
          <p:nvPr/>
        </p:nvPicPr>
        <p:blipFill>
          <a:blip r:embed="rId4"/>
          <a:stretch/>
        </p:blipFill>
        <p:spPr>
          <a:xfrm>
            <a:off x="6477120" y="601992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C:\Documents and Settings\t\桌面\jrhy\11.JPG"/>
          <p:cNvPicPr/>
          <p:nvPr/>
        </p:nvPicPr>
        <p:blipFill>
          <a:blip r:embed="rId5"/>
          <a:stretch/>
        </p:blipFill>
        <p:spPr>
          <a:xfrm>
            <a:off x="7696080" y="601992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C:\Documents and Settings\t\桌面\jrhy\11.JPG"/>
          <p:cNvPicPr/>
          <p:nvPr/>
        </p:nvPicPr>
        <p:blipFill>
          <a:blip r:embed="rId6"/>
          <a:stretch/>
        </p:blipFill>
        <p:spPr>
          <a:xfrm>
            <a:off x="8739360" y="6019920"/>
            <a:ext cx="8092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t\桌面\jrhy\11.JPG"/>
          <p:cNvPicPr/>
          <p:nvPr/>
        </p:nvPicPr>
        <p:blipFill>
          <a:blip r:embed="rId7"/>
          <a:stretch/>
        </p:blipFill>
        <p:spPr>
          <a:xfrm>
            <a:off x="0" y="601992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1" descr=""/>
          <p:cNvPicPr/>
          <p:nvPr/>
        </p:nvPicPr>
        <p:blipFill>
          <a:blip r:embed="rId8"/>
          <a:stretch/>
        </p:blipFill>
        <p:spPr>
          <a:xfrm>
            <a:off x="971640" y="0"/>
            <a:ext cx="786456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前，一个小村子里有座漂亮的花园。那里，春天鲜花盛开，夏天绿树成阴，秋天鲜果飘香，冬天白雪一片。</a:t>
            </a:r>
            <a:br>
              <a:rPr sz="4400"/>
            </a:br>
            <a:r>
              <a:rPr b="1" lang="zh-CN" sz="4400" spc="-1" strike="noStrike">
                <a:solidFill>
                  <a:srgbClr val="cc0000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Documents and Settings\t\桌面\jrhy\xs.JPG"/>
          <p:cNvPicPr/>
          <p:nvPr/>
        </p:nvPicPr>
        <p:blipFill>
          <a:blip r:embed="rId2"/>
          <a:stretch/>
        </p:blipFill>
        <p:spPr>
          <a:xfrm>
            <a:off x="8210520" y="5791320"/>
            <a:ext cx="933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春天终于来了，村子里又开出了美丽的鲜花，不时传来小鸟的欢叫。但不知为什么，巨人的花园里仍然是冬天，天天狂风大作，雪花飞舞。</a:t>
            </a:r>
            <a:br>
              <a:rPr sz="40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5800" y="3124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巨人裹着毯子 ，还瑟瑟发抖。他想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今年的春天为什么这么冷，这么荒凉呀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22640" y="4211640"/>
            <a:ext cx="85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C:\Documents and Settings\t\桌面\jrhy\xs.JPG"/>
          <p:cNvPicPr/>
          <p:nvPr/>
        </p:nvPicPr>
        <p:blipFill>
          <a:blip r:embed="rId2"/>
          <a:stretch/>
        </p:blipFill>
        <p:spPr>
          <a:xfrm>
            <a:off x="8210520" y="5781600"/>
            <a:ext cx="933480" cy="1067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200"/>
          <p:cNvSpPr/>
          <p:nvPr/>
        </p:nvSpPr>
        <p:spPr>
          <a:xfrm>
            <a:off x="2195640" y="26028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与此同时，鲜花凋谢，树叶飘落，花园又被冰雪覆盖了。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C:\Documents and Settings\t\桌面\jrhy\xs.JPG"/>
          <p:cNvPicPr/>
          <p:nvPr/>
        </p:nvPicPr>
        <p:blipFill>
          <a:blip r:embed="rId2"/>
          <a:stretch/>
        </p:blipFill>
        <p:spPr>
          <a:xfrm>
            <a:off x="8210520" y="5781600"/>
            <a:ext cx="9334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个小男孩在树下一伸手，桃树马上绽开绿芽，开出许多美丽的花朵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C:\Documents and Settings\t\桌面\jrhy\xs.JPG"/>
          <p:cNvPicPr/>
          <p:nvPr/>
        </p:nvPicPr>
        <p:blipFill>
          <a:blip r:embed="rId2"/>
          <a:stretch/>
        </p:blipFill>
        <p:spPr>
          <a:xfrm>
            <a:off x="8210520" y="5781600"/>
            <a:ext cx="9334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那以后，巨人的花园又成了孩子们的乐园。</a:t>
            </a:r>
            <a:br>
              <a:rPr sz="5400"/>
            </a:br>
            <a:r>
              <a:rPr b="1" lang="zh-CN" sz="5400" spc="-1" strike="noStrike">
                <a:solidFill>
                  <a:srgbClr val="ffff00"/>
                </a:solidFill>
                <a:latin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C:\Documents and Settings\t\桌面\jrhy\xs.JPG"/>
          <p:cNvPicPr/>
          <p:nvPr/>
        </p:nvPicPr>
        <p:blipFill>
          <a:blip r:embed="rId2"/>
          <a:stretch/>
        </p:blipFill>
        <p:spPr>
          <a:xfrm>
            <a:off x="8210520" y="578160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t\桌面\jrhy\xs.JPG"/>
          <p:cNvPicPr/>
          <p:nvPr/>
        </p:nvPicPr>
        <p:blipFill>
          <a:blip r:embed="rId3"/>
          <a:stretch/>
        </p:blipFill>
        <p:spPr>
          <a:xfrm>
            <a:off x="0" y="5257800"/>
            <a:ext cx="1400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664-8D4E-4E0E-A9F3-C28C182C87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154764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C:\Documents and Settings\t\桌面\jrhy\jrhy.JPG"/>
          <p:cNvPicPr/>
          <p:nvPr/>
        </p:nvPicPr>
        <p:blipFill>
          <a:blip r:embed="rId1"/>
          <a:stretch/>
        </p:blipFill>
        <p:spPr>
          <a:xfrm>
            <a:off x="0" y="-250920"/>
            <a:ext cx="9372600" cy="735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Documents and Settings\t\桌面\jrhy\11.JPG"/>
          <p:cNvPicPr/>
          <p:nvPr/>
        </p:nvPicPr>
        <p:blipFill>
          <a:blip r:embed="rId2"/>
          <a:stretch/>
        </p:blipFill>
        <p:spPr>
          <a:xfrm>
            <a:off x="8229600" y="5638680"/>
            <a:ext cx="1217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4:43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0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