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4CB0-C8BA-486A-B635-71EE6164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FD0-D3F2-49B2-91B4-62D70782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6DAB-5D43-4025-AE2F-1D0CACAC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D45-A0F0-471C-8F27-CDE27FB1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E411-5DF2-4072-8AB8-948C2F88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58D8-7B47-4087-87E7-CCAC4C3E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4287-BB8D-4B6E-8A0C-B890E87F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221E-40D7-4ACD-AB29-C1D20115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B798-CC19-4B82-A259-ABDD40AF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7C49-A40B-431D-AA66-A8533565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E41E-9166-49A3-A24D-0D74AED6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B6D1-6C00-4425-825C-43DD55C9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14ED-B3D2-450C-9051-6E2111B3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4907-0E98-4EE6-A998-7E14194E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5D00-373A-4B25-A795-18A637A4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3643-5A0A-451E-89BA-D580D6BC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3E56-17CB-4286-B4D5-BC07AC16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4F3E-E7DC-485D-8C5B-086F7096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2D5B-F4CE-47C8-883B-93A2BD1A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F2B-5AD2-43F9-9255-D38A0A66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BC7-864B-48D7-BB99-78B5C588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60E-101D-43C2-85C7-35772EBB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44BF-E0D2-48E1-A97C-FBE33DF4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638-F78A-4E42-BECE-76109D68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2554-250A-433D-8C97-4B3826555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1C37-BFF1-481B-971F-E22FE5EBC39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3997-93CD-45D1-BE60-850205F922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801720" y="7650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C:\Program Files\Common Files\Microsoft Shared\Clipart\cagcat50\MP00640_.wmf"/>
          <p:cNvPicPr/>
          <p:nvPr/>
        </p:nvPicPr>
        <p:blipFill>
          <a:blip r:embed="rId1"/>
          <a:stretch/>
        </p:blipFill>
        <p:spPr>
          <a:xfrm>
            <a:off x="0" y="154080"/>
            <a:ext cx="2666880" cy="2590560"/>
          </a:xfrm>
          <a:prstGeom prst="rect">
            <a:avLst/>
          </a:prstGeom>
          <a:ln w="0">
            <a:noFill/>
          </a:ln>
        </p:spPr>
      </p:pic>
      <p:sp>
        <p:nvSpPr>
          <p:cNvPr id="84" name="WordArt 2"/>
          <p:cNvSpPr txBox="1"/>
          <p:nvPr/>
        </p:nvSpPr>
        <p:spPr>
          <a:xfrm>
            <a:off x="466560" y="2565360"/>
            <a:ext cx="79693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8360">
                  <a:solidFill>
                    <a:srgbClr val="ffffff"/>
                  </a:solidFill>
                  <a:round/>
                </a:ln>
                <a:solidFill>
                  <a:srgbClr val="ff0000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方正综艺简体"/>
              </a:rPr>
              <a:t>假如没有灰尘语文课件</a:t>
            </a:r>
            <a:r>
              <a:rPr b="0" lang="en-US" sz="4000" spc="1" strike="noStrike">
                <a:ln w="18360">
                  <a:solidFill>
                    <a:srgbClr val="ffffff"/>
                  </a:solidFill>
                  <a:round/>
                </a:ln>
                <a:solidFill>
                  <a:srgbClr val="ff0000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方正综艺简体"/>
              </a:rPr>
              <a:t>PPT</a:t>
            </a:r>
            <a:r>
              <a:rPr b="0" lang="zh-CN" sz="4000" spc="1" strike="noStrike">
                <a:ln w="18360">
                  <a:solidFill>
                    <a:srgbClr val="ffffff"/>
                  </a:solidFill>
                  <a:round/>
                </a:ln>
                <a:solidFill>
                  <a:srgbClr val="ff0000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方正综艺简体"/>
              </a:rPr>
              <a:t>模板下载</a:t>
            </a:r>
            <a:endParaRPr b="0" lang="en-US" sz="4000" spc="1" strike="noStrike">
              <a:ln w="18360">
                <a:solidFill>
                  <a:srgbClr val="ffffff"/>
                </a:solidFill>
                <a:round/>
              </a:ln>
              <a:solidFill>
                <a:srgbClr val="ff0000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方正综艺简体"/>
              <a:ea typeface="方正综艺简体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050"/>
          <p:cNvSpPr/>
          <p:nvPr/>
        </p:nvSpPr>
        <p:spPr>
          <a:xfrm>
            <a:off x="3288240" y="1219320"/>
            <a:ext cx="30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“灰尘颗粒的直径一般在万分之一到百万分之一毫米之间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中的“一般”能否删去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WordArt 2051"/>
          <p:cNvSpPr txBox="1"/>
          <p:nvPr/>
        </p:nvSpPr>
        <p:spPr>
          <a:xfrm>
            <a:off x="533520" y="533520"/>
            <a:ext cx="327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体味用词的准确性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0" name="Text Box 2052"/>
          <p:cNvSpPr/>
          <p:nvPr/>
        </p:nvSpPr>
        <p:spPr>
          <a:xfrm>
            <a:off x="4370040" y="2133720"/>
            <a:ext cx="68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不能，一般指通常，大多数情况，表明了灰尘的直径大多数是在万分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一到百万分之一的范围内，但也有特殊情况，这个词在这里有限制的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用，删去后不符合客观情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053"/>
          <p:cNvSpPr/>
          <p:nvPr/>
        </p:nvSpPr>
        <p:spPr>
          <a:xfrm>
            <a:off x="1923120" y="320040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“庞然大物”的原意是什么？它与“灰尘的直径一般在万分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一到百万分之一毫米之间”是否矛盾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54"/>
          <p:cNvSpPr/>
          <p:nvPr/>
        </p:nvSpPr>
        <p:spPr>
          <a:xfrm>
            <a:off x="2262240" y="4038480"/>
            <a:ext cx="47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形容体积大而笨重的东西。不矛盾，这里的庞然大物是指颗粒比较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人肉眼能够看到的灰尘，它们与在高倍显微镜下才能看到的细小灰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相比，就显得巨大笨重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055"/>
          <p:cNvSpPr/>
          <p:nvPr/>
        </p:nvSpPr>
        <p:spPr>
          <a:xfrm>
            <a:off x="1999440" y="510552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“阳光经过灰尘的反射，强度大大削弱一句中的“大大”有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么作用”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56"/>
          <p:cNvSpPr/>
          <p:nvPr/>
        </p:nvSpPr>
        <p:spPr>
          <a:xfrm>
            <a:off x="2936880" y="601992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突出了反射后阳光强度被削弱的程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609480" y="685800"/>
            <a:ext cx="245772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2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华文彩云"/>
              </a:rPr>
              <a:t>灰尘的两面性</a:t>
            </a:r>
            <a:endParaRPr b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华文彩云"/>
              <a:ea typeface="华文彩云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914400" y="1828800"/>
            <a:ext cx="57340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有碍环境卫生，危害人体健康。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7" name="WordArt 6"/>
          <p:cNvSpPr txBox="1"/>
          <p:nvPr/>
        </p:nvSpPr>
        <p:spPr>
          <a:xfrm>
            <a:off x="838080" y="2590920"/>
            <a:ext cx="57340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对人类、地球的生存及大自然，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914400" y="3429000"/>
            <a:ext cx="3686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都具有巨大的作用。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892960" y="4308480"/>
            <a:ext cx="34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告诉我们：“任何事物都有它的两面性”。请你联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周围的事物，举一两个例子来说明这个道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4D9C-E62E-4E95-9CB4-1101FC47DBD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6"/>
          <p:cNvSpPr/>
          <p:nvPr/>
        </p:nvSpPr>
        <p:spPr>
          <a:xfrm>
            <a:off x="4192560" y="7621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事物有两面性的观点，仿照下面的句子，再造两个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：灰尘，一方面，有碍卫生，对人体健康有一定的危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方面，在削弱阳光调节气候等方面又有重要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810360" y="2789280"/>
            <a:ext cx="782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蛇毒，一方面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方面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　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908640" y="4348080"/>
            <a:ext cx="751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废品，一方面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　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方面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　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2514600" y="762120"/>
            <a:ext cx="6019920" cy="2971800"/>
          </a:xfrm>
          <a:prstGeom prst="cloudCallout">
            <a:avLst>
              <a:gd name="adj1" fmla="val -62578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3352680" y="1219320"/>
            <a:ext cx="4876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假如自然界真的没有灰尘，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2743200" y="1981080"/>
            <a:ext cx="5610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我们将面临怎样的境地呢？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89" name="Picture 5" descr="C:\Program Files\Common Files\Microsoft Shared\Clipart\cagcat50\BD06662_.WMF"/>
          <p:cNvPicPr/>
          <p:nvPr/>
        </p:nvPicPr>
        <p:blipFill>
          <a:blip r:embed="rId1"/>
          <a:stretch/>
        </p:blipFill>
        <p:spPr>
          <a:xfrm>
            <a:off x="838080" y="3809880"/>
            <a:ext cx="2971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Program Files\Common Files\Microsoft Shared\Clipart\cagcat50\SO01038_.wmf"/>
          <p:cNvPicPr/>
          <p:nvPr/>
        </p:nvPicPr>
        <p:blipFill>
          <a:blip r:embed="rId1"/>
          <a:stretch/>
        </p:blipFill>
        <p:spPr>
          <a:xfrm>
            <a:off x="2209680" y="914400"/>
            <a:ext cx="4648320" cy="35053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482840" y="46483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假如大气中没有灰尘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07240" y="55627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强烈的阳光将使人无法睁开眼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My Documents\TN_CLOUD7.jpg"/>
          <p:cNvPicPr/>
          <p:nvPr/>
        </p:nvPicPr>
        <p:blipFill>
          <a:blip r:embed="rId1"/>
          <a:stretch/>
        </p:blipFill>
        <p:spPr>
          <a:xfrm>
            <a:off x="838080" y="457200"/>
            <a:ext cx="7391520" cy="380988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914400" y="4648320"/>
            <a:ext cx="45720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彩云"/>
              </a:rPr>
              <a:t>假如空气中没有灰尘，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649120" y="5486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文鼎中行书简"/>
              </a:rPr>
              <a:t>天空将变成白茫茫的一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533600" y="48006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假如大气中没有灰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990680" y="55627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文鼎CS长宋"/>
              </a:rPr>
              <a:t>生物将无法生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C:\My Documents\My Pictures\book1-4s.jpg"/>
          <p:cNvPicPr/>
          <p:nvPr/>
        </p:nvPicPr>
        <p:blipFill>
          <a:blip r:embed="rId1"/>
          <a:stretch/>
        </p:blipFill>
        <p:spPr>
          <a:xfrm>
            <a:off x="914400" y="685800"/>
            <a:ext cx="69343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1026"/>
          <p:cNvSpPr txBox="1"/>
          <p:nvPr/>
        </p:nvSpPr>
        <p:spPr>
          <a:xfrm>
            <a:off x="914400" y="685800"/>
            <a:ext cx="514368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假如空气中没有灰尘，</a:t>
            </a:r>
            <a:endParaRPr b="1" lang="en-US" sz="40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0" name="AutoShape 1027"/>
          <p:cNvSpPr/>
          <p:nvPr/>
        </p:nvSpPr>
        <p:spPr>
          <a:xfrm>
            <a:off x="3962520" y="25146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028"/>
          <p:cNvSpPr/>
          <p:nvPr/>
        </p:nvSpPr>
        <p:spPr>
          <a:xfrm>
            <a:off x="4572000" y="28954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29"/>
          <p:cNvSpPr/>
          <p:nvPr/>
        </p:nvSpPr>
        <p:spPr>
          <a:xfrm>
            <a:off x="5181480" y="2514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030" descr="C:\Program Files\Common Files\Microsoft Shared\Clipart\cagcat50\PE02097_.wmf"/>
          <p:cNvPicPr/>
          <p:nvPr/>
        </p:nvPicPr>
        <p:blipFill>
          <a:blip r:embed="rId1"/>
          <a:stretch/>
        </p:blipFill>
        <p:spPr>
          <a:xfrm>
            <a:off x="1676520" y="3505320"/>
            <a:ext cx="3581280" cy="2819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31"/>
          <p:cNvSpPr/>
          <p:nvPr/>
        </p:nvSpPr>
        <p:spPr>
          <a:xfrm>
            <a:off x="5087880" y="16002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文鼎CS大隶书"/>
              </a:rPr>
              <a:t>大自然将多么单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文本框 8194"/>
          <p:cNvSpPr/>
          <p:nvPr/>
        </p:nvSpPr>
        <p:spPr>
          <a:xfrm>
            <a:off x="1835280" y="3213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My Documents\云1.jpg"/>
          <p:cNvPicPr/>
          <p:nvPr/>
        </p:nvPicPr>
        <p:blipFill>
          <a:blip r:embed="rId1"/>
          <a:stretch/>
        </p:blipFill>
        <p:spPr>
          <a:xfrm>
            <a:off x="838080" y="914400"/>
            <a:ext cx="769644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3"/>
          <p:cNvSpPr txBox="1"/>
          <p:nvPr/>
        </p:nvSpPr>
        <p:spPr>
          <a:xfrm>
            <a:off x="3124080" y="5029200"/>
            <a:ext cx="2667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彩云"/>
              </a:rPr>
              <a:t>闲云迷雾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26" descr="C:\My Documents\5.jpg"/>
          <p:cNvPicPr/>
          <p:nvPr/>
        </p:nvPicPr>
        <p:blipFill>
          <a:blip r:embed="rId1"/>
          <a:stretch/>
        </p:blipFill>
        <p:spPr>
          <a:xfrm>
            <a:off x="990720" y="990720"/>
            <a:ext cx="7543800" cy="434808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027"/>
          <p:cNvSpPr txBox="1"/>
          <p:nvPr/>
        </p:nvSpPr>
        <p:spPr>
          <a:xfrm>
            <a:off x="3048120" y="556272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深沉的晚霞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483360" y="609480"/>
            <a:ext cx="144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较下列句子，说说哪个表达效果更好，并说明理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灰尘大多具有吸湿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灰尘有的具有吸湿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09480" y="1981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句好，“大多”指大多数，准确说明了灰尘中具有吸湿功能的灰尘的数量，而“有的”没有数量的意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059280" y="2895480"/>
            <a:ext cx="182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分散的水汽便依附着灰尘而形成稳定的水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分散的水汽便依附着灰尘而变成稳定的水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081520" y="3733920"/>
            <a:ext cx="518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句好，“形成”是逐渐发展生长而造成的，形象地写出了分散的水汽逐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吸附灰尘所形成水滴的过程。而“变成”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则指改变而成，这里水的本质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没有改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364200" y="4800600"/>
            <a:ext cx="182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只有正确地认识它们，才能趋利避害，造富人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只有认识它们，才能趋利避害，造富人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121840" y="5867280"/>
            <a:ext cx="505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句好，仅仅“认识”是不能区分利和弊的，“正确的认识”是趋利避害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前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669960" y="9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文本框 8194"/>
          <p:cNvSpPr/>
          <p:nvPr/>
        </p:nvSpPr>
        <p:spPr>
          <a:xfrm>
            <a:off x="1403280" y="2637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7:1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07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