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5.wmf" ContentType="image/x-wmf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1.png" ContentType="image/png"/>
  <Override PartName="/ppt/media/image19.jpeg" ContentType="image/jpeg"/>
  <Override PartName="/ppt/media/image6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C71-CA40-4DE2-AD94-7B7B302E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C99-0A13-4C8F-8496-7196CD5A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567-99CD-452D-BB56-D9F9E25D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A50-FB6B-4113-81F9-9391D870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77B4-E323-435D-BDF3-76A550EE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FC55-5AD2-4086-B76B-8052CC7E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F79E-43FC-4342-A2E7-98B3427B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2989-681F-4B12-B20D-DBF3ADA5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F76E-BC33-4123-A7C7-D3B01AE9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EA4E-4551-45D6-8F57-A01508AF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EBA6-CF0A-403B-8B99-147A1D3C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B3D-311E-4936-BA6C-00D57F92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C10F-8320-4AAB-A7C1-7EA978AD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9C9F-0B2C-49A7-AF82-17223DA9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0912-10DF-456E-A913-9D79A255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83AC-76D9-4DF7-BDCD-3001F0BC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AA16-FE6E-406D-BBF8-353E3EB3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25BA-9AC4-4C71-AD3B-E970AFD2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0F71-A730-4F08-8D8A-8B28707D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CD02-221B-4B2A-B3AC-CEE58103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903A0-5842-40F8-9596-21E8C49F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9C8B-8529-42FD-90AF-B2ACF8F4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924-B7D7-4DF2-A23A-4BAF26B3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BFF4-BA3E-4259-A531-597CAD6C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2426-39A9-4005-A689-68EBA5F3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2687-7A7D-4FC6-8B69-6930ACC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6E13-5677-4AD1-949B-9E18677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1D26-22DC-4712-93A4-3D6BD3F6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E420-F1B0-41C4-98BA-329E6496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A637-FC54-422E-80FC-3DD2A4B5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D51-25A9-4512-BBEE-19BEA402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63C-E353-4C19-A1EF-7731CF7F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82C-803A-4BC6-9F2C-78401F39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5FF-CDED-4B6B-9195-F05D9D90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D4F-EC08-4362-8794-C784486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8FA-BD3E-4910-9BF7-FCF9524E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D820-79DB-41AD-8D1F-09703C6A2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242E-CBBE-4E62-A2A9-DD525FF10B7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9EBE-6DE1-43F0-9CF9-037DDB5ABD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E0AD-2074-49D2-B660-522EBCBA127E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98b616a8dcda8b6214ac50970332f59e5f85b7cece460f2fb1a5ea84ae54efe9eff820317d3470f5159be7634a6300688901a93a0db6f084b4b0908fc36577e9a2ff52fe&amp;a=29&amp;b=29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4f302c866e1891b92f4a32982118821556b0e566fd6ae4ed155183baaf595d6cee3f8b13ab7f32bcf76757cef9ed3bcd2a2f60a7c244e1c2b4fdd7d974cca38486564cf0&amp;a=29&amp;b=24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image" Target="../media/image18.gif"/><Relationship Id="rId27" Type="http://schemas.openxmlformats.org/officeDocument/2006/relationships/image" Target="../media/image18.gif"/><Relationship Id="rId28" Type="http://schemas.openxmlformats.org/officeDocument/2006/relationships/image" Target="../media/image18.gif"/><Relationship Id="rId29" Type="http://schemas.openxmlformats.org/officeDocument/2006/relationships/image" Target="../media/image18.gif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a0acb0cf188bafe5518c28f1d564cce246bcd813bbf8f4a4775f8459d02a71e68c431e0286a6b9d5811f4cb1fe155f75b784057b36f945de827eddf9dd9abfd5cec14b38&amp;a=29&amp;b=29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3fb39b0c49ce8ae3ccf2d6ead9d9a75aabce280e1b0edcffe5879465c4802a39e6a8a9707bd195268008459542f7484c77226aabde1b11918b78cb550abed0b603bb052&amp;a=10&amp;b=29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2af22481a5d4eb756c58838561479cbee4ecb0cedcea3f72b39416e7fb42bca33aa277acfa889d03cb5d8c921dc9415af6c8982e69ef6046b3d05d95711b13652e8aa310&amp;a=29&amp;b=29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5bb076d463ed1c4179f5a28b951c8fb2af95e3679066b63e6ea4d16c46151500c817f3a817b4f46edfaa3db6db0e8a09099df12287505c530ba434998fee8d0b9633addf&amp;a=29&amp;b=2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334ca4171e8850605b53c43bb948c131b2fb0b8ace385e785ebe96e23351d94d8a7b0b3a9686b04dfa4b506af424dd00b59aa2fa6943df55bf7b0386c32de2730a9c413&amp;a=29&amp;b=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f5bf7c632a1ba70716a688110a2336c3d51fceeb6afd8a0bf80554d7583de64296fb3079fa15b185f86074af6c9ad2922519d53261a7db601886bedaec0b10c9afe811d2&amp;a=29&amp;b=24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c6f4668aea28235064ef06ef88bf10751f880e8d8c0449b65b515d5880dd5e9f0918ac250a0c4702616ee406c1173a38e37c0d0d980d079102b7868025593211c8612334&amp;a=29&amp;b=29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5bb076d463ed1c4179f5a28b951c8fb2af95e3679066b63e6ea4d16c46151500c817f3a817b4f46edfaa3db6db0e8a09099df12287505c530ba434998fee8d0b9633addf&amp;a=29&amp;b=2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5bb076d463ed1c4179f5a28b951c8fb2af95e3679066b63e6ea4d16c46151500c817f3a817b4f46edfaa3db6db0e8a09099df12287505c530ba434998fee8d0b9633addf&amp;a=29&amp;b=2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a77bee3d79542b0049ea0f5b0dc4e4fb6405835014a0369cbeaec77a9d081b1a55e27b4a4d2994a13720368736dce3a6d87298abb0872008888736e98acafa448fac4050&amp;a=29&amp;b=29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5" name="Picture 4" descr="51_398706_8bc4b9d233b25ef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75640"/>
          </a:xfrm>
          <a:prstGeom prst="rect">
            <a:avLst/>
          </a:prstGeom>
          <a:ln w="0">
            <a:noFill/>
          </a:ln>
        </p:spPr>
      </p:pic>
      <p:pic>
        <p:nvPicPr>
          <p:cNvPr id="126" name="Text Box 6" descr=""/>
          <p:cNvPicPr/>
          <p:nvPr/>
        </p:nvPicPr>
        <p:blipFill>
          <a:blip r:embed="rId2"/>
          <a:stretch/>
        </p:blipFill>
        <p:spPr>
          <a:xfrm>
            <a:off x="577800" y="1766880"/>
            <a:ext cx="7991640" cy="74448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80808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4179186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900000" y="17064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有一次，奶奶去商店，走在她前面的阿姨推开沉重的大门，一直等到她跟上来才松开手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4179186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900000" y="69228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有一次，奶奶去商店，走在她前面的阿姨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推开沉重的大门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一直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等到她跟上来才松开手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35120" y="4581360"/>
            <a:ext cx="736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4400" spc="-1" strike="noStrike" u="sng">
                <a:solidFill>
                  <a:srgbClr val="0039ac"/>
                </a:solidFill>
                <a:uFillTx/>
                <a:latin typeface="Arial"/>
              </a:rPr>
              <a:t>当阿姨这么做的时候，她想到的是什么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5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260280"/>
            <a:ext cx="8651880" cy="6264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19120" y="476280"/>
            <a:ext cx="801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我的妈妈和您的年龄差不多，我希望她遇到这种时候，也有人为她开门。”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20051118145001827"/>
          <p:cNvPicPr/>
          <p:nvPr/>
        </p:nvPicPr>
        <p:blipFill>
          <a:blip r:embed="rId1"/>
          <a:stretch/>
        </p:blipFill>
        <p:spPr>
          <a:xfrm>
            <a:off x="304920" y="177840"/>
            <a:ext cx="8458200" cy="64515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137160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332000" y="1125360"/>
            <a:ext cx="640872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想一想：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听了阿姨的话你又有什么感受呢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6372360" y="260280"/>
            <a:ext cx="223344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384200" y="4024440"/>
            <a:ext cx="61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要是你是那位阿姨会怎么做呢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Object 2" descr=""/>
          <p:cNvPicPr/>
          <p:nvPr/>
        </p:nvPicPr>
        <p:blipFill>
          <a:blip r:embed="rId1"/>
          <a:stretch/>
        </p:blipFill>
        <p:spPr>
          <a:xfrm>
            <a:off x="6300720" y="907920"/>
            <a:ext cx="2843280" cy="5950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7956720" y="260280"/>
            <a:ext cx="8650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0920" y="189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111111"/>
                </a:solidFill>
                <a:latin typeface="宋体"/>
              </a:rPr>
              <a:t>一天，我陪患病的母亲去医院输液，年轻的护士为母亲扎了两针也没有扎进血管里，眼见针眼处鼓起青包。我正要抱怨几句，一抬头看见了母亲平静的眼神－－她正在注视着护士额头上密密的汗珠，我不禁收住了涌到嘴边的话。只见母亲轻轻地对护士说：“不要紧，再来一次！”第三针果然成功了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603960" y="184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宋体"/>
              </a:rPr>
              <a:t>青包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13520" y="29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平静的眼神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137560" y="29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注视着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465560" y="4581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轻轻地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478840" y="45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不要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898200" y="5157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紧，再来一次！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将心比心4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6669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4427640" y="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读一读母亲平静的话，思考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）“不要紧，再来一次”是在什么样的情况下说这样的话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284720" y="3645000"/>
            <a:ext cx="48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此时的母亲她疼吗？母亲完全可以因疼痛而埋怨或是责备，但母亲为什么还那么“平静”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96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189000"/>
            <a:ext cx="8975880" cy="6264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468360" y="200808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不要紧，再来一次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！”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将心比心4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6669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4284720" y="404640"/>
            <a:ext cx="46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设想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假如妈妈抱怨护士，又会是怎样的后果呢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4479840" y="3573360"/>
            <a:ext cx="44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母亲当时这样做，还想到了谁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将心比心4"/>
          <p:cNvPicPr/>
          <p:nvPr/>
        </p:nvPicPr>
        <p:blipFill>
          <a:blip r:embed="rId1"/>
          <a:stretch/>
        </p:blipFill>
        <p:spPr>
          <a:xfrm>
            <a:off x="179280" y="260280"/>
            <a:ext cx="3313080" cy="63374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3564000" y="260280"/>
            <a:ext cx="55800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　    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母亲用另一只手拉着我，平静地对护士说</a:t>
            </a: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：“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这是我的女儿，和你差不多大小，正在医科大学读书，她也将面对自己的第一个患者。我真希望她第一次扎针的时候，也能得到患者的宽容和鼓励</a:t>
            </a: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。”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爱心"/>
          <p:cNvPicPr/>
          <p:nvPr/>
        </p:nvPicPr>
        <p:blipFill>
          <a:blip r:embed="rId2"/>
          <a:stretch/>
        </p:blipFill>
        <p:spPr>
          <a:xfrm>
            <a:off x="3276720" y="3657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爱心"/>
          <p:cNvPicPr/>
          <p:nvPr/>
        </p:nvPicPr>
        <p:blipFill>
          <a:blip r:embed="rId3"/>
          <a:stretch/>
        </p:blipFill>
        <p:spPr>
          <a:xfrm>
            <a:off x="350532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爱心"/>
          <p:cNvPicPr/>
          <p:nvPr/>
        </p:nvPicPr>
        <p:blipFill>
          <a:blip r:embed="rId4"/>
          <a:stretch/>
        </p:blipFill>
        <p:spPr>
          <a:xfrm>
            <a:off x="380988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爱心"/>
          <p:cNvPicPr/>
          <p:nvPr/>
        </p:nvPicPr>
        <p:blipFill>
          <a:blip r:embed="rId5"/>
          <a:stretch/>
        </p:blipFill>
        <p:spPr>
          <a:xfrm>
            <a:off x="4114800" y="4572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爱心"/>
          <p:cNvPicPr/>
          <p:nvPr/>
        </p:nvPicPr>
        <p:blipFill>
          <a:blip r:embed="rId6"/>
          <a:stretch/>
        </p:blipFill>
        <p:spPr>
          <a:xfrm>
            <a:off x="4572000" y="4869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爱心"/>
          <p:cNvPicPr/>
          <p:nvPr/>
        </p:nvPicPr>
        <p:blipFill>
          <a:blip r:embed="rId7"/>
          <a:stretch/>
        </p:blipFill>
        <p:spPr>
          <a:xfrm>
            <a:off x="500364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爱心"/>
          <p:cNvPicPr/>
          <p:nvPr/>
        </p:nvPicPr>
        <p:blipFill>
          <a:blip r:embed="rId8"/>
          <a:stretch/>
        </p:blipFill>
        <p:spPr>
          <a:xfrm>
            <a:off x="5364000" y="4365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爱心"/>
          <p:cNvPicPr/>
          <p:nvPr/>
        </p:nvPicPr>
        <p:blipFill>
          <a:blip r:embed="rId9"/>
          <a:stretch/>
        </p:blipFill>
        <p:spPr>
          <a:xfrm>
            <a:off x="6443640" y="29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爱心"/>
          <p:cNvPicPr/>
          <p:nvPr/>
        </p:nvPicPr>
        <p:blipFill>
          <a:blip r:embed="rId10"/>
          <a:stretch/>
        </p:blipFill>
        <p:spPr>
          <a:xfrm>
            <a:off x="5435640" y="692280"/>
            <a:ext cx="457200" cy="529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爱心"/>
          <p:cNvPicPr/>
          <p:nvPr/>
        </p:nvPicPr>
        <p:blipFill>
          <a:blip r:embed="rId11"/>
          <a:stretch/>
        </p:blipFill>
        <p:spPr>
          <a:xfrm>
            <a:off x="243828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爱心"/>
          <p:cNvPicPr/>
          <p:nvPr/>
        </p:nvPicPr>
        <p:blipFill>
          <a:blip r:embed="rId12"/>
          <a:stretch/>
        </p:blipFill>
        <p:spPr>
          <a:xfrm>
            <a:off x="2411280" y="1628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爱心"/>
          <p:cNvPicPr/>
          <p:nvPr/>
        </p:nvPicPr>
        <p:blipFill>
          <a:blip r:embed="rId13"/>
          <a:stretch/>
        </p:blipFill>
        <p:spPr>
          <a:xfrm>
            <a:off x="3059280" y="90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爱心"/>
          <p:cNvPicPr/>
          <p:nvPr/>
        </p:nvPicPr>
        <p:blipFill>
          <a:blip r:embed="rId14"/>
          <a:stretch/>
        </p:blipFill>
        <p:spPr>
          <a:xfrm>
            <a:off x="4500720" y="1052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爱心"/>
          <p:cNvPicPr/>
          <p:nvPr/>
        </p:nvPicPr>
        <p:blipFill>
          <a:blip r:embed="rId15"/>
          <a:stretch/>
        </p:blipFill>
        <p:spPr>
          <a:xfrm>
            <a:off x="2700360" y="1197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0" descr="爱心"/>
          <p:cNvPicPr/>
          <p:nvPr/>
        </p:nvPicPr>
        <p:blipFill>
          <a:blip r:embed="rId16"/>
          <a:stretch/>
        </p:blipFill>
        <p:spPr>
          <a:xfrm>
            <a:off x="6732720" y="1989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1" descr="爱心"/>
          <p:cNvPicPr/>
          <p:nvPr/>
        </p:nvPicPr>
        <p:blipFill>
          <a:blip r:embed="rId17"/>
          <a:stretch/>
        </p:blipFill>
        <p:spPr>
          <a:xfrm>
            <a:off x="6227640" y="3357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爱心"/>
          <p:cNvPicPr/>
          <p:nvPr/>
        </p:nvPicPr>
        <p:blipFill>
          <a:blip r:embed="rId18"/>
          <a:stretch/>
        </p:blipFill>
        <p:spPr>
          <a:xfrm>
            <a:off x="6012000" y="364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爱心"/>
          <p:cNvPicPr/>
          <p:nvPr/>
        </p:nvPicPr>
        <p:blipFill>
          <a:blip r:embed="rId19"/>
          <a:stretch/>
        </p:blipFill>
        <p:spPr>
          <a:xfrm>
            <a:off x="5724360" y="4005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4" descr="爱心"/>
          <p:cNvPicPr/>
          <p:nvPr/>
        </p:nvPicPr>
        <p:blipFill>
          <a:blip r:embed="rId20"/>
          <a:stretch/>
        </p:blipFill>
        <p:spPr>
          <a:xfrm>
            <a:off x="4067280" y="76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5" descr="爱心"/>
          <p:cNvPicPr/>
          <p:nvPr/>
        </p:nvPicPr>
        <p:blipFill>
          <a:blip r:embed="rId21"/>
          <a:stretch/>
        </p:blipFill>
        <p:spPr>
          <a:xfrm>
            <a:off x="5867280" y="90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7" descr="爱心"/>
          <p:cNvPicPr/>
          <p:nvPr/>
        </p:nvPicPr>
        <p:blipFill>
          <a:blip r:embed="rId22"/>
          <a:stretch/>
        </p:blipFill>
        <p:spPr>
          <a:xfrm>
            <a:off x="6588000" y="1557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8" descr="爱心"/>
          <p:cNvPicPr/>
          <p:nvPr/>
        </p:nvPicPr>
        <p:blipFill>
          <a:blip r:embed="rId23"/>
          <a:stretch/>
        </p:blipFill>
        <p:spPr>
          <a:xfrm>
            <a:off x="6300720" y="1125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9" descr="爱心"/>
          <p:cNvPicPr/>
          <p:nvPr/>
        </p:nvPicPr>
        <p:blipFill>
          <a:blip r:embed="rId24"/>
          <a:stretch/>
        </p:blipFill>
        <p:spPr>
          <a:xfrm>
            <a:off x="4932360" y="836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0" descr="爱心"/>
          <p:cNvPicPr/>
          <p:nvPr/>
        </p:nvPicPr>
        <p:blipFill>
          <a:blip r:embed="rId25"/>
          <a:stretch/>
        </p:blipFill>
        <p:spPr>
          <a:xfrm>
            <a:off x="29718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1" descr="爱心"/>
          <p:cNvPicPr/>
          <p:nvPr/>
        </p:nvPicPr>
        <p:blipFill>
          <a:blip r:embed="rId26"/>
          <a:stretch/>
        </p:blipFill>
        <p:spPr>
          <a:xfrm>
            <a:off x="27432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2" descr="爱心"/>
          <p:cNvPicPr/>
          <p:nvPr/>
        </p:nvPicPr>
        <p:blipFill>
          <a:blip r:embed="rId27"/>
          <a:stretch/>
        </p:blipFill>
        <p:spPr>
          <a:xfrm>
            <a:off x="25146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3" descr="爱心"/>
          <p:cNvPicPr/>
          <p:nvPr/>
        </p:nvPicPr>
        <p:blipFill>
          <a:blip r:embed="rId28"/>
          <a:stretch/>
        </p:blipFill>
        <p:spPr>
          <a:xfrm>
            <a:off x="3635280" y="692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6" descr="爱心"/>
          <p:cNvPicPr/>
          <p:nvPr/>
        </p:nvPicPr>
        <p:blipFill>
          <a:blip r:embed="rId29"/>
          <a:stretch/>
        </p:blipFill>
        <p:spPr>
          <a:xfrm>
            <a:off x="6659640" y="2492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9"/>
          <p:cNvSpPr/>
          <p:nvPr/>
        </p:nvSpPr>
        <p:spPr>
          <a:xfrm>
            <a:off x="3059280" y="1628640"/>
            <a:ext cx="3817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将心比心   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   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善待别人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就是善待自己！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7"/>
          <p:cNvSpPr/>
          <p:nvPr/>
        </p:nvSpPr>
        <p:spPr>
          <a:xfrm>
            <a:off x="2124000" y="865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9" name="Picture 2" descr="417477020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193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1258920" y="2637000"/>
            <a:ext cx="633744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　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现在请自由读课文，在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难读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的地方多读几遍，读完后告诉老师和同学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课文写了哪两件将心比心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的事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1835280" y="1125360"/>
            <a:ext cx="453708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初读课文　感知内容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4" name="Picture 5" descr="rurl4_b=f52733238bc189dd92eac1a168c98ddfcf4167c01d0250c29d13be3c087ea1ec2c27e69665d5053f9e2b89018d94b27023e2a1aa0f3120f9f7330d11c4c9969d6aaa3a1eb30f38c056c0b6fcdabdf8a5e83d9441&amp;a=29&amp;b=24"/>
          <p:cNvPicPr/>
          <p:nvPr/>
        </p:nvPicPr>
        <p:blipFill>
          <a:blip r:embed="rId1"/>
          <a:stretch/>
        </p:blipFill>
        <p:spPr>
          <a:xfrm>
            <a:off x="179280" y="260280"/>
            <a:ext cx="8580600" cy="61214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39840" y="692280"/>
            <a:ext cx="65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练笔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我听了母亲的话语而感到温暖和幸福。我将心比心，激动地想：“                                  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                                     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。”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8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8424720" cy="62643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611280" y="1203480"/>
            <a:ext cx="511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经历了这两件事情后，作者受到了深刻的教育，她懂得了什么呢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692360" y="779400"/>
            <a:ext cx="5976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79d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80808"/>
                </a:solidFill>
                <a:latin typeface="隶书"/>
                <a:ea typeface="隶书"/>
              </a:rPr>
              <a:t>是啊，如果我们在生活中能将心比心，就会对老人生出一份尊重，对孩子增加一份关爱，就会使人与人之间多一些宽容和理解。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242" name="Picture 3" descr="图片2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179280" y="1341000"/>
            <a:ext cx="896472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宋体"/>
              </a:rPr>
              <a:t>    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7696080" y="5638680"/>
            <a:ext cx="6858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7812000" y="692280"/>
            <a:ext cx="86544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755640" y="114444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将心比心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让我们的心情变得愉快；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将心比心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让我们的心胸变得宽阔；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将心比心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让我们的生活变得幸福；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将心比心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让我们的社会变得和谐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50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663480" y="105876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    </a:t>
            </a:r>
            <a:r>
              <a:rPr b="1" lang="zh-CN" sz="4400" spc="-1" strike="noStrike" u="sng">
                <a:solidFill>
                  <a:srgbClr val="ff00ff"/>
                </a:solidFill>
                <a:uFillTx/>
                <a:latin typeface="Arial"/>
              </a:rPr>
              <a:t>是啊，如果我们在生活中能将心比心，就会对老人生出一份尊重，对孩子增加一份关爱，就会使人与人之间多一些宽容和理解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54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260280"/>
            <a:ext cx="8651880" cy="6264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1959120" y="1647720"/>
            <a:ext cx="570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            </a:t>
            </a:r>
            <a:r>
              <a:rPr b="1" lang="zh-CN" sz="4800" spc="-1" strike="noStrike" u="sng">
                <a:solidFill>
                  <a:srgbClr val="080808"/>
                </a:solidFill>
                <a:uFillTx/>
                <a:latin typeface="Arial"/>
              </a:rPr>
              <a:t>课文学到这里，这来理解一下课题“将</a:t>
            </a:r>
            <a:r>
              <a:rPr b="1" lang="zh-CN" sz="4800" spc="-1" strike="noStrike" u="sng">
                <a:solidFill>
                  <a:srgbClr val="ff0066"/>
                </a:solidFill>
                <a:uFillTx/>
                <a:latin typeface="Arial"/>
              </a:rPr>
              <a:t>心</a:t>
            </a:r>
            <a:r>
              <a:rPr b="1" lang="zh-CN" sz="4800" spc="-1" strike="noStrike" u="sng">
                <a:solidFill>
                  <a:srgbClr val="080808"/>
                </a:solidFill>
                <a:uFillTx/>
                <a:latin typeface="Arial"/>
              </a:rPr>
              <a:t>比</a:t>
            </a:r>
            <a:r>
              <a:rPr b="1" lang="zh-CN" sz="4800" spc="-1" strike="noStrike" u="sng">
                <a:solidFill>
                  <a:srgbClr val="ff0066"/>
                </a:solidFill>
                <a:uFillTx/>
                <a:latin typeface="Arial"/>
              </a:rPr>
              <a:t>心</a:t>
            </a:r>
            <a:r>
              <a:rPr b="1" lang="zh-CN" sz="4800" spc="-1" strike="noStrike" u="sng">
                <a:solidFill>
                  <a:srgbClr val="080808"/>
                </a:solidFill>
                <a:uFillTx/>
                <a:latin typeface="Arial"/>
              </a:rPr>
              <a:t>”两个“</a:t>
            </a:r>
            <a:r>
              <a:rPr b="1" lang="zh-CN" sz="4800" spc="-1" strike="noStrike" u="sng">
                <a:solidFill>
                  <a:srgbClr val="ff0066"/>
                </a:solidFill>
                <a:uFillTx/>
                <a:latin typeface="Arial"/>
              </a:rPr>
              <a:t>心</a:t>
            </a:r>
            <a:r>
              <a:rPr b="1" lang="zh-CN" sz="4800" spc="-1" strike="noStrike" u="sng">
                <a:solidFill>
                  <a:srgbClr val="080808"/>
                </a:solidFill>
                <a:uFillTx/>
                <a:latin typeface="Arial"/>
              </a:rPr>
              <a:t>”的意思一样吗？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Object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569440" cy="6337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275112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96712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1989000"/>
            <a:ext cx="43210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第一个指的是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第二个指的是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将心比心”指的是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90384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048200" y="1989000"/>
            <a:ext cx="41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我们自己的心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975120" y="278604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别人的心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911840" y="3848040"/>
            <a:ext cx="34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是用我们自己的心比照别人的心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Object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69440" cy="6408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275112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96712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1042920" y="198900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将心比心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：</a:t>
            </a: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现代汉语词典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上解释为拿自己的心比照别人的心，指遇事设身处地为别人着想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050920" y="1197000"/>
            <a:ext cx="5185080" cy="19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79d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e079d"/>
                </a:solidFill>
                <a:latin typeface="隶书"/>
                <a:ea typeface="隶书"/>
              </a:rPr>
              <a:t>是啊，如果我们在生活中能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将心比心</a:t>
            </a:r>
            <a:r>
              <a:rPr b="1" lang="zh-CN" sz="3600" spc="-1" strike="noStrike">
                <a:solidFill>
                  <a:srgbClr val="0e079d"/>
                </a:solidFill>
                <a:latin typeface="隶书"/>
                <a:ea typeface="隶书"/>
              </a:rPr>
              <a:t>，就会充满爱的阳光</a:t>
            </a:r>
            <a:r>
              <a:rPr b="1" lang="en-US" sz="3600" spc="-1" strike="noStrike">
                <a:solidFill>
                  <a:srgbClr val="0e079d"/>
                </a:solidFill>
                <a:latin typeface="Times New Roman"/>
                <a:ea typeface="隶书"/>
              </a:rPr>
              <a:t>……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9" name="沐浴晨曦.mp3" descr=""/>
          <p:cNvPicPr/>
          <p:nvPr/>
        </p:nvPicPr>
        <p:blipFill>
          <a:blip r:embed="rId2"/>
          <a:stretch/>
        </p:blipFill>
        <p:spPr>
          <a:xfrm>
            <a:off x="766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2" name="Picture 5" descr="77094b36a2ea5faba3cc2bdf"/>
          <p:cNvPicPr/>
          <p:nvPr/>
        </p:nvPicPr>
        <p:blipFill>
          <a:blip r:embed="rId1"/>
          <a:stretch/>
        </p:blipFill>
        <p:spPr>
          <a:xfrm>
            <a:off x="0" y="0"/>
            <a:ext cx="9144000" cy="72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4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189000"/>
            <a:ext cx="8651880" cy="6408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7148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743120" y="1989000"/>
            <a:ext cx="61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我的妈妈和您的年龄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差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不多，我希望她遇到这种时候，也有人为她开门。”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971640" y="4076640"/>
            <a:ext cx="590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chā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差别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）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差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chà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差不多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）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ch</a:t>
            </a: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āi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出差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124000" y="4292640"/>
            <a:ext cx="287280" cy="151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7524720" y="4076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5" name="Picture 5" descr="023b5bb52f256fb837d3ca22"/>
          <p:cNvPicPr/>
          <p:nvPr/>
        </p:nvPicPr>
        <p:blipFill>
          <a:blip r:embed="rId1"/>
          <a:stretch/>
        </p:blipFill>
        <p:spPr>
          <a:xfrm>
            <a:off x="0" y="0"/>
            <a:ext cx="88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8" name="Picture 5" descr="2008115194946249_2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0016ec3466710aa41f2902"/>
          <p:cNvPicPr/>
          <p:nvPr/>
        </p:nvPicPr>
        <p:blipFill>
          <a:blip r:embed="rId1"/>
          <a:stretch/>
        </p:blipFill>
        <p:spPr>
          <a:xfrm>
            <a:off x="971640" y="189000"/>
            <a:ext cx="6624720" cy="3024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20103717747289"/>
          <p:cNvPicPr/>
          <p:nvPr/>
        </p:nvPicPr>
        <p:blipFill>
          <a:blip r:embed="rId2"/>
          <a:stretch/>
        </p:blipFill>
        <p:spPr>
          <a:xfrm>
            <a:off x="324000" y="3357720"/>
            <a:ext cx="4176720" cy="3241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001bb9d7e433098e074b01"/>
          <p:cNvPicPr/>
          <p:nvPr/>
        </p:nvPicPr>
        <p:blipFill>
          <a:blip r:embed="rId3"/>
          <a:stretch/>
        </p:blipFill>
        <p:spPr>
          <a:xfrm>
            <a:off x="4788000" y="3357720"/>
            <a:ext cx="4178160" cy="32400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5"/>
          <p:cNvSpPr/>
          <p:nvPr/>
        </p:nvSpPr>
        <p:spPr>
          <a:xfrm>
            <a:off x="7740720" y="1052640"/>
            <a:ext cx="8650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5" name="Picture 5" descr="E4F9402CF5C72F35C63B6BD7C79D81A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8" name="Picture 5" descr="9FE0A4A08C898083BFE08A108C5926F9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290" name="Picture 3" descr="图片2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179280" y="1341000"/>
            <a:ext cx="896472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宋体"/>
              </a:rPr>
              <a:t>    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7696080" y="5638680"/>
            <a:ext cx="6858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7812000" y="692280"/>
            <a:ext cx="86544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755640" y="114444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一段默默地祝福，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一句轻轻地问候，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一次紧紧地依偎，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一声深深地安慰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……  ……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都是将心比心的表现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文本框 8200"/>
          <p:cNvSpPr/>
          <p:nvPr/>
        </p:nvSpPr>
        <p:spPr>
          <a:xfrm>
            <a:off x="2484360" y="9079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98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6"/>
          <p:cNvSpPr/>
          <p:nvPr/>
        </p:nvSpPr>
        <p:spPr>
          <a:xfrm>
            <a:off x="108000" y="18900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理解与运用，四人小组交流讨论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0" y="12682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同桌生病时，我会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我更会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，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因为我懂得了“将心比心”；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在学校里，见到同学的成绩考得不理想，他很难过，我会</a:t>
            </a:r>
            <a:r>
              <a:rPr b="1" lang="zh-CN" sz="36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，我更会 </a:t>
            </a:r>
            <a:r>
              <a:rPr b="1" lang="zh-CN" sz="3600" spc="-1" strike="noStrike" u="sng">
                <a:solidFill>
                  <a:srgbClr val="080808"/>
                </a:solidFill>
                <a:uFillTx/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，因为我懂得了“将心比心”；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.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 我会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我更会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，因为我懂得了“将心比心”。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03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6"/>
          <p:cNvSpPr/>
          <p:nvPr/>
        </p:nvSpPr>
        <p:spPr>
          <a:xfrm>
            <a:off x="324000" y="3333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谈一谈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学习完这篇课文后，你有什么收获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592200" y="1647720"/>
            <a:ext cx="77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提示：可以从写作方法和学完课文后受到的启示来讲。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08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684360" y="765000"/>
            <a:ext cx="82087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台湾作家罗兰曾经说：</a:t>
            </a:r>
            <a:r>
              <a:rPr b="1" lang="zh-CN" sz="4400" spc="-1" strike="noStrike" u="sng">
                <a:solidFill>
                  <a:srgbClr val="080808"/>
                </a:solidFill>
                <a:uFillTx/>
                <a:latin typeface="Arial"/>
              </a:rPr>
              <a:t> 　　　　　　　　　　　　　　　　　　　　　　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       “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如果</a:t>
            </a:r>
            <a:r>
              <a:rPr b="1" lang="zh-CN" sz="4400" spc="-1" strike="noStrike" u="sng">
                <a:solidFill>
                  <a:srgbClr val="080808"/>
                </a:solidFill>
                <a:uFillTx/>
                <a:latin typeface="Arial"/>
              </a:rPr>
              <a:t>每一个人与别人相处的时候，都能先想到别人，后想到自己，多想到别人，少想到自己，那么世界上可以增加很多欢乐与和气，而且可以减少很多悲           剧和恨事。”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88F6-9E9D-4DAE-A060-1B53A3487F7C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2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189000"/>
            <a:ext cx="8651880" cy="6408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67148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403280" y="1341360"/>
            <a:ext cx="66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一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天，我陪患病的母亲去医院输液，年轻的护士为母亲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扎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了两针也没有扎进血管里，眼见针眼处鼓起青包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971640" y="4076640"/>
            <a:ext cx="5905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zhā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扎针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）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扎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z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扎裤脚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）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       </a:t>
            </a:r>
            <a:r>
              <a:rPr b="1" lang="en-US" sz="3600" spc="-1" strike="noStrike">
                <a:solidFill>
                  <a:srgbClr val="080808"/>
                </a:solidFill>
                <a:latin typeface="宋体"/>
              </a:rPr>
              <a:t>zhá 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挣扎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2195640" y="4437000"/>
            <a:ext cx="72720" cy="1440000"/>
          </a:xfrm>
          <a:custGeom>
            <a:avLst/>
            <a:gdLst>
              <a:gd name="textAreaLeft" fmla="*/ 46440 w 72720"/>
              <a:gd name="textAreaRight" fmla="*/ 73080 w 72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16" name="Picture 4" descr="Mypsd_13854_201101251733410007B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289080" y="341280"/>
            <a:ext cx="8550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、有感情地朗读课文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、写一写：不久的将来，也就是课文中这个小护士，成了医院里工作最出色的护士，成了病患者最受欢迎的护士。一天她在路上遇见了我的母亲，一家电视台要对她进行专门采访，请你替她设计一份讲稿，说说她的心里话。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9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189000"/>
            <a:ext cx="8651880" cy="6408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67148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403280" y="134136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第三针果然成功了。那位护士终于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长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出了一口气，她连声说：“阿姨，真对不起。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……”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826920" y="4076640"/>
            <a:ext cx="640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zh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ǎng</a:t>
            </a:r>
            <a:r>
              <a:rPr b="1" lang="en-US" sz="36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长大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长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c</a:t>
            </a:r>
            <a:r>
              <a:rPr b="1" lang="en-US" sz="3600" spc="-1" strike="noStrike">
                <a:solidFill>
                  <a:srgbClr val="080808"/>
                </a:solidFill>
                <a:latin typeface="宋体"/>
              </a:rPr>
              <a:t>háng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长叹一声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）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2195640" y="4365720"/>
            <a:ext cx="72720" cy="1150920"/>
          </a:xfrm>
          <a:custGeom>
            <a:avLst/>
            <a:gdLst>
              <a:gd name="textAreaLeft" fmla="*/ 46440 w 72720"/>
              <a:gd name="textAreaRight" fmla="*/ 73080 w 727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417826742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048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60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187280" y="1778040"/>
            <a:ext cx="71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课文写了哪两件将心比心的事？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417826742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048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60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332000" y="127620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）我知道了一位阿姨帮助“我”奶奶推门的事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403280" y="3271680"/>
            <a:ext cx="6408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）母亲去医院打针，护士扎了好几针才扎准，母亲没有责备护士。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3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8569080" cy="6193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2124000" y="244008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                   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Arial"/>
              </a:rPr>
              <a:t>经历了这两件事的“我”，心里有什么感受？你能用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</a:rPr>
              <a:t>文中的一个词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Arial"/>
              </a:rPr>
              <a:t>来表达吗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41896039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35640"/>
          </a:xfrm>
          <a:prstGeom prst="rect">
            <a:avLst/>
          </a:prstGeom>
          <a:ln w="0">
            <a:noFill/>
          </a:ln>
        </p:spPr>
      </p:pic>
      <p:sp>
        <p:nvSpPr>
          <p:cNvPr id="166" name="WordArt 3"/>
          <p:cNvSpPr txBox="1"/>
          <p:nvPr/>
        </p:nvSpPr>
        <p:spPr>
          <a:xfrm rot="5400000">
            <a:off x="43560" y="33480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细读课文</a:t>
            </a:r>
            <a:endParaRPr b="0" lang="en-US" sz="6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627280" y="1413000"/>
            <a:ext cx="417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文章中的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哪些地方温暖了你的心？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我们来边默读边在课文上做上记号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3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55Z</dcterms:modified>
  <cp:revision>1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