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png" ContentType="image/png"/>
  <Override PartName="/ppt/media/image18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2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A99-3F72-420E-8201-FC153618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0A4-0C16-47C0-B641-50D8DF0C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DF6-9E9A-4B03-B723-9DB83F6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932-A162-40BA-B0C0-787F8280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58C3-FE9A-4952-8B12-5EA4DEC8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645C-3735-4369-8864-E21E656B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0CDA-F26B-447B-9989-79BA8C9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AE8E-5165-467E-86E2-39757EEA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0BD4-71FA-43FD-8BF2-3F9CF2ED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805-7886-417C-9542-6732672C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BE5A-F01B-441F-BF10-5D2C3B3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926-18FB-4E06-983C-9462138A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12BB-BBAE-4898-926F-F4508ABB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4FFC-D125-47A2-97FA-168E490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0E4E-87B4-4EDB-BEA7-E23861C6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C72D-B89A-41CA-BF32-8CE551DF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034F-407E-43C8-B13E-EF9F282D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D9409-AD02-410A-B06F-E2B314A0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4439-DEAB-4977-8097-6B1C068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4EB9-ED3E-4CF5-949E-8411A0A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0FC1-195E-4729-981A-34DD7CB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9876A-F238-487E-9278-2B1EC29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19A-5E2B-443E-AD8A-6245267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5F2C-5243-4787-8B3F-C8E024E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BDAA-5188-4776-90F7-4FB45B4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DEEE6-AE91-454E-81F2-F388316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ADB2-56D2-47E2-95D8-36E41BA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90CF-F810-4162-9151-1E80086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A808-76E2-4B99-B52D-CC1A3F63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D4889-9206-4C97-8BAE-AC728863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41D7-225F-48F4-AE76-891A6E1E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F302E-9639-4254-842A-0F242139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16F5-2925-4ED8-AA75-5CF68B3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E47-6FC9-418F-B04F-69E528D8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27A0-DB09-46BA-9C52-E048B12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9563-F2F4-44B6-8448-97C5945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63824-8DCE-415F-9E3E-AA77800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A6D9-4761-4AE1-9313-0FABAE4D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BB38-7FBB-4DBB-A0BA-12DB453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E4F9-7450-47F7-BBAB-BE784BF5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48401-7413-4300-AEFF-1B088D65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6E178-1CEF-4856-9004-A86A8A96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73584-456D-4474-80BC-C5616857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5AB8-B3C3-4FF8-8327-43CCCFD5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273-9B83-4D2D-B07A-AD8B5D30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7E388-9480-459A-8C5C-4DF30877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6F3A3-FCCE-4D36-AF3C-814EE544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C283-78A0-40F1-91EF-46DD77FE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2DD0-EDDE-4251-BA1E-D0F6589A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FCCC-72A8-4906-B80D-E79538EA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1D1D8-EAFB-4926-8BB7-EDF78BA9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F1C1A-8114-4087-B2A1-04806F2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E4B4-25B3-4DBF-90BE-BBA9BE0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B84E9-DF03-410A-B8F2-4D2460B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0C07-D9A6-4417-8EF9-5AF7BC68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1A2-F936-4ABB-B649-C0E8FEB3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2A8E5-0A4E-4885-944B-C715EAED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7A804-F229-4D81-8FA7-9A99BD30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1283-7500-491B-A6B2-D5498C2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F0188-3A94-4D8C-A71D-5434ADA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A1F18-8DA1-4689-963B-3E404059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A30B0-38C9-4D0B-A033-E731478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42D51-6B21-4712-9490-79223A2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BEC9-AE17-460D-BE5E-2296A2E4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EBFA1-0554-4F13-9A49-A914C76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FD56-51B1-4FE6-A576-0B1E21C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8CD-DE03-4BC8-8A4A-1A8FBA7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4087E-DF3F-4239-844D-B6F7F0E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A2E85-1902-40BA-AC6A-1B2346F0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2E75D-026A-4E4B-9BF2-9156265C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1A7B2-784B-4293-A3E7-6EEFF5B1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A825-FFCC-4F4C-BF49-C252305E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F4F24-C740-4C21-A7E2-5EE70308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4A6C4-C71B-4B79-B6EB-209A671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B248-2CBB-448C-9D85-6D2E46FE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AA12C-7836-47A8-9DEB-064B9136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1FE30-39BF-4D76-8D8E-86F5D5E1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A49-9881-4D78-A7CB-9F19F02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1E8D7-9351-4CE3-9007-55F8353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F69C-CD36-49BB-8142-121BDF7C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55F2-DED9-4176-A67C-AE950E42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716D-D6B0-4ACF-B399-78A649D6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D08A-3064-4D07-A3A8-77F9837D8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239-0054-4B91-8E20-0034296E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A0F4-DA04-4D38-ABC5-93430FC2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BA8-F9AA-4360-B9F6-E90667F8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907B-C95E-4F0D-AB18-219AA8A49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D6BC-7325-480E-9BBB-A81E423D545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373-B10A-4928-828C-85C94DF2691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4DD9-E931-4CDB-800F-4DEC98678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453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467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613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4C13-49AB-43F7-8C91-85B68B69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5DBC-79D7-46F1-8DDC-1DFE27179CC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A026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9" name="Text Box 3" descr=""/>
          <p:cNvPicPr/>
          <p:nvPr/>
        </p:nvPicPr>
        <p:blipFill>
          <a:blip r:embed="rId2"/>
          <a:stretch/>
        </p:blipFill>
        <p:spPr>
          <a:xfrm>
            <a:off x="92160" y="692280"/>
            <a:ext cx="8727840" cy="701640"/>
          </a:xfrm>
          <a:prstGeom prst="rect">
            <a:avLst/>
          </a:prstGeom>
          <a:ln w="0">
            <a:noFill/>
          </a:ln>
        </p:spPr>
      </p:pic>
      <p:pic>
        <p:nvPicPr>
          <p:cNvPr id="710" name="Text Box 4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1919160" cy="82368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重阳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738" name="Picture 4" descr="0005"/>
          <p:cNvPicPr/>
          <p:nvPr/>
        </p:nvPicPr>
        <p:blipFill>
          <a:blip r:embed="rId1"/>
          <a:stretch/>
        </p:blipFill>
        <p:spPr>
          <a:xfrm>
            <a:off x="611280" y="1628640"/>
            <a:ext cx="5040360" cy="38894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5" descr="u=1217162235,51479650&amp;gp=14"/>
          <p:cNvPicPr/>
          <p:nvPr/>
        </p:nvPicPr>
        <p:blipFill>
          <a:blip r:embed="rId2"/>
          <a:stretch/>
        </p:blipFill>
        <p:spPr>
          <a:xfrm>
            <a:off x="5148360" y="3141720"/>
            <a:ext cx="3600360" cy="2951280"/>
          </a:xfrm>
          <a:prstGeom prst="rect">
            <a:avLst/>
          </a:prstGeom>
          <a:ln w="0">
            <a:noFill/>
          </a:ln>
        </p:spPr>
      </p:pic>
      <p:sp>
        <p:nvSpPr>
          <p:cNvPr id="740" name="文本框 8197"/>
          <p:cNvSpPr/>
          <p:nvPr/>
        </p:nvSpPr>
        <p:spPr>
          <a:xfrm>
            <a:off x="1908000" y="119700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菊花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2" name="Picture 4" descr="1174932653"/>
          <p:cNvPicPr/>
          <p:nvPr/>
        </p:nvPicPr>
        <p:blipFill>
          <a:blip r:embed="rId1"/>
          <a:stretch/>
        </p:blipFill>
        <p:spPr>
          <a:xfrm>
            <a:off x="684360" y="1557360"/>
            <a:ext cx="7704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187865691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九月九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忆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山东兄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唐</a:t>
            </a: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】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王维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独在异乡为异客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每逢佳节倍思亲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遥知兄弟登高处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遍插茱萸少一人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24000" y="2276280"/>
            <a:ext cx="131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忆：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6" name="Picture 3" descr="line301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4"/>
          <p:cNvSpPr/>
          <p:nvPr/>
        </p:nvSpPr>
        <p:spPr>
          <a:xfrm>
            <a:off x="5324040" y="2521440"/>
            <a:ext cx="4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宋体"/>
              </a:rPr>
              <a:t>思念、想念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21034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187865691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九月九日忆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山东兄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唐</a:t>
            </a: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】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王维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独在异乡为异客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每逢佳节倍思亲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遥知兄弟登高处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楷体_GB2312"/>
              </a:rPr>
              <a:t>遍插茱萸少一人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-973080" y="1196640"/>
            <a:ext cx="520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山东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2" name="Picture 3" descr="line301"/>
          <p:cNvPicPr/>
          <p:nvPr/>
        </p:nvPicPr>
        <p:blipFill>
          <a:blip r:embed="rId1"/>
          <a:stretch/>
        </p:blipFill>
        <p:spPr>
          <a:xfrm>
            <a:off x="0" y="4978440"/>
            <a:ext cx="9144000" cy="187956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2268360" y="141300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宋体"/>
              </a:rPr>
              <a:t>陕西有座名山叫华山，华山以东有个地方叫蒲州，是作者王维的家乡</a:t>
            </a:r>
            <a:r>
              <a:rPr b="0" lang="zh-CN" sz="4400" spc="-1" strike="noStrike">
                <a:solidFill>
                  <a:srgbClr val="000066"/>
                </a:solidFill>
                <a:latin typeface="Arial"/>
                <a:ea typeface="宋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1057320" y="4028760"/>
            <a:ext cx="143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宋体"/>
              </a:rPr>
              <a:t>兄弟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6"/>
          <p:cNvSpPr/>
          <p:nvPr/>
        </p:nvSpPr>
        <p:spPr>
          <a:xfrm>
            <a:off x="2411280" y="400428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宋体"/>
              </a:rPr>
              <a:t>亲人、朋友、同胞兄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4"/>
          <p:cNvSpPr/>
          <p:nvPr/>
        </p:nvSpPr>
        <p:spPr>
          <a:xfrm>
            <a:off x="971640" y="1844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31417"/>
                </a:solidFill>
                <a:latin typeface="Arial"/>
                <a:ea typeface="楷体_GB2312"/>
              </a:rPr>
              <a:t>说说诗题的意思吧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5" descr="图片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24000" y="453600"/>
            <a:ext cx="8540640" cy="549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九月九日忆山东兄弟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唐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王维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2" descr="A026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3"/>
          <p:cNvSpPr/>
          <p:nvPr/>
        </p:nvSpPr>
        <p:spPr>
          <a:xfrm>
            <a:off x="539640" y="40464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独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在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乡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异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4"/>
          <p:cNvSpPr/>
          <p:nvPr/>
        </p:nvSpPr>
        <p:spPr>
          <a:xfrm>
            <a:off x="539640" y="507960"/>
            <a:ext cx="936720" cy="8636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042920" y="1341360"/>
            <a:ext cx="649440" cy="792360"/>
            <a:chOff x="1042920" y="1341360"/>
            <a:chExt cx="649440" cy="792360"/>
          </a:xfrm>
        </p:grpSpPr>
        <p:sp>
          <p:nvSpPr>
            <p:cNvPr id="763" name="Line 5"/>
            <p:cNvSpPr/>
            <p:nvPr/>
          </p:nvSpPr>
          <p:spPr>
            <a:xfrm>
              <a:off x="1042920" y="1341360"/>
              <a:ext cx="649440" cy="79236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1042920" y="1341360"/>
              <a:ext cx="64944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AutoShape 6"/>
          <p:cNvSpPr/>
          <p:nvPr/>
        </p:nvSpPr>
        <p:spPr>
          <a:xfrm rot="297600">
            <a:off x="-69480" y="2097000"/>
            <a:ext cx="3297240" cy="3417840"/>
          </a:xfrm>
          <a:prstGeom prst="pie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独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个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1692360" y="476280"/>
            <a:ext cx="6551640" cy="9367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8"/>
          <p:cNvSpPr/>
          <p:nvPr/>
        </p:nvSpPr>
        <p:spPr>
          <a:xfrm>
            <a:off x="3132000" y="2133720"/>
            <a:ext cx="5904000" cy="2447640"/>
          </a:xfrm>
          <a:prstGeom prst="cloudCallout">
            <a:avLst>
              <a:gd name="adj1" fmla="val -17412"/>
              <a:gd name="adj2" fmla="val -78273"/>
            </a:avLst>
          </a:pr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在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乡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居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作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A026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3"/>
          <p:cNvSpPr/>
          <p:nvPr/>
        </p:nvSpPr>
        <p:spPr>
          <a:xfrm>
            <a:off x="539640" y="40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每逢佳节  倍思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395280" y="404640"/>
            <a:ext cx="4321080" cy="1224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/>
          <p:cNvSpPr/>
          <p:nvPr/>
        </p:nvSpPr>
        <p:spPr>
          <a:xfrm>
            <a:off x="250920" y="2349360"/>
            <a:ext cx="3816360" cy="2232000"/>
          </a:xfrm>
          <a:prstGeom prst="foldedCorner">
            <a:avLst>
              <a:gd name="adj" fmla="val 14046"/>
            </a:avLst>
          </a:pr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每次到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节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日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时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547280" y="1413000"/>
            <a:ext cx="1512000" cy="936360"/>
            <a:chOff x="1547280" y="1413000"/>
            <a:chExt cx="1512000" cy="936360"/>
          </a:xfrm>
        </p:grpSpPr>
        <p:sp>
          <p:nvSpPr>
            <p:cNvPr id="773" name="Line 6"/>
            <p:cNvSpPr/>
            <p:nvPr/>
          </p:nvSpPr>
          <p:spPr>
            <a:xfrm flipH="1">
              <a:off x="1547280" y="1413000"/>
              <a:ext cx="1511640" cy="93636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1547640" y="1413000"/>
              <a:ext cx="151164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7"/>
          <p:cNvSpPr/>
          <p:nvPr/>
        </p:nvSpPr>
        <p:spPr>
          <a:xfrm>
            <a:off x="5076720" y="404640"/>
            <a:ext cx="3168720" cy="1224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6732720" y="1413000"/>
            <a:ext cx="360" cy="647640"/>
            <a:chOff x="6732720" y="1413000"/>
            <a:chExt cx="360" cy="647640"/>
          </a:xfrm>
        </p:grpSpPr>
        <p:sp>
          <p:nvSpPr>
            <p:cNvPr id="777" name="Line 8"/>
            <p:cNvSpPr/>
            <p:nvPr/>
          </p:nvSpPr>
          <p:spPr>
            <a:xfrm>
              <a:off x="6732720" y="1413000"/>
              <a:ext cx="0" cy="64764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6732720" y="1413000"/>
              <a:ext cx="36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AutoShape 9"/>
          <p:cNvSpPr/>
          <p:nvPr/>
        </p:nvSpPr>
        <p:spPr>
          <a:xfrm>
            <a:off x="5148360" y="2060640"/>
            <a:ext cx="3456000" cy="2520720"/>
          </a:xfrm>
          <a:prstGeom prst="hexagon">
            <a:avLst>
              <a:gd name="adj" fmla="val 34276"/>
              <a:gd name="vf" fmla="val 11547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更加想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亲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5" descr="187865691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九月九日忆山东兄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王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图片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68440" y="453600"/>
            <a:ext cx="8540640" cy="549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独在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异乡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为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异客，</a:t>
            </a:r>
            <a:br>
              <a:rPr sz="6600"/>
            </a:b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每逢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佳节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倍</a:t>
            </a:r>
            <a:r>
              <a:rPr b="1" lang="en-US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思亲。 </a:t>
            </a:r>
            <a:br>
              <a:rPr sz="5400"/>
            </a:b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icture 2" descr="A026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3" name="Text Box 3"/>
          <p:cNvSpPr/>
          <p:nvPr/>
        </p:nvSpPr>
        <p:spPr>
          <a:xfrm>
            <a:off x="539640" y="260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</a:t>
            </a: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知 兄 弟 登 高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"/>
          <p:cNvSpPr/>
          <p:nvPr/>
        </p:nvSpPr>
        <p:spPr>
          <a:xfrm>
            <a:off x="539640" y="333360"/>
            <a:ext cx="2160720" cy="8636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619280" y="1197000"/>
            <a:ext cx="576360" cy="792000"/>
            <a:chOff x="1619280" y="1197000"/>
            <a:chExt cx="576360" cy="792000"/>
          </a:xfrm>
        </p:grpSpPr>
        <p:sp>
          <p:nvSpPr>
            <p:cNvPr id="786" name="Line 5"/>
            <p:cNvSpPr/>
            <p:nvPr/>
          </p:nvSpPr>
          <p:spPr>
            <a:xfrm>
              <a:off x="1619280" y="1197000"/>
              <a:ext cx="576360" cy="79200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1619280" y="1197000"/>
              <a:ext cx="576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AutoShape 6"/>
          <p:cNvSpPr/>
          <p:nvPr/>
        </p:nvSpPr>
        <p:spPr>
          <a:xfrm>
            <a:off x="0" y="1989000"/>
            <a:ext cx="4788000" cy="3961080"/>
          </a:xfrm>
          <a:custGeom>
            <a:avLst/>
            <a:gdLst>
              <a:gd name="textAreaLeft" fmla="*/ 1099080 w 4788000"/>
              <a:gd name="textAreaRight" fmla="*/ 3688920 w 4788000"/>
              <a:gd name="textAreaTop" fmla="*/ 909000 h 3961080"/>
              <a:gd name="textAreaBottom" fmla="*/ 3052080 h 396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然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遥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的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但是我知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2916360" y="333360"/>
            <a:ext cx="5759280" cy="934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796000" y="1268280"/>
            <a:ext cx="1224000" cy="576360"/>
            <a:chOff x="5796000" y="1268280"/>
            <a:chExt cx="1224000" cy="576360"/>
          </a:xfrm>
        </p:grpSpPr>
        <p:sp>
          <p:nvSpPr>
            <p:cNvPr id="791" name="Line 8"/>
            <p:cNvSpPr/>
            <p:nvPr/>
          </p:nvSpPr>
          <p:spPr>
            <a:xfrm>
              <a:off x="5796000" y="1268280"/>
              <a:ext cx="1224000" cy="57636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5796000" y="126828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AutoShape 9"/>
          <p:cNvSpPr/>
          <p:nvPr/>
        </p:nvSpPr>
        <p:spPr>
          <a:xfrm>
            <a:off x="4788000" y="1844640"/>
            <a:ext cx="4356000" cy="36720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今天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重阳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兄弟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都在爬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A026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3"/>
          <p:cNvSpPr/>
          <p:nvPr/>
        </p:nvSpPr>
        <p:spPr>
          <a:xfrm>
            <a:off x="755640" y="260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遍 插 茱 萸 少 一 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3132000" y="333360"/>
            <a:ext cx="2087640" cy="93492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4211640" y="1268280"/>
            <a:ext cx="1081080" cy="2881440"/>
            <a:chOff x="4211640" y="1268280"/>
            <a:chExt cx="1081080" cy="2881440"/>
          </a:xfrm>
        </p:grpSpPr>
        <p:sp>
          <p:nvSpPr>
            <p:cNvPr id="798" name="Line 5"/>
            <p:cNvSpPr/>
            <p:nvPr/>
          </p:nvSpPr>
          <p:spPr>
            <a:xfrm>
              <a:off x="4211640" y="1268280"/>
              <a:ext cx="1081080" cy="288144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4211640" y="1268280"/>
              <a:ext cx="1081080" cy="288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Oval 6"/>
          <p:cNvSpPr/>
          <p:nvPr/>
        </p:nvSpPr>
        <p:spPr>
          <a:xfrm>
            <a:off x="3564000" y="4221000"/>
            <a:ext cx="3384360" cy="1729080"/>
          </a:xfrm>
          <a:prstGeom prst="ellipse">
            <a:avLst/>
          </a:prstGeom>
          <a:noFill/>
          <a:ln w="381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种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辟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684360" y="260280"/>
            <a:ext cx="4679640" cy="108108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979280" y="1341360"/>
            <a:ext cx="432000" cy="647640"/>
            <a:chOff x="1979280" y="1341360"/>
            <a:chExt cx="432000" cy="647640"/>
          </a:xfrm>
        </p:grpSpPr>
        <p:sp>
          <p:nvSpPr>
            <p:cNvPr id="803" name="Line 8"/>
            <p:cNvSpPr/>
            <p:nvPr/>
          </p:nvSpPr>
          <p:spPr>
            <a:xfrm flipH="1">
              <a:off x="1979280" y="1341360"/>
              <a:ext cx="431640" cy="64764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1979640" y="1341360"/>
              <a:ext cx="4316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AutoShape 9"/>
          <p:cNvSpPr/>
          <p:nvPr/>
        </p:nvSpPr>
        <p:spPr>
          <a:xfrm>
            <a:off x="250920" y="1989000"/>
            <a:ext cx="3960720" cy="30956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每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个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都在手臂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带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茱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5435640" y="260280"/>
            <a:ext cx="3168720" cy="10080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020000" y="1268280"/>
            <a:ext cx="504720" cy="576360"/>
            <a:chOff x="7020000" y="1268280"/>
            <a:chExt cx="504720" cy="576360"/>
          </a:xfrm>
        </p:grpSpPr>
        <p:sp>
          <p:nvSpPr>
            <p:cNvPr id="808" name="Line 11"/>
            <p:cNvSpPr/>
            <p:nvPr/>
          </p:nvSpPr>
          <p:spPr>
            <a:xfrm>
              <a:off x="7020000" y="1268280"/>
              <a:ext cx="504720" cy="576360"/>
            </a:xfrm>
            <a:prstGeom prst="line">
              <a:avLst/>
            </a:prstGeom>
            <a:ln w="3816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7020000" y="1268280"/>
              <a:ext cx="50472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AutoShape 12"/>
          <p:cNvSpPr/>
          <p:nvPr/>
        </p:nvSpPr>
        <p:spPr>
          <a:xfrm>
            <a:off x="5651640" y="1844640"/>
            <a:ext cx="3313080" cy="2592360"/>
          </a:xfrm>
          <a:prstGeom prst="hexagon">
            <a:avLst>
              <a:gd name="adj" fmla="val 31950"/>
              <a:gd name="vf" fmla="val 115470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却</a:t>
            </a: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只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少了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个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8197"/>
          <p:cNvSpPr/>
          <p:nvPr/>
        </p:nvSpPr>
        <p:spPr>
          <a:xfrm>
            <a:off x="20509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80008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 txBox="1"/>
          <p:nvPr/>
        </p:nvSpPr>
        <p:spPr>
          <a:xfrm>
            <a:off x="2843280" y="144360"/>
            <a:ext cx="6300720" cy="299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DotumChe"/>
                <a:ea typeface="DotumChe"/>
              </a:rPr>
              <a:t>zhū y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：</a:t>
            </a:r>
            <a:r>
              <a:rPr b="1" lang="zh-CN" sz="3200" spc="-1" strike="noStrike">
                <a:solidFill>
                  <a:srgbClr val="000099"/>
                </a:solidFill>
                <a:latin typeface="华文新魏"/>
                <a:ea typeface="华文新魏"/>
              </a:rPr>
              <a:t>一种有浓烈香气的植物（一种香草）古时候每年的农历九月九日重阳节这天，人们都喜欢插戴茱萸，据说这样可以辟邪、消灾。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060314_mswh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5"/>
          <p:cNvSpPr/>
          <p:nvPr/>
        </p:nvSpPr>
        <p:spPr>
          <a:xfrm>
            <a:off x="826920" y="1268280"/>
            <a:ext cx="792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以前在家乡时，每逢重阳节，总要和兄弟们头插茱萸，手挽着手去城外登高远眺。大家欢聚在一起，是多么让人高兴啊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图片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1267920"/>
            <a:ext cx="7772400" cy="42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如今我们却天各一方，不能相会</a:t>
            </a:r>
            <a:r>
              <a:rPr b="1" lang="en-US" sz="4800" spc="-1" strike="noStrike">
                <a:solidFill>
                  <a:srgbClr val="000099"/>
                </a:solidFill>
                <a:latin typeface="Arial"/>
                <a:ea typeface="黑体"/>
              </a:rPr>
              <a:t>……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此时此刻，兄弟们一定也在登高聚会，西望长安，思念着我呢。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1" name="林海 - 琵琶语.mp3" descr=""/>
          <p:cNvPicPr/>
          <p:nvPr/>
        </p:nvPicPr>
        <p:blipFill>
          <a:blip r:embed="rId2"/>
          <a:stretch/>
        </p:blipFill>
        <p:spPr>
          <a:xfrm>
            <a:off x="8486640" y="620064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restart="whenNotActive" nodeType="interactiveSeq" fill="hold">
                <p:stCondLst>
                  <p:cond evt="onClick">
                    <p:tgtEl>
                      <p:spTgt spid="82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2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259083" fill="hold"/>
                                        <p:tgtEl>
                                          <p:spTgt spid="8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独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思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遥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遍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思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遥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遍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遥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遍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5" descr="图片1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未标题-1"/>
          <p:cNvPicPr/>
          <p:nvPr/>
        </p:nvPicPr>
        <p:blipFill>
          <a:blip r:embed="rId2"/>
          <a:stretch/>
        </p:blipFill>
        <p:spPr>
          <a:xfrm>
            <a:off x="5495760" y="838080"/>
            <a:ext cx="3648240" cy="60199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6"/>
          <p:cNvSpPr/>
          <p:nvPr/>
        </p:nvSpPr>
        <p:spPr>
          <a:xfrm>
            <a:off x="250920" y="270000"/>
            <a:ext cx="31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作者介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395280" y="15620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王维（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6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唐代著名诗人，画家，这首诗是王维十七岁时因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重阳节</a:t>
            </a:r>
            <a:r>
              <a:rPr b="1" lang="zh-CN" sz="3600" spc="-1" strike="noStrike">
                <a:solidFill>
                  <a:srgbClr val="3333ff"/>
                </a:solidFill>
                <a:latin typeface="华文新魏"/>
                <a:ea typeface="华文新魏"/>
              </a:rPr>
              <a:t>思念家乡的亲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作。王维家居蒲州（今天的山西省永济县），在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华山之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所以题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忆山东兄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写这首诗时他正在长安谋取功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遥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遍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异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异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遥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1042560" y="549000"/>
            <a:ext cx="7201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九月九日忆山东兄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王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异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乡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异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客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逢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节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亲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遥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兄弟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登高处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插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茱萸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一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图片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3"/>
          <p:cNvSpPr/>
          <p:nvPr/>
        </p:nvSpPr>
        <p:spPr>
          <a:xfrm>
            <a:off x="914400" y="35053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281952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Text Box 15"/>
          <p:cNvSpPr/>
          <p:nvPr/>
        </p:nvSpPr>
        <p:spPr>
          <a:xfrm>
            <a:off x="1143000" y="14922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4648320" y="1523880"/>
          <a:ext cx="1447560" cy="148608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3" name=""/>
          <p:cNvGraphicFramePr/>
          <p:nvPr/>
        </p:nvGraphicFramePr>
        <p:xfrm>
          <a:off x="990720" y="1562040"/>
          <a:ext cx="1523880" cy="13716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4" name=""/>
          <p:cNvGraphicFramePr/>
          <p:nvPr/>
        </p:nvGraphicFramePr>
        <p:xfrm>
          <a:off x="4648320" y="358128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6553080" y="3581280"/>
          <a:ext cx="144792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6" name=""/>
          <p:cNvGraphicFramePr/>
          <p:nvPr/>
        </p:nvGraphicFramePr>
        <p:xfrm>
          <a:off x="6553080" y="1562040"/>
          <a:ext cx="1523880" cy="1409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914400" y="3581280"/>
          <a:ext cx="1523880" cy="15080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8" name=""/>
          <p:cNvGraphicFramePr/>
          <p:nvPr/>
        </p:nvGraphicFramePr>
        <p:xfrm>
          <a:off x="2895480" y="358128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9" name="Text Box 93"/>
          <p:cNvSpPr/>
          <p:nvPr/>
        </p:nvSpPr>
        <p:spPr>
          <a:xfrm>
            <a:off x="6477120" y="35053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94"/>
          <p:cNvSpPr/>
          <p:nvPr/>
        </p:nvSpPr>
        <p:spPr>
          <a:xfrm>
            <a:off x="662940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95"/>
          <p:cNvSpPr/>
          <p:nvPr/>
        </p:nvSpPr>
        <p:spPr>
          <a:xfrm>
            <a:off x="4648320" y="14479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96"/>
          <p:cNvSpPr/>
          <p:nvPr/>
        </p:nvSpPr>
        <p:spPr>
          <a:xfrm>
            <a:off x="2819520" y="144792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97"/>
          <p:cNvSpPr/>
          <p:nvPr/>
        </p:nvSpPr>
        <p:spPr>
          <a:xfrm>
            <a:off x="4724280" y="34290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98"/>
          <p:cNvSpPr/>
          <p:nvPr/>
        </p:nvSpPr>
        <p:spPr>
          <a:xfrm>
            <a:off x="2971800" y="35053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58920" y="26964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我会写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6" name="Picture 100" descr="图片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7" name="Rectangle 101"/>
          <p:cNvSpPr/>
          <p:nvPr/>
        </p:nvSpPr>
        <p:spPr>
          <a:xfrm>
            <a:off x="1258920" y="270000"/>
            <a:ext cx="23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2"/>
          <p:cNvSpPr/>
          <p:nvPr/>
        </p:nvSpPr>
        <p:spPr>
          <a:xfrm>
            <a:off x="9907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28954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Text Box 114"/>
          <p:cNvSpPr/>
          <p:nvPr/>
        </p:nvSpPr>
        <p:spPr>
          <a:xfrm>
            <a:off x="1219320" y="14922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4724280" y="1523880"/>
          <a:ext cx="144792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10666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3" name=""/>
          <p:cNvGraphicFramePr/>
          <p:nvPr/>
        </p:nvGraphicFramePr>
        <p:xfrm>
          <a:off x="472428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6629400" y="3695760"/>
          <a:ext cx="144792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5" name=""/>
          <p:cNvGraphicFramePr/>
          <p:nvPr/>
        </p:nvGraphicFramePr>
        <p:xfrm>
          <a:off x="6553080" y="1562040"/>
          <a:ext cx="1523880" cy="1409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6" name=""/>
          <p:cNvGraphicFramePr/>
          <p:nvPr/>
        </p:nvGraphicFramePr>
        <p:xfrm>
          <a:off x="99072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7" name=""/>
          <p:cNvGraphicFramePr/>
          <p:nvPr/>
        </p:nvGraphicFramePr>
        <p:xfrm>
          <a:off x="297180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192"/>
          <p:cNvSpPr/>
          <p:nvPr/>
        </p:nvSpPr>
        <p:spPr>
          <a:xfrm>
            <a:off x="6629400" y="36194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193"/>
          <p:cNvSpPr/>
          <p:nvPr/>
        </p:nvSpPr>
        <p:spPr>
          <a:xfrm>
            <a:off x="662940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94"/>
          <p:cNvSpPr/>
          <p:nvPr/>
        </p:nvSpPr>
        <p:spPr>
          <a:xfrm>
            <a:off x="47242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195"/>
          <p:cNvSpPr/>
          <p:nvPr/>
        </p:nvSpPr>
        <p:spPr>
          <a:xfrm>
            <a:off x="28954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96"/>
          <p:cNvSpPr/>
          <p:nvPr/>
        </p:nvSpPr>
        <p:spPr>
          <a:xfrm>
            <a:off x="4800600" y="35434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97"/>
          <p:cNvSpPr/>
          <p:nvPr/>
        </p:nvSpPr>
        <p:spPr>
          <a:xfrm>
            <a:off x="30481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4" descr="图片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7" name="Rectangle 5"/>
          <p:cNvSpPr/>
          <p:nvPr/>
        </p:nvSpPr>
        <p:spPr>
          <a:xfrm>
            <a:off x="1258920" y="270000"/>
            <a:ext cx="238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6"/>
          <p:cNvSpPr/>
          <p:nvPr/>
        </p:nvSpPr>
        <p:spPr>
          <a:xfrm>
            <a:off x="9907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28954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0" name="Text Box 18"/>
          <p:cNvSpPr/>
          <p:nvPr/>
        </p:nvSpPr>
        <p:spPr>
          <a:xfrm>
            <a:off x="1219320" y="14922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1" name=""/>
          <p:cNvGraphicFramePr/>
          <p:nvPr/>
        </p:nvGraphicFramePr>
        <p:xfrm>
          <a:off x="4724280" y="1523880"/>
          <a:ext cx="144792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2" name=""/>
          <p:cNvGraphicFramePr/>
          <p:nvPr/>
        </p:nvGraphicFramePr>
        <p:xfrm>
          <a:off x="10666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472428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6629400" y="3695760"/>
          <a:ext cx="144792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5" name=""/>
          <p:cNvGraphicFramePr/>
          <p:nvPr/>
        </p:nvGraphicFramePr>
        <p:xfrm>
          <a:off x="6553080" y="1562040"/>
          <a:ext cx="1523880" cy="1409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99072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7" name=""/>
          <p:cNvGraphicFramePr/>
          <p:nvPr/>
        </p:nvGraphicFramePr>
        <p:xfrm>
          <a:off x="297180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8" name="Text Box 96"/>
          <p:cNvSpPr/>
          <p:nvPr/>
        </p:nvSpPr>
        <p:spPr>
          <a:xfrm>
            <a:off x="6629400" y="36194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97"/>
          <p:cNvSpPr/>
          <p:nvPr/>
        </p:nvSpPr>
        <p:spPr>
          <a:xfrm>
            <a:off x="662940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98"/>
          <p:cNvSpPr/>
          <p:nvPr/>
        </p:nvSpPr>
        <p:spPr>
          <a:xfrm>
            <a:off x="47242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9"/>
          <p:cNvSpPr/>
          <p:nvPr/>
        </p:nvSpPr>
        <p:spPr>
          <a:xfrm>
            <a:off x="28954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0"/>
          <p:cNvSpPr/>
          <p:nvPr/>
        </p:nvSpPr>
        <p:spPr>
          <a:xfrm>
            <a:off x="4800600" y="35434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101"/>
          <p:cNvSpPr/>
          <p:nvPr/>
        </p:nvSpPr>
        <p:spPr>
          <a:xfrm>
            <a:off x="30481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C007-E947-47A0-BE03-18D2A91439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2" descr="图片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58920" y="26964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写：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9907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1" name=""/>
          <p:cNvGraphicFramePr/>
          <p:nvPr/>
        </p:nvGraphicFramePr>
        <p:xfrm>
          <a:off x="28954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Text Box 16"/>
          <p:cNvSpPr/>
          <p:nvPr/>
        </p:nvSpPr>
        <p:spPr>
          <a:xfrm>
            <a:off x="1219320" y="149220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4724280" y="1523880"/>
          <a:ext cx="144792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1066680" y="1562040"/>
          <a:ext cx="152388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472428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6629400" y="3695760"/>
          <a:ext cx="144792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7" name=""/>
          <p:cNvGraphicFramePr/>
          <p:nvPr/>
        </p:nvGraphicFramePr>
        <p:xfrm>
          <a:off x="6553080" y="1562040"/>
          <a:ext cx="1523880" cy="140976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8" name=""/>
          <p:cNvGraphicFramePr/>
          <p:nvPr/>
        </p:nvGraphicFramePr>
        <p:xfrm>
          <a:off x="99072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838080"/>
                <a:gridCol w="68580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9" name=""/>
          <p:cNvGraphicFramePr/>
          <p:nvPr/>
        </p:nvGraphicFramePr>
        <p:xfrm>
          <a:off x="2971800" y="3695760"/>
          <a:ext cx="1523880" cy="14857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0" name="Text Box 94"/>
          <p:cNvSpPr/>
          <p:nvPr/>
        </p:nvSpPr>
        <p:spPr>
          <a:xfrm>
            <a:off x="6629400" y="36194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95"/>
          <p:cNvSpPr/>
          <p:nvPr/>
        </p:nvSpPr>
        <p:spPr>
          <a:xfrm>
            <a:off x="662940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楷体_GB2312"/>
              </a:rPr>
              <a:t>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96"/>
          <p:cNvSpPr/>
          <p:nvPr/>
        </p:nvSpPr>
        <p:spPr>
          <a:xfrm>
            <a:off x="47242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42d06"/>
                </a:solidFill>
                <a:latin typeface="Arial"/>
                <a:ea typeface="楷体_GB2312"/>
              </a:rPr>
              <a:t>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97"/>
          <p:cNvSpPr/>
          <p:nvPr/>
        </p:nvSpPr>
        <p:spPr>
          <a:xfrm>
            <a:off x="2895480" y="144792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98"/>
          <p:cNvSpPr/>
          <p:nvPr/>
        </p:nvSpPr>
        <p:spPr>
          <a:xfrm>
            <a:off x="4800600" y="35434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42d06"/>
                </a:solidFill>
                <a:latin typeface="Arial"/>
                <a:ea typeface="楷体_GB2312"/>
              </a:rPr>
              <a:t>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99"/>
          <p:cNvSpPr/>
          <p:nvPr/>
        </p:nvSpPr>
        <p:spPr>
          <a:xfrm>
            <a:off x="3048120" y="361944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42d06"/>
                </a:solidFill>
                <a:latin typeface="Arial"/>
                <a:ea typeface="楷体_GB2312"/>
              </a:rPr>
              <a:t>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187865691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九月九日忆山东兄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王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1878656912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九月九日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山东兄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王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独在异乡为异客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每逢佳节倍思亲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遥知兄弟登高处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遍插茱萸少一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icture 2" descr="图片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301680" y="90792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历九月九日，为传统的重阳节。庆祝重阳节的活动多彩浪漫，一般包括出游赏景、登高远眺、观赏菊花，遍插茱萸、吃重阳糕、饮菊花酒等活动。九九重阳，因为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久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音，九在数字中又是最大数，有长久长寿的含意，秋季也是一年收获的黄金季节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WordArt 4"/>
          <p:cNvSpPr txBox="1"/>
          <p:nvPr/>
        </p:nvSpPr>
        <p:spPr>
          <a:xfrm rot="20980200">
            <a:off x="3134880" y="237960"/>
            <a:ext cx="288468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218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重阳节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218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337 -0.3022 C -0.35816 -0.28879 -0.35226 -0.27584 -0.34757 -0.2622 C -0.34549 -0.25618 -0.34497 -0.24902 -0.34271 -0.24301 C -0.33421 -0.22012 -0.31632 -0.20509 -0.30625 -0.18381 C -0.28473 -0.13827 -0.25955 -0.09341 -0.23334 -0.05272 C -0.21372 -0.02243 -0.20105 -0.01225 -0.18091 0.01064 C -0.16216 0.03191 -0.14393 0.05434 -0.12535 0.07584 C -0.12032 0.08185 -0.11337 0.08393 -0.10782 0.08879 C -0.09428 0.10035 -0.06528 0.13272 -0.05712 0.14173 C -0.05226 0.14705 -0.04619 0.1496 -0.04115 0.15445 C -0.02605 0.16925 -0.01285 0.18775 0.00173 0.20301 C 0.02986 0.23214 0.06024 0.25896 0.09062 0.28324 C 0.12083 0.30728 0.15538 0.32578 0.18888 0.34035 C 0.20972 0.34936 0.23298 0.35491 0.25243 0.36786 C 0.29114 0.39376 0.33211 0.41711 0.37309 0.43561 C 0.39079 0.4437 0.41649 0.44462 0.43506 0.44809 C 0.47361 0.44601 0.51232 0.44532 0.55086 0.44185 C 0.55729 0.44139 0.58628 0.43237 0.59375 0.42913 C 0.60451 0.42474 0.62552 0.41434 0.62552 0.41434 C 0.62864 0.40948 0.63142 0.40393 0.63506 0.39954 C 0.64479 0.38775 0.64513 0.39306 0.6493 0.37642 C 0.64149 0.33526 0.64201 0.29619 0.63819 0.25364 C 0.63715 0.24301 0.63454 0.2326 0.63333 0.22197 C 0.63194 0.21017 0.63281 0.19769 0.6302 0.18613 C 0.61961 0.13919 0.60225 0.09318 0.59062 0.04647 C 0.58246 0.01387 0.57656 -0.0178 0.5651 -0.04855 C 0.55451 -0.07676 0.54409 -0.10358 0.5302 -0.12902 C 0.51857 -0.15029 0.50902 -0.17318 0.48888 -0.17965 C 0.46614 -0.17757 0.4434 -0.17642 0.42066 -0.17341 C 0.40989 -0.17202 0.39791 -0.16208 0.38732 -0.15861 C 0.35173 -0.13457 0.40138 -0.16601 0.35729 -0.1459 C 0.32482 -0.1311 0.29114 -0.10659 0.26197 -0.08231 C 0.2427 -0.06636 0.21996 -0.03306 0.20329 -0.0148 C 0.18541 0.00486 0.17274 0.01619 0.15243 0.03607 C 0.12013 0.06751 0.09045 0.11006 0.06197 0.14798 C 0.05555 0.15653 0.0467 0.16116 0.03975 0.16925 C 0.0217 0.19029 0.00763 0.21688 -0.00782 0.24092 C -0.02327 0.26474 -0.04046 0.28647 -0.05712 0.30867 C -0.07379 0.33087 -0.09063 0.35538 -0.10938 0.3741 C -0.11546 0.38012 -0.11928 0.38936 -0.12535 0.39538 C -0.13664 0.40647 -0.16424 0.42983 -0.17778 0.43329 C -0.19271 0.44162 -0.20365 0.44231 -0.22049 0.44393 C -0.24584 0.44254 -0.27136 0.44347 -0.29671 0.43977 C -0.29983 0.43931 -0.30834 0.42913 -0.31112 0.42497 C -0.32188 0.40879 -0.33004 0.39145 -0.33959 0.3741 C -0.34098 0.36832 -0.34445 0.36324 -0.34445 0.35723 C -0.34445 0.33503 -0.3415 0.31445 -0.33646 0.29387 C -0.33507 0.2763 -0.33334 0.26035 -0.33004 0.24324 C -0.32639 0.19584 -0.31823 0.15121 -0.30782 0.10566 C -0.30417 0.08994 -0.30417 0.0726 -0.3 0.05711 C -0.29792 0.04948 -0.29306 0.04347 -0.29046 0.03607 C -0.28785 0.02867 -0.28594 0.02058 -0.28403 0.01272 C -0.2823 0.00578 -0.2816 -0.00162 -0.27934 -0.00832 C -0.27691 -0.01526 -0.27275 -0.02104 -0.2698 -0.02751 C -0.25938 -0.0504 -0.24341 -0.09225 -0.22848 -0.10983 C -0.21129 -0.13017 -0.1941 -0.15445 -0.17605 -0.17341 C -0.16511 -0.18497 -0.1533 -0.19191 -0.14115 -0.20069 C -0.10573 -0.22613 -0.06893 -0.24763 -0.02848 -0.25364 C -0.02379 -0.25642 -0.01928 -0.26012 -0.01424 -0.2622 C -0.01059 -0.26358 -0.0066 -0.26266 -0.00313 -0.26428 C -0.00018 -0.26566 0.00191 -0.26913 0.00486 -0.27052 C 0.00833 -0.27237 0.02066 -0.27561 0.02552 -0.27699 C 0.0276 -0.27769 0.02968 -0.27838 0.03177 -0.27908 C 0.03437 -0.27977 0.03715 -0.28046 0.03975 -0.28116 C 0.04392 -0.28254 0.05243 -0.28532 0.05243 -0.28532 C 0.06093 -0.28393 0.06961 -0.28462 0.07777 -0.28116 C 0.08038 -0.28 0.0809 -0.27514 0.08263 -0.2726 C 0.09149 -0.25965 0.09461 -0.25757 0.1 -0.24301 C 0.10104 -0.23676 0.10225 -0.23029 0.10329 -0.22405 C 0.10381 -0.22127 0.10486 -0.21549 0.10486 -0.21549 C 0.10381 -0.19075 0.10868 -0.16439 0.10173 -0.1415 C 0.09097 -0.10543 0.05347 -0.04717 0.03177 -0.00832 C 0.02708 -1.44508999999973E-006 0.025 0.00277 0.01753 0.00647 C -0.00105 0.00393 3.33333E-006 0.01202 3.33333E-006 -1.44509E-006 E">
                                      <p:cBhvr>
                                        <p:cTn id="43" dur="2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Arial"/>
              </a:rPr>
              <a:t>九月九日：是亲人团聚的日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line301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登高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4" descr="20061131513552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7" descr="图片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赏菊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34" name="Picture 4" descr="u=3634302454,365680148&amp;gp=20"/>
          <p:cNvPicPr/>
          <p:nvPr/>
        </p:nvPicPr>
        <p:blipFill>
          <a:blip r:embed="rId2"/>
          <a:stretch/>
        </p:blipFill>
        <p:spPr>
          <a:xfrm>
            <a:off x="468360" y="1484280"/>
            <a:ext cx="3240000" cy="25131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5" descr="u=790190533,2385745800&amp;gp=20"/>
          <p:cNvPicPr/>
          <p:nvPr/>
        </p:nvPicPr>
        <p:blipFill>
          <a:blip r:embed="rId3"/>
          <a:stretch/>
        </p:blipFill>
        <p:spPr>
          <a:xfrm>
            <a:off x="2411280" y="2708280"/>
            <a:ext cx="3097440" cy="22971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u=4053826714,920903731&amp;gp=36"/>
          <p:cNvPicPr/>
          <p:nvPr/>
        </p:nvPicPr>
        <p:blipFill>
          <a:blip r:embed="rId4"/>
          <a:stretch/>
        </p:blipFill>
        <p:spPr>
          <a:xfrm>
            <a:off x="5219640" y="3284640"/>
            <a:ext cx="31687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0:14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53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