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7.jpeg" ContentType="image/jpeg"/>
  <Override PartName="/ppt/media/camera.wav" ContentType="audio/x-wav"/>
  <Override PartName="/ppt/media/image11.jpeg" ContentType="image/jpeg"/>
  <Override PartName="/ppt/media/image6.jpeg" ContentType="image/jpeg"/>
  <Override PartName="/ppt/media/chimes.wav" ContentType="audio/x-wav"/>
  <Override PartName="/ppt/media/image1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projctor.wav" ContentType="audio/x-wav"/>
  <Override PartName="/ppt/media/image9.png" ContentType="image/png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D21-9DE2-4FCE-9509-A5D54104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3CE-4EF4-4ED4-9693-EC80BD3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A73-7D1B-4A0F-B9C3-CA034B16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3A9-D91E-4B4A-B4A0-89A591ED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B686-ADC1-48D3-AECE-D24C9D5A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83A-DB5D-47D7-B605-3E7F16B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CA4E-3445-4CAF-9283-42212D80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326-F184-4770-B34F-3ECF909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B0B1-0F9C-41C5-B331-A6108E10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78F-9491-4AEA-A5DB-BD0B37A5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684D-BAE1-4178-9DA6-C8FD3B09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3A7-BC51-4AEE-AB58-9DF91330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B3E5-1B35-43CF-A090-E768AFD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74B5-87AB-459C-8413-9091F7A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1BB3-AC2E-4E18-9FCB-6F1A4D5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A2FA-280D-4B4D-9DC2-BE734CF3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D482-348A-46A5-BDA0-D6119CC2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7FFCD-EB78-4D79-8EE3-36B1049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A4C0-DBC6-47AD-B3C5-2B2C70B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8905-DCD6-4B0C-9992-682C41E3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FB9E-E273-4BFB-A985-F471118B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3748-D725-4952-9E9B-6980054F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CB8-558F-430E-9750-AA1D1CE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6365-AC03-4CFA-B883-CF377C4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F055-AB95-4E53-9DDF-6731285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57BA-B130-416C-B3C2-BFBDBBA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B818-F2B9-44F2-B97B-3F4B527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0FF7-7AA4-4CC8-A658-4F500F21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B7FD-3850-4B0D-94B6-AA71D4EE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9A6A-1C53-46B4-BD08-5DC9BDA0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5EB-C45E-4C15-ABB1-D667263E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A33-8CD0-4A12-B262-94ECAEA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F51-2791-41E7-B47F-CA6D01FE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4F4-B9F0-4B7A-AE4B-BB74A189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67D-C68C-4CC2-9E8A-ABC9D23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8E9-5408-4C2C-B2D0-4C9DF39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47BC-81EA-4C8B-B7DC-815FF7B0C72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C7D-7DF8-47F4-91DB-5C1254E671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7451-0074-49D4-9CA2-4EDD73DD21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7E6F-3794-4327-9D0C-2B7CF615724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108-ECB8-4FB8-8C0F-21A9A79A7CF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Picture 1027" descr="PE02097_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Text Box 1026" descr=""/>
          <p:cNvPicPr/>
          <p:nvPr/>
        </p:nvPicPr>
        <p:blipFill>
          <a:blip r:embed="rId2"/>
          <a:stretch/>
        </p:blipFill>
        <p:spPr>
          <a:xfrm>
            <a:off x="343080" y="1555920"/>
            <a:ext cx="8458200" cy="9601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5b524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003-D2C6-47BD-9762-3AF94287EB41}" type="slidenum">
              <a:rPr b="0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680C-767E-4C73-A57F-8FC80DEAFBF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Picture 3" descr="BJ_022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62120" y="781200"/>
            <a:ext cx="81532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做一些体贴父母的事，向老师汇报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7"/>
          <p:cNvSpPr/>
          <p:nvPr/>
        </p:nvSpPr>
        <p:spPr>
          <a:xfrm>
            <a:off x="3754440" y="162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025A-45E2-4A40-898C-49938220797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2" descr="PM_029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94485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85800" y="2057400"/>
            <a:ext cx="740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孩子们对老师提出的问题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开始的表现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接着怎样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最后又是怎样的表现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隶书"/>
              </a:rPr>
              <a:t>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CDE9-D236-465D-BE02-F1ECAE3398C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33520" y="1066680"/>
            <a:ext cx="80010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认识生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蕴藏</a:t>
            </a:r>
            <a:r>
              <a:rPr b="1" lang="zh-CN" sz="6000" spc="-1" strike="noStrike">
                <a:solidFill>
                  <a:srgbClr val="5b5249"/>
                </a:solidFill>
                <a:latin typeface="华文细黑"/>
                <a:ea typeface="华文细黑"/>
              </a:rPr>
              <a:t>     </a:t>
            </a:r>
            <a:r>
              <a:rPr b="1" lang="zh-CN" sz="6000" spc="-1" strike="noStrike">
                <a:solidFill>
                  <a:srgbClr val="cc0000"/>
                </a:solidFill>
                <a:latin typeface="华文细黑"/>
                <a:ea typeface="华文细黑"/>
              </a:rPr>
              <a:t>瞥见     稚拙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ABAA-CA0A-4008-815D-0CE0B453B15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0" y="38088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检查预习情况</a:t>
            </a:r>
            <a:r>
              <a:rPr b="1" lang="en-US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5b5249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5b5249"/>
                </a:solidFill>
                <a:latin typeface="隶书"/>
                <a:ea typeface="隶书"/>
              </a:rPr>
              <a:t>、请找出四个字的词语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2438280"/>
            <a:ext cx="8077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神气十足、左顾右盼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沉默不语、四面八方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七嘴八舌、异口同声、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不约而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DD37-A471-4A8B-B2D3-47E02EEBDC6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21337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5b5249"/>
                </a:solidFill>
                <a:latin typeface="Times New Roman"/>
              </a:rPr>
              <a:t>他们骄傲地举起了手，有的还神气十足地左顾右盼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05520" y="4191120"/>
            <a:ext cx="3200400" cy="360"/>
            <a:chOff x="5105520" y="4191120"/>
            <a:chExt cx="3200400" cy="360"/>
          </a:xfrm>
        </p:grpSpPr>
        <p:sp>
          <p:nvSpPr>
            <p:cNvPr id="152" name="Line 4"/>
            <p:cNvSpPr/>
            <p:nvPr/>
          </p:nvSpPr>
          <p:spPr>
            <a:xfrm>
              <a:off x="5105520" y="419112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105520" y="419112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00200" y="5334120"/>
            <a:ext cx="3200400" cy="360"/>
            <a:chOff x="1600200" y="5334120"/>
            <a:chExt cx="3200400" cy="360"/>
          </a:xfrm>
        </p:grpSpPr>
        <p:sp>
          <p:nvSpPr>
            <p:cNvPr id="155" name="Line 5"/>
            <p:cNvSpPr/>
            <p:nvPr/>
          </p:nvSpPr>
          <p:spPr>
            <a:xfrm>
              <a:off x="1600200" y="533412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600200" y="5334120"/>
              <a:ext cx="3200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7" name="Text Box 6"/>
          <p:cNvSpPr/>
          <p:nvPr/>
        </p:nvSpPr>
        <p:spPr>
          <a:xfrm>
            <a:off x="762120" y="9144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品尝句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1476360" y="58770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719C-8558-4C69-9533-104E7DE1DB8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09480" y="146844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孩子们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会感受爱了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，这还不够。我想去寻找蕴藏在他们心灵深处的、他们自己还没有意识到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极为珍贵的东西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5800" y="7621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你体会到吗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43000" y="441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“会感受爱了”说的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554200" y="5105520"/>
            <a:ext cx="470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“极为珍贵的东西”指的是什么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从这句话你懂得了老师的心意了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740-D47E-4F22-8DAA-6D1F26813A6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Picture 2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9246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3581280" y="1600200"/>
            <a:ext cx="495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b5249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5b5249"/>
                </a:solidFill>
                <a:latin typeface="Times New Roman"/>
                <a:ea typeface="隶书"/>
              </a:rPr>
              <a:t>学到这里，你们明白课文为什么要用“可贵的沉默”做题目吗</a:t>
            </a: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隶书"/>
              </a:rPr>
              <a:t>？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文本框 8200"/>
          <p:cNvSpPr/>
          <p:nvPr/>
        </p:nvSpPr>
        <p:spPr>
          <a:xfrm>
            <a:off x="2987640" y="630864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CFE2-B11B-4C2A-BFE4-39F72EC1BDD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Picture 2" descr="PM_009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7191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066680" y="28195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295280" y="2743200"/>
            <a:ext cx="544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学了这篇课文，你以后会怎样对待爸爸妈妈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648320" y="1371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</a:rPr>
              <a:t>小组交流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22.MP3" descr=""/>
          <p:cNvPicPr/>
          <p:nvPr/>
        </p:nvPicPr>
        <p:blipFill>
          <a:blip r:embed="rId2"/>
          <a:stretch/>
        </p:blipFill>
        <p:spPr>
          <a:xfrm>
            <a:off x="609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7BE6-90E4-4A19-9AC4-324915ED6E1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3680" y="1371600"/>
            <a:ext cx="868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，我真快活！这一片沉默给了我多大的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享受</a:t>
            </a:r>
            <a:r>
              <a:rPr b="1" lang="zh-CN" sz="6000" spc="-1" strike="noStrike">
                <a:solidFill>
                  <a:srgbClr val="000066"/>
                </a:solidFill>
                <a:latin typeface="Times New Roman"/>
              </a:rPr>
              <a:t>啊！在沉默中，这些小家伙终于懂得要回报父母对自己的爱了。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19920" y="4191120"/>
            <a:ext cx="3124080" cy="360"/>
            <a:chOff x="6019920" y="4191120"/>
            <a:chExt cx="3124080" cy="360"/>
          </a:xfrm>
        </p:grpSpPr>
        <p:sp>
          <p:nvSpPr>
            <p:cNvPr id="181" name="Line 4"/>
            <p:cNvSpPr/>
            <p:nvPr/>
          </p:nvSpPr>
          <p:spPr>
            <a:xfrm>
              <a:off x="6019920" y="419112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19920" y="419112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9480" y="5105520"/>
            <a:ext cx="8229600" cy="360"/>
            <a:chOff x="609480" y="5105520"/>
            <a:chExt cx="8229600" cy="360"/>
          </a:xfrm>
        </p:grpSpPr>
        <p:sp>
          <p:nvSpPr>
            <p:cNvPr id="184" name="Line 5"/>
            <p:cNvSpPr/>
            <p:nvPr/>
          </p:nvSpPr>
          <p:spPr>
            <a:xfrm>
              <a:off x="609480" y="5105520"/>
              <a:ext cx="82296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09480" y="5105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62120" y="6172200"/>
            <a:ext cx="4038480" cy="360"/>
            <a:chOff x="762120" y="6172200"/>
            <a:chExt cx="4038480" cy="360"/>
          </a:xfrm>
        </p:grpSpPr>
        <p:sp>
          <p:nvSpPr>
            <p:cNvPr id="187" name="Line 6"/>
            <p:cNvSpPr/>
            <p:nvPr/>
          </p:nvSpPr>
          <p:spPr>
            <a:xfrm>
              <a:off x="762120" y="6172200"/>
              <a:ext cx="4038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762120" y="6172200"/>
              <a:ext cx="40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21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