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image4.jpeg" ContentType="image/jpeg"/>
  <Override PartName="/ppt/media/image3.jpeg" ContentType="image/jpe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6D9-4C34-422A-9F90-CFA97F89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EB5-6F18-42A3-AA95-0B1521A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F79-BE87-459E-9F82-523EB16B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6E1-47FA-486D-89D0-5E336D6C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1CC5-FF4A-4DE1-99F5-491D11B6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0F7D-E57B-413E-8C1C-D023AA02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5A15-11B8-45BB-A540-F0162360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92C9-CA9B-49FA-9E2F-8CD45A3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202D-1BD4-4ECF-B289-336A8F93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701-2CA5-4F97-9E60-205653A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F40-5288-4066-8FCD-34BC5CC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A92-9C09-4656-8EA6-9A7BA983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813A-0DFC-48D7-888C-78A5D45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FAB7-73AC-48B0-8D16-DEF31E6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F969-B74D-44F6-95AA-C8DE54E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850-C3C1-41BE-B68D-6DD8E3C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DE7E-FD2A-4FD5-BC3D-77FE676F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AE3-9C89-4C3F-A430-857BCCE3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E87-1AA4-45C4-B72A-F667F5CE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393-EA1F-4C3F-83C4-7970FA2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0E1-EDA8-4D48-BFD1-B2EB66F7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566-7452-4C57-ABE0-430EFB5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559-28B8-4133-8E2C-DF69096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3A1-DF3B-448F-8DAC-F95D71E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513-F5CF-4CC1-A63A-6F629CD2E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638-F71E-4A0B-B492-D3FF3ECD0B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FBC6-81CC-48DF-8924-47EE1F2A5E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图片18907676"/>
          <p:cNvPicPr/>
          <p:nvPr/>
        </p:nvPicPr>
        <p:blipFill>
          <a:blip r:embed="rId1"/>
          <a:stretch/>
        </p:blipFill>
        <p:spPr>
          <a:xfrm>
            <a:off x="-9360" y="0"/>
            <a:ext cx="91659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1162080" y="1689120"/>
            <a:ext cx="6923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课件分与合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50880" y="1027080"/>
            <a:ext cx="53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一年级数学上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图片14623626"/>
          <p:cNvPicPr/>
          <p:nvPr/>
        </p:nvPicPr>
        <p:blipFill>
          <a:blip r:embed="rId1"/>
          <a:stretch/>
        </p:blipFill>
        <p:spPr>
          <a:xfrm>
            <a:off x="206280" y="635040"/>
            <a:ext cx="8758440" cy="5894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454560" y="2917800"/>
            <a:ext cx="81252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5194440" y="291636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3654360" y="3979800"/>
            <a:ext cx="1768320" cy="1820880"/>
            <a:chOff x="3654360" y="3979800"/>
            <a:chExt cx="1768320" cy="1820880"/>
          </a:xfrm>
        </p:grpSpPr>
        <p:sp>
          <p:nvSpPr>
            <p:cNvPr id="228" name="Text Box 7"/>
            <p:cNvSpPr/>
            <p:nvPr/>
          </p:nvSpPr>
          <p:spPr>
            <a:xfrm>
              <a:off x="4335120" y="3979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098600" y="4645080"/>
              <a:ext cx="463680" cy="485640"/>
              <a:chOff x="4098600" y="4645080"/>
              <a:chExt cx="463680" cy="485640"/>
            </a:xfrm>
          </p:grpSpPr>
          <p:sp>
            <p:nvSpPr>
              <p:cNvPr id="230" name="Line 8"/>
              <p:cNvSpPr/>
              <p:nvPr/>
            </p:nvSpPr>
            <p:spPr>
              <a:xfrm flipH="1">
                <a:off x="4098600" y="464508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4098960" y="464508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562280" y="4645080"/>
              <a:ext cx="493920" cy="457200"/>
              <a:chOff x="4562280" y="4645080"/>
              <a:chExt cx="493920" cy="457200"/>
            </a:xfrm>
          </p:grpSpPr>
          <p:sp>
            <p:nvSpPr>
              <p:cNvPr id="233" name="Line 9"/>
              <p:cNvSpPr/>
              <p:nvPr/>
            </p:nvSpPr>
            <p:spPr>
              <a:xfrm>
                <a:off x="4562280" y="464508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4562280" y="464508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Rectangle 10"/>
            <p:cNvSpPr/>
            <p:nvPr/>
          </p:nvSpPr>
          <p:spPr>
            <a:xfrm>
              <a:off x="36543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47703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2"/>
          <p:cNvSpPr/>
          <p:nvPr/>
        </p:nvSpPr>
        <p:spPr>
          <a:xfrm>
            <a:off x="3727440" y="50529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48466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图片14623626"/>
          <p:cNvPicPr/>
          <p:nvPr/>
        </p:nvPicPr>
        <p:blipFill>
          <a:blip r:embed="rId1"/>
          <a:stretch/>
        </p:blipFill>
        <p:spPr>
          <a:xfrm>
            <a:off x="200160" y="644400"/>
            <a:ext cx="8758080" cy="5894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2370240" y="1990800"/>
            <a:ext cx="18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摆一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3801960" y="298944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5194440" y="3003480"/>
            <a:ext cx="812520" cy="725400"/>
          </a:xfrm>
          <a:prstGeom prst="ellipse">
            <a:avLst/>
          </a:prstGeom>
          <a:solidFill>
            <a:srgbClr val="ff99cc">
              <a:alpha val="7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2039760" y="3979800"/>
            <a:ext cx="1768320" cy="1820880"/>
            <a:chOff x="2039760" y="3979800"/>
            <a:chExt cx="1768320" cy="1820880"/>
          </a:xfrm>
        </p:grpSpPr>
        <p:sp>
          <p:nvSpPr>
            <p:cNvPr id="245" name="Text Box 7"/>
            <p:cNvSpPr/>
            <p:nvPr/>
          </p:nvSpPr>
          <p:spPr>
            <a:xfrm>
              <a:off x="2720520" y="3979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484000" y="4645080"/>
              <a:ext cx="463680" cy="485640"/>
              <a:chOff x="2484000" y="4645080"/>
              <a:chExt cx="463680" cy="485640"/>
            </a:xfrm>
          </p:grpSpPr>
          <p:sp>
            <p:nvSpPr>
              <p:cNvPr id="247" name="Line 8"/>
              <p:cNvSpPr/>
              <p:nvPr/>
            </p:nvSpPr>
            <p:spPr>
              <a:xfrm flipH="1">
                <a:off x="2484000" y="464508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2484360" y="464508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947680" y="4645080"/>
              <a:ext cx="493920" cy="457200"/>
              <a:chOff x="2947680" y="4645080"/>
              <a:chExt cx="493920" cy="457200"/>
            </a:xfrm>
          </p:grpSpPr>
          <p:sp>
            <p:nvSpPr>
              <p:cNvPr id="250" name="Line 9"/>
              <p:cNvSpPr/>
              <p:nvPr/>
            </p:nvSpPr>
            <p:spPr>
              <a:xfrm>
                <a:off x="2947680" y="464508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2947680" y="464508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10"/>
            <p:cNvSpPr/>
            <p:nvPr/>
          </p:nvSpPr>
          <p:spPr>
            <a:xfrm>
              <a:off x="2039760" y="516276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1"/>
            <p:cNvSpPr/>
            <p:nvPr/>
          </p:nvSpPr>
          <p:spPr>
            <a:xfrm>
              <a:off x="3155760" y="515952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12"/>
          <p:cNvSpPr/>
          <p:nvPr/>
        </p:nvSpPr>
        <p:spPr>
          <a:xfrm>
            <a:off x="2112840" y="50529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232080" y="505476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2798640" y="3003480"/>
            <a:ext cx="812880" cy="725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4870440" y="3852720"/>
            <a:ext cx="1768320" cy="1820880"/>
            <a:chOff x="4870440" y="3852720"/>
            <a:chExt cx="1768320" cy="1820880"/>
          </a:xfrm>
        </p:grpSpPr>
        <p:sp>
          <p:nvSpPr>
            <p:cNvPr id="258" name="Text Box 16"/>
            <p:cNvSpPr/>
            <p:nvPr/>
          </p:nvSpPr>
          <p:spPr>
            <a:xfrm>
              <a:off x="5551200" y="38527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5314680" y="4518000"/>
              <a:ext cx="463680" cy="485640"/>
              <a:chOff x="5314680" y="4518000"/>
              <a:chExt cx="463680" cy="485640"/>
            </a:xfrm>
          </p:grpSpPr>
          <p:sp>
            <p:nvSpPr>
              <p:cNvPr id="260" name="Line 17"/>
              <p:cNvSpPr/>
              <p:nvPr/>
            </p:nvSpPr>
            <p:spPr>
              <a:xfrm flipH="1">
                <a:off x="5314680" y="4518000"/>
                <a:ext cx="463320" cy="48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5315040" y="4518000"/>
                <a:ext cx="4633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778360" y="4518000"/>
              <a:ext cx="493920" cy="457200"/>
              <a:chOff x="5778360" y="4518000"/>
              <a:chExt cx="493920" cy="457200"/>
            </a:xfrm>
          </p:grpSpPr>
          <p:sp>
            <p:nvSpPr>
              <p:cNvPr id="263" name="Line 18"/>
              <p:cNvSpPr/>
              <p:nvPr/>
            </p:nvSpPr>
            <p:spPr>
              <a:xfrm>
                <a:off x="5778360" y="4518000"/>
                <a:ext cx="49392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5778360" y="4518000"/>
                <a:ext cx="493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19"/>
            <p:cNvSpPr/>
            <p:nvPr/>
          </p:nvSpPr>
          <p:spPr>
            <a:xfrm>
              <a:off x="4870440" y="5035680"/>
              <a:ext cx="652320" cy="637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"/>
            <p:cNvSpPr/>
            <p:nvPr/>
          </p:nvSpPr>
          <p:spPr>
            <a:xfrm>
              <a:off x="5986440" y="5032440"/>
              <a:ext cx="652320" cy="63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1"/>
          <p:cNvSpPr/>
          <p:nvPr/>
        </p:nvSpPr>
        <p:spPr>
          <a:xfrm>
            <a:off x="4943160" y="4925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6062760" y="4927680"/>
            <a:ext cx="46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2876-CA31-4122-88E2-1B03A98093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25600" y="1552680"/>
            <a:ext cx="8069040" cy="32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498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总结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通过对本课的学习，同学们学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分与合了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93560" y="1233360"/>
            <a:ext cx="847584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Arial"/>
              </a:rPr>
              <a:t>学习目标：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使同学们能够熟悉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能够熟练记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组成与分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46656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2246400" y="168768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457200" y="3197160"/>
            <a:ext cx="1339920" cy="1006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2246400" y="2997360"/>
            <a:ext cx="1339920" cy="100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797120" y="41292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2916360" y="557280"/>
            <a:ext cx="61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放在两个筐里，有几种情况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6"/>
          <p:cNvSpPr/>
          <p:nvPr/>
        </p:nvSpPr>
        <p:spPr>
          <a:xfrm>
            <a:off x="1104840" y="5021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u=246154440,2622632992&amp;fm=0&amp;gp=0[1]"/>
          <p:cNvPicPr/>
          <p:nvPr/>
        </p:nvPicPr>
        <p:blipFill>
          <a:blip r:embed="rId1"/>
          <a:stretch/>
        </p:blipFill>
        <p:spPr>
          <a:xfrm>
            <a:off x="606276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u=246154440,2622632992&amp;fm=0&amp;gp=0[1]"/>
          <p:cNvPicPr/>
          <p:nvPr/>
        </p:nvPicPr>
        <p:blipFill>
          <a:blip r:embed="rId2"/>
          <a:stretch/>
        </p:blipFill>
        <p:spPr>
          <a:xfrm>
            <a:off x="507672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u=246154440,2622632992&amp;fm=0&amp;gp=0[1]"/>
          <p:cNvPicPr/>
          <p:nvPr/>
        </p:nvPicPr>
        <p:blipFill>
          <a:blip r:embed="rId3"/>
          <a:stretch/>
        </p:blipFill>
        <p:spPr>
          <a:xfrm>
            <a:off x="6927840" y="9216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u=246154440,2622632992&amp;fm=0&amp;gp=0[1]"/>
          <p:cNvPicPr/>
          <p:nvPr/>
        </p:nvPicPr>
        <p:blipFill>
          <a:blip r:embed="rId4"/>
          <a:stretch/>
        </p:blipFill>
        <p:spPr>
          <a:xfrm>
            <a:off x="1332000" y="277920"/>
            <a:ext cx="1339920" cy="82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u=246154440,2622632992&amp;fm=0&amp;gp=0[1]"/>
          <p:cNvPicPr/>
          <p:nvPr/>
        </p:nvPicPr>
        <p:blipFill>
          <a:blip r:embed="rId5"/>
          <a:stretch/>
        </p:blipFill>
        <p:spPr>
          <a:xfrm>
            <a:off x="15764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u=246154440,2622632992&amp;fm=0&amp;gp=0[1]"/>
          <p:cNvPicPr/>
          <p:nvPr/>
        </p:nvPicPr>
        <p:blipFill>
          <a:blip r:embed="rId6"/>
          <a:stretch/>
        </p:blipFill>
        <p:spPr>
          <a:xfrm>
            <a:off x="2246400" y="198900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u=246154440,2622632992&amp;fm=0&amp;gp=0[1]"/>
          <p:cNvPicPr/>
          <p:nvPr/>
        </p:nvPicPr>
        <p:blipFill>
          <a:blip r:embed="rId7"/>
          <a:stretch/>
        </p:blipFill>
        <p:spPr>
          <a:xfrm>
            <a:off x="5811840" y="227952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u=246154440,2622632992&amp;fm=0&amp;gp=0[1]"/>
          <p:cNvPicPr/>
          <p:nvPr/>
        </p:nvPicPr>
        <p:blipFill>
          <a:blip r:embed="rId8"/>
          <a:stretch/>
        </p:blipFill>
        <p:spPr>
          <a:xfrm>
            <a:off x="6705720" y="2279520"/>
            <a:ext cx="1339560" cy="1006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u=246154440,2622632992&amp;fm=0&amp;gp=0[1]"/>
          <p:cNvPicPr/>
          <p:nvPr/>
        </p:nvPicPr>
        <p:blipFill>
          <a:blip r:embed="rId9"/>
          <a:stretch/>
        </p:blipFill>
        <p:spPr>
          <a:xfrm>
            <a:off x="4586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u=246154440,2622632992&amp;fm=0&amp;gp=0[1]"/>
          <p:cNvPicPr/>
          <p:nvPr/>
        </p:nvPicPr>
        <p:blipFill>
          <a:blip r:embed="rId10"/>
          <a:stretch/>
        </p:blipFill>
        <p:spPr>
          <a:xfrm>
            <a:off x="179856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u=246154440,2622632992&amp;fm=0&amp;gp=0[1]"/>
          <p:cNvPicPr/>
          <p:nvPr/>
        </p:nvPicPr>
        <p:blipFill>
          <a:blip r:embed="rId11"/>
          <a:stretch/>
        </p:blipFill>
        <p:spPr>
          <a:xfrm>
            <a:off x="2462040" y="3959280"/>
            <a:ext cx="1339920" cy="100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u=246154440,2622632992&amp;fm=0&amp;gp=0[1]"/>
          <p:cNvPicPr/>
          <p:nvPr/>
        </p:nvPicPr>
        <p:blipFill>
          <a:blip r:embed="rId12"/>
          <a:stretch/>
        </p:blipFill>
        <p:spPr>
          <a:xfrm>
            <a:off x="6257880" y="4151160"/>
            <a:ext cx="1339920" cy="10065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4"/>
          <p:cNvGrpSpPr/>
          <p:nvPr/>
        </p:nvGrpSpPr>
        <p:grpSpPr>
          <a:xfrm>
            <a:off x="3362400" y="233280"/>
            <a:ext cx="1662120" cy="1204560"/>
            <a:chOff x="3362400" y="233280"/>
            <a:chExt cx="1662120" cy="1204560"/>
          </a:xfrm>
        </p:grpSpPr>
        <p:sp>
          <p:nvSpPr>
            <p:cNvPr id="114" name="Rectangle 15"/>
            <p:cNvSpPr/>
            <p:nvPr/>
          </p:nvSpPr>
          <p:spPr>
            <a:xfrm>
              <a:off x="3916440" y="23328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447048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362400" y="105372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638880" y="617400"/>
              <a:ext cx="482400" cy="436320"/>
              <a:chOff x="3638880" y="617400"/>
              <a:chExt cx="482400" cy="436320"/>
            </a:xfrm>
          </p:grpSpPr>
          <p:sp>
            <p:nvSpPr>
              <p:cNvPr id="118" name="Line 18"/>
              <p:cNvSpPr/>
              <p:nvPr/>
            </p:nvSpPr>
            <p:spPr>
              <a:xfrm flipH="1">
                <a:off x="3638880" y="617400"/>
                <a:ext cx="48204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3639240" y="617400"/>
                <a:ext cx="48204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121640" y="617400"/>
              <a:ext cx="576000" cy="436320"/>
              <a:chOff x="4121640" y="617400"/>
              <a:chExt cx="576000" cy="436320"/>
            </a:xfrm>
          </p:grpSpPr>
          <p:sp>
            <p:nvSpPr>
              <p:cNvPr id="121" name="Line 19"/>
              <p:cNvSpPr/>
              <p:nvPr/>
            </p:nvSpPr>
            <p:spPr>
              <a:xfrm>
                <a:off x="4121640" y="617400"/>
                <a:ext cx="576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4121640" y="617400"/>
                <a:ext cx="57600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0"/>
          <p:cNvGrpSpPr/>
          <p:nvPr/>
        </p:nvGrpSpPr>
        <p:grpSpPr>
          <a:xfrm>
            <a:off x="3801960" y="2279520"/>
            <a:ext cx="1662120" cy="1203480"/>
            <a:chOff x="3801960" y="2279520"/>
            <a:chExt cx="1662120" cy="1203480"/>
          </a:xfrm>
        </p:grpSpPr>
        <p:sp>
          <p:nvSpPr>
            <p:cNvPr id="124" name="Rectangle 21"/>
            <p:cNvSpPr/>
            <p:nvPr/>
          </p:nvSpPr>
          <p:spPr>
            <a:xfrm>
              <a:off x="4356000" y="227952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2"/>
            <p:cNvSpPr/>
            <p:nvPr/>
          </p:nvSpPr>
          <p:spPr>
            <a:xfrm>
              <a:off x="491004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3"/>
            <p:cNvSpPr/>
            <p:nvPr/>
          </p:nvSpPr>
          <p:spPr>
            <a:xfrm>
              <a:off x="3801960" y="3099240"/>
              <a:ext cx="554040" cy="38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078440" y="2663280"/>
              <a:ext cx="482400" cy="435600"/>
              <a:chOff x="4078440" y="2663280"/>
              <a:chExt cx="482400" cy="435600"/>
            </a:xfrm>
          </p:grpSpPr>
          <p:sp>
            <p:nvSpPr>
              <p:cNvPr id="128" name="Line 24"/>
              <p:cNvSpPr/>
              <p:nvPr/>
            </p:nvSpPr>
            <p:spPr>
              <a:xfrm flipH="1">
                <a:off x="4078440" y="2663280"/>
                <a:ext cx="48204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078800" y="2663280"/>
                <a:ext cx="48204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561200" y="2663280"/>
              <a:ext cx="576000" cy="435600"/>
              <a:chOff x="4561200" y="2663280"/>
              <a:chExt cx="576000" cy="435600"/>
            </a:xfrm>
          </p:grpSpPr>
          <p:sp>
            <p:nvSpPr>
              <p:cNvPr id="131" name="Line 25"/>
              <p:cNvSpPr/>
              <p:nvPr/>
            </p:nvSpPr>
            <p:spPr>
              <a:xfrm>
                <a:off x="4561200" y="2663280"/>
                <a:ext cx="57600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561200" y="2663280"/>
                <a:ext cx="57600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26"/>
          <p:cNvGrpSpPr/>
          <p:nvPr/>
        </p:nvGrpSpPr>
        <p:grpSpPr>
          <a:xfrm>
            <a:off x="3995640" y="4462560"/>
            <a:ext cx="1662120" cy="1204560"/>
            <a:chOff x="3995640" y="4462560"/>
            <a:chExt cx="1662120" cy="1204560"/>
          </a:xfrm>
        </p:grpSpPr>
        <p:sp>
          <p:nvSpPr>
            <p:cNvPr id="134" name="Rectangle 27"/>
            <p:cNvSpPr/>
            <p:nvPr/>
          </p:nvSpPr>
          <p:spPr>
            <a:xfrm>
              <a:off x="4549680" y="446256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8"/>
            <p:cNvSpPr/>
            <p:nvPr/>
          </p:nvSpPr>
          <p:spPr>
            <a:xfrm>
              <a:off x="510372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9"/>
            <p:cNvSpPr/>
            <p:nvPr/>
          </p:nvSpPr>
          <p:spPr>
            <a:xfrm>
              <a:off x="3995640" y="5283000"/>
              <a:ext cx="554040" cy="38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272120" y="4846680"/>
              <a:ext cx="482400" cy="436320"/>
              <a:chOff x="4272120" y="4846680"/>
              <a:chExt cx="482400" cy="436320"/>
            </a:xfrm>
          </p:grpSpPr>
          <p:sp>
            <p:nvSpPr>
              <p:cNvPr id="138" name="Line 30"/>
              <p:cNvSpPr/>
              <p:nvPr/>
            </p:nvSpPr>
            <p:spPr>
              <a:xfrm flipH="1">
                <a:off x="4272120" y="4846680"/>
                <a:ext cx="48204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272480" y="4846680"/>
                <a:ext cx="48204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754880" y="4846680"/>
              <a:ext cx="576000" cy="436320"/>
              <a:chOff x="4754880" y="4846680"/>
              <a:chExt cx="576000" cy="436320"/>
            </a:xfrm>
          </p:grpSpPr>
          <p:sp>
            <p:nvSpPr>
              <p:cNvPr id="141" name="Line 31"/>
              <p:cNvSpPr/>
              <p:nvPr/>
            </p:nvSpPr>
            <p:spPr>
              <a:xfrm>
                <a:off x="4754880" y="4846680"/>
                <a:ext cx="576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4754880" y="4846680"/>
                <a:ext cx="576000" cy="43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32"/>
          <p:cNvSpPr/>
          <p:nvPr/>
        </p:nvSpPr>
        <p:spPr>
          <a:xfrm>
            <a:off x="3995640" y="11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19640" y="9158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4500720" y="9079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4411800" y="2133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924360" y="2965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930920" y="29973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4572000" y="4325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4067280" y="5165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502452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9"/>
          <p:cNvSpPr/>
          <p:nvPr/>
        </p:nvSpPr>
        <p:spPr>
          <a:xfrm>
            <a:off x="4432320" y="34574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33360" y="620640"/>
            <a:ext cx="8810640" cy="5904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531880" y="122544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做一做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157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做一做4"/>
          <p:cNvPicPr/>
          <p:nvPr/>
        </p:nvPicPr>
        <p:blipFill>
          <a:blip r:embed="rId1"/>
          <a:srcRect l="0" t="0" r="2500" b="0"/>
          <a:stretch/>
        </p:blipFill>
        <p:spPr>
          <a:xfrm>
            <a:off x="422280" y="406440"/>
            <a:ext cx="8172360" cy="296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做一做5"/>
          <p:cNvPicPr/>
          <p:nvPr/>
        </p:nvPicPr>
        <p:blipFill>
          <a:blip r:embed="rId2"/>
          <a:srcRect l="0" t="0" r="77196" b="58187"/>
          <a:stretch/>
        </p:blipFill>
        <p:spPr>
          <a:xfrm>
            <a:off x="1698480" y="3730680"/>
            <a:ext cx="1981440" cy="124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552760" y="488628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437920" y="5400720"/>
            <a:ext cx="305280" cy="457200"/>
            <a:chOff x="2437920" y="5400720"/>
            <a:chExt cx="305280" cy="457200"/>
          </a:xfrm>
        </p:grpSpPr>
        <p:sp>
          <p:nvSpPr>
            <p:cNvPr id="165" name="Line 7"/>
            <p:cNvSpPr/>
            <p:nvPr/>
          </p:nvSpPr>
          <p:spPr>
            <a:xfrm flipH="1">
              <a:off x="2437920" y="54007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438280" y="54007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43200" y="5400720"/>
            <a:ext cx="304920" cy="457200"/>
            <a:chOff x="2743200" y="5400720"/>
            <a:chExt cx="304920" cy="457200"/>
          </a:xfrm>
        </p:grpSpPr>
        <p:sp>
          <p:nvSpPr>
            <p:cNvPr id="168" name="Line 8"/>
            <p:cNvSpPr/>
            <p:nvPr/>
          </p:nvSpPr>
          <p:spPr>
            <a:xfrm>
              <a:off x="2743200" y="54007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743200" y="540072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1"/>
          <p:cNvSpPr/>
          <p:nvPr/>
        </p:nvSpPr>
        <p:spPr>
          <a:xfrm>
            <a:off x="6280200" y="48150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65360" y="5329080"/>
            <a:ext cx="305280" cy="457200"/>
            <a:chOff x="6165360" y="5329080"/>
            <a:chExt cx="305280" cy="457200"/>
          </a:xfrm>
        </p:grpSpPr>
        <p:sp>
          <p:nvSpPr>
            <p:cNvPr id="172" name="Line 12"/>
            <p:cNvSpPr/>
            <p:nvPr/>
          </p:nvSpPr>
          <p:spPr>
            <a:xfrm flipH="1">
              <a:off x="6165360" y="53290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6165720" y="53290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70640" y="5329080"/>
            <a:ext cx="304920" cy="457200"/>
            <a:chOff x="6470640" y="5329080"/>
            <a:chExt cx="304920" cy="457200"/>
          </a:xfrm>
        </p:grpSpPr>
        <p:sp>
          <p:nvSpPr>
            <p:cNvPr id="175" name="Line 13"/>
            <p:cNvSpPr/>
            <p:nvPr/>
          </p:nvSpPr>
          <p:spPr>
            <a:xfrm>
              <a:off x="6470640" y="53290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470640" y="532908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21" descr="做一做5"/>
          <p:cNvPicPr/>
          <p:nvPr/>
        </p:nvPicPr>
        <p:blipFill>
          <a:blip r:embed="rId3"/>
          <a:srcRect l="39473" t="0" r="37720" b="58187"/>
          <a:stretch/>
        </p:blipFill>
        <p:spPr>
          <a:xfrm>
            <a:off x="5445000" y="3659040"/>
            <a:ext cx="1981440" cy="1241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3"/>
          <p:cNvSpPr/>
          <p:nvPr/>
        </p:nvSpPr>
        <p:spPr>
          <a:xfrm>
            <a:off x="2844720" y="5937120"/>
            <a:ext cx="506520" cy="435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545160" y="5878440"/>
            <a:ext cx="56520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58024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2144880" y="5935680"/>
            <a:ext cx="506160" cy="434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1521000" y="870120"/>
            <a:ext cx="301320" cy="49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179280" y="2511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4645080" y="1773360"/>
            <a:ext cx="349416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179280" y="4697280"/>
            <a:ext cx="3494160" cy="2186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01300000822820128806205169847"/>
          <p:cNvPicPr/>
          <p:nvPr/>
        </p:nvPicPr>
        <p:blipFill>
          <a:blip r:embed="rId4"/>
          <a:stretch/>
        </p:blipFill>
        <p:spPr>
          <a:xfrm>
            <a:off x="5192640" y="4697280"/>
            <a:ext cx="3494160" cy="218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1300000822820128806205169847"/>
          <p:cNvPicPr/>
          <p:nvPr/>
        </p:nvPicPr>
        <p:blipFill>
          <a:blip r:embed="rId5"/>
          <a:stretch/>
        </p:blipFill>
        <p:spPr>
          <a:xfrm>
            <a:off x="2484360" y="3603600"/>
            <a:ext cx="3907080" cy="2444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01300000822820128806205169847"/>
          <p:cNvPicPr/>
          <p:nvPr/>
        </p:nvPicPr>
        <p:blipFill>
          <a:blip r:embed="rId6"/>
          <a:stretch/>
        </p:blipFill>
        <p:spPr>
          <a:xfrm>
            <a:off x="1255680" y="44280"/>
            <a:ext cx="2457360" cy="1538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4033800" y="635040"/>
            <a:ext cx="46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成两堆，怎样分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01300000822820128806205169847"/>
          <p:cNvPicPr/>
          <p:nvPr/>
        </p:nvPicPr>
        <p:blipFill>
          <a:blip r:embed="rId1"/>
          <a:stretch/>
        </p:blipFill>
        <p:spPr>
          <a:xfrm>
            <a:off x="6737400" y="4870440"/>
            <a:ext cx="2459160" cy="1536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01300000822820128806205169847"/>
          <p:cNvPicPr/>
          <p:nvPr/>
        </p:nvPicPr>
        <p:blipFill>
          <a:blip r:embed="rId2"/>
          <a:stretch/>
        </p:blipFill>
        <p:spPr>
          <a:xfrm>
            <a:off x="5508720" y="2611440"/>
            <a:ext cx="2457360" cy="1538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01300000822820128806205169847"/>
          <p:cNvPicPr/>
          <p:nvPr/>
        </p:nvPicPr>
        <p:blipFill>
          <a:blip r:embed="rId3"/>
          <a:stretch/>
        </p:blipFill>
        <p:spPr>
          <a:xfrm>
            <a:off x="5724360" y="3141720"/>
            <a:ext cx="2459160" cy="15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01300000822820128806205169847"/>
          <p:cNvPicPr/>
          <p:nvPr/>
        </p:nvPicPr>
        <p:blipFill>
          <a:blip r:embed="rId4"/>
          <a:stretch/>
        </p:blipFill>
        <p:spPr>
          <a:xfrm>
            <a:off x="34920" y="117360"/>
            <a:ext cx="2079720" cy="130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1300000822820128806205169847"/>
          <p:cNvPicPr/>
          <p:nvPr/>
        </p:nvPicPr>
        <p:blipFill>
          <a:blip r:embed="rId5"/>
          <a:stretch/>
        </p:blipFill>
        <p:spPr>
          <a:xfrm>
            <a:off x="4919760" y="476280"/>
            <a:ext cx="2233440" cy="139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01300000822820128806205169847"/>
          <p:cNvPicPr/>
          <p:nvPr/>
        </p:nvPicPr>
        <p:blipFill>
          <a:blip r:embed="rId6"/>
          <a:stretch/>
        </p:blipFill>
        <p:spPr>
          <a:xfrm>
            <a:off x="900000" y="641520"/>
            <a:ext cx="1970280" cy="1231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01300000822820128806205169847"/>
          <p:cNvPicPr/>
          <p:nvPr/>
        </p:nvPicPr>
        <p:blipFill>
          <a:blip r:embed="rId7"/>
          <a:stretch/>
        </p:blipFill>
        <p:spPr>
          <a:xfrm>
            <a:off x="6445080" y="476280"/>
            <a:ext cx="2062440" cy="1292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1300000822820128806205169847"/>
          <p:cNvPicPr/>
          <p:nvPr/>
        </p:nvPicPr>
        <p:blipFill>
          <a:blip r:embed="rId8"/>
          <a:stretch/>
        </p:blipFill>
        <p:spPr>
          <a:xfrm>
            <a:off x="2181240" y="903240"/>
            <a:ext cx="1380960" cy="865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01300000822820128806205169847"/>
          <p:cNvPicPr/>
          <p:nvPr/>
        </p:nvPicPr>
        <p:blipFill>
          <a:blip r:embed="rId9"/>
          <a:stretch/>
        </p:blipFill>
        <p:spPr>
          <a:xfrm>
            <a:off x="27000" y="292572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01300000822820128806205169847"/>
          <p:cNvPicPr/>
          <p:nvPr/>
        </p:nvPicPr>
        <p:blipFill>
          <a:blip r:embed="rId10"/>
          <a:stretch/>
        </p:blipFill>
        <p:spPr>
          <a:xfrm>
            <a:off x="1122480" y="2825640"/>
            <a:ext cx="2116080" cy="13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01300000822820128806205169847"/>
          <p:cNvPicPr/>
          <p:nvPr/>
        </p:nvPicPr>
        <p:blipFill>
          <a:blip r:embed="rId11"/>
          <a:stretch/>
        </p:blipFill>
        <p:spPr>
          <a:xfrm>
            <a:off x="4495680" y="2825640"/>
            <a:ext cx="2457720" cy="1538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01300000822820128806205169847"/>
          <p:cNvPicPr/>
          <p:nvPr/>
        </p:nvPicPr>
        <p:blipFill>
          <a:blip r:embed="rId12"/>
          <a:stretch/>
        </p:blipFill>
        <p:spPr>
          <a:xfrm>
            <a:off x="34920" y="4680000"/>
            <a:ext cx="2459160" cy="1536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01300000822820128806205169847"/>
          <p:cNvPicPr/>
          <p:nvPr/>
        </p:nvPicPr>
        <p:blipFill>
          <a:blip r:embed="rId13"/>
          <a:stretch/>
        </p:blipFill>
        <p:spPr>
          <a:xfrm>
            <a:off x="5508720" y="4870440"/>
            <a:ext cx="2457360" cy="1536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01300000822820128806205169847"/>
          <p:cNvPicPr/>
          <p:nvPr/>
        </p:nvPicPr>
        <p:blipFill>
          <a:blip r:embed="rId14"/>
          <a:stretch/>
        </p:blipFill>
        <p:spPr>
          <a:xfrm>
            <a:off x="4495680" y="4870440"/>
            <a:ext cx="2457720" cy="153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6"/>
          <p:cNvSpPr/>
          <p:nvPr/>
        </p:nvSpPr>
        <p:spPr>
          <a:xfrm>
            <a:off x="4008600" y="9032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3521160" y="173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527720" y="176832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719520" y="2825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3232080" y="36576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4240080" y="3689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3432240" y="4680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2943360" y="55119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3951360" y="5543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5" descr="01300000822820128806205169847"/>
          <p:cNvPicPr/>
          <p:nvPr/>
        </p:nvPicPr>
        <p:blipFill>
          <a:blip r:embed="rId15"/>
          <a:stretch/>
        </p:blipFill>
        <p:spPr>
          <a:xfrm>
            <a:off x="5724360" y="5448240"/>
            <a:ext cx="24591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379440" y="237960"/>
            <a:ext cx="6834240" cy="362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360360" y="3746520"/>
            <a:ext cx="7186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48555E-006 L -5.55556E-007 -2.48555E-006 E">
                                      <p:cBhvr>
                                        <p:cTn id="231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1Z</dcterms:modified>
  <cp:revision>14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