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jpeg" ContentType="image/jpeg"/>
  <Override PartName="/ppt/media/image18.png" ContentType="image/png"/>
  <Override PartName="/ppt/media/image13.png" ContentType="image/png"/>
  <Override PartName="/ppt/media/image12.wmf" ContentType="image/x-wmf"/>
  <Override PartName="/ppt/media/image11.jpeg" ContentType="image/jpeg"/>
  <Override PartName="/ppt/media/image8.png" ContentType="image/png"/>
  <Override PartName="/ppt/media/image19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8EA1-E926-44B7-833F-2C5C7A6A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682-A682-452D-ADEE-A59C1B54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DF5-71B9-4934-BAF9-10750065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FFB-338A-4C4B-BF81-E3F51FBE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52EB-8252-45CB-AAC2-CCC389D7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AF69-2374-4334-AD0D-386B5BD5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6B77-6BB2-47C3-9819-7F8041BE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B94D-4836-443D-A9C2-8C9EE373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DB9C-CB34-4659-842D-EF317975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1B11-3688-4945-8BAC-538054CD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AFD1-3A5E-4CE1-8038-FBB5A790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8AAA-27B0-425D-A6EE-AD10D313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6B5E-21B2-4A04-AE2F-9215139F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0805-9490-40FC-8AA3-C821D68A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C3F4-C730-400A-BBB9-DB6C7C41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AE81-B05F-45BD-9C67-8C4B5B15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D5C-8D46-4670-9309-8921FA26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25B-0F18-4886-959A-D67716C4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A50D-BE8E-4E6A-8B6E-0CB1A4E1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DE2-F0FB-4748-A67D-0256D51F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5D14-835E-4877-A9A6-A752DC7B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04A-68AF-48D2-AA19-C7712B93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5C5-A6F5-4335-BF9E-CDDC627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2CF5-50C3-4D3C-BD25-719ED076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EE2C-8429-462C-A331-D5B9CB543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6D8A-D9E7-4823-BB75-E0958D02C65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237E-78FA-41CD-9534-A61D9EF23B0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2.wmf"/><Relationship Id="rId14" Type="http://schemas.openxmlformats.org/officeDocument/2006/relationships/image" Target="../media/image12.wmf"/><Relationship Id="rId15" Type="http://schemas.openxmlformats.org/officeDocument/2006/relationships/image" Target="../media/image12.wmf"/><Relationship Id="rId16" Type="http://schemas.openxmlformats.org/officeDocument/2006/relationships/image" Target="../media/image12.wm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11"/>
          <p:cNvSpPr txBox="1"/>
          <p:nvPr/>
        </p:nvSpPr>
        <p:spPr>
          <a:xfrm>
            <a:off x="1835280" y="1628640"/>
            <a:ext cx="50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快乐的节日课件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模板免费下载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2009414022499882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2124000" y="105264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鸟在前面带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风儿吹着我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春天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花园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草地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鲜艳的红领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美丽的衣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像朵朵花儿开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468360" y="26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2016000" y="981000"/>
            <a:ext cx="712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花儿向我们点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溪欢快地流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向我们祝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向我们歌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好像在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个世界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更加美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充满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3617640" y="69228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7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2963160" y="1268280"/>
            <a:ext cx="353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亲爱的祖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让我们自由地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小鸟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身上的羽毛长得丰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就勇敢地向着天空飞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飞向我们的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68360" y="260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870200" y="1700280"/>
            <a:ext cx="727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唱啊，跳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敬爱的老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亲爱的伙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一起度过这快乐的时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755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草地4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016"/>
          <p:cNvPicPr/>
          <p:nvPr/>
        </p:nvPicPr>
        <p:blipFill>
          <a:blip r:embed="rId2"/>
          <a:stretch/>
        </p:blipFill>
        <p:spPr>
          <a:xfrm>
            <a:off x="0" y="0"/>
            <a:ext cx="1368360" cy="5543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016"/>
          <p:cNvPicPr/>
          <p:nvPr/>
        </p:nvPicPr>
        <p:blipFill>
          <a:blip r:embed="rId3"/>
          <a:stretch/>
        </p:blipFill>
        <p:spPr>
          <a:xfrm>
            <a:off x="971640" y="1457280"/>
            <a:ext cx="1295280" cy="540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016"/>
          <p:cNvPicPr/>
          <p:nvPr/>
        </p:nvPicPr>
        <p:blipFill>
          <a:blip r:embed="rId4"/>
          <a:stretch/>
        </p:blipFill>
        <p:spPr>
          <a:xfrm>
            <a:off x="2411280" y="0"/>
            <a:ext cx="1297080" cy="6237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016"/>
          <p:cNvPicPr/>
          <p:nvPr/>
        </p:nvPicPr>
        <p:blipFill>
          <a:blip r:embed="rId5"/>
          <a:stretch/>
        </p:blipFill>
        <p:spPr>
          <a:xfrm>
            <a:off x="3419640" y="1341360"/>
            <a:ext cx="1466640" cy="6237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016"/>
          <p:cNvPicPr/>
          <p:nvPr/>
        </p:nvPicPr>
        <p:blipFill>
          <a:blip r:embed="rId6"/>
          <a:stretch/>
        </p:blipFill>
        <p:spPr>
          <a:xfrm>
            <a:off x="4932360" y="189000"/>
            <a:ext cx="1467000" cy="6237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016"/>
          <p:cNvPicPr/>
          <p:nvPr/>
        </p:nvPicPr>
        <p:blipFill>
          <a:blip r:embed="rId7"/>
          <a:stretch/>
        </p:blipFill>
        <p:spPr>
          <a:xfrm>
            <a:off x="5940360" y="1557360"/>
            <a:ext cx="1467000" cy="623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016"/>
          <p:cNvPicPr/>
          <p:nvPr/>
        </p:nvPicPr>
        <p:blipFill>
          <a:blip r:embed="rId8"/>
          <a:stretch/>
        </p:blipFill>
        <p:spPr>
          <a:xfrm>
            <a:off x="7524720" y="260280"/>
            <a:ext cx="1467000" cy="623736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8101080" y="404640"/>
            <a:ext cx="79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ì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7667640" y="2349360"/>
            <a:ext cx="792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588000" y="1700280"/>
            <a:ext cx="86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ǎ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6156360" y="3573360"/>
            <a:ext cx="7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5435640" y="333360"/>
            <a:ext cx="93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ē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5148360" y="2205000"/>
            <a:ext cx="93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ǒ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995640" y="1557360"/>
            <a:ext cx="79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yó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3635280" y="3429000"/>
            <a:ext cx="719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916360" y="260280"/>
            <a:ext cx="792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56000" y="2133720"/>
            <a:ext cx="647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zǔ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1476360" y="1628640"/>
            <a:ext cx="649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hè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116000" y="3284640"/>
            <a:ext cx="64764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539640" y="260280"/>
            <a:ext cx="792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179280" y="1773360"/>
            <a:ext cx="757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1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eat_drink_017"/>
          <p:cNvPicPr/>
          <p:nvPr/>
        </p:nvPicPr>
        <p:blipFill>
          <a:blip r:embed="rId3"/>
          <a:stretch/>
        </p:blipFill>
        <p:spPr>
          <a:xfrm>
            <a:off x="684360" y="242100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826920" y="2781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eat_drink_017"/>
          <p:cNvPicPr/>
          <p:nvPr/>
        </p:nvPicPr>
        <p:blipFill>
          <a:blip r:embed="rId4"/>
          <a:stretch/>
        </p:blipFill>
        <p:spPr>
          <a:xfrm>
            <a:off x="1619280" y="299736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835280" y="342900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eat_drink_017"/>
          <p:cNvPicPr/>
          <p:nvPr/>
        </p:nvPicPr>
        <p:blipFill>
          <a:blip r:embed="rId5"/>
          <a:stretch/>
        </p:blipFill>
        <p:spPr>
          <a:xfrm>
            <a:off x="7524720" y="1989000"/>
            <a:ext cx="1003320" cy="11671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7740720" y="2421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eat_drink_017"/>
          <p:cNvPicPr/>
          <p:nvPr/>
        </p:nvPicPr>
        <p:blipFill>
          <a:blip r:embed="rId6"/>
          <a:stretch/>
        </p:blipFill>
        <p:spPr>
          <a:xfrm>
            <a:off x="6516720" y="270828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732720" y="306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eat_drink_017"/>
          <p:cNvPicPr/>
          <p:nvPr/>
        </p:nvPicPr>
        <p:blipFill>
          <a:blip r:embed="rId7"/>
          <a:stretch/>
        </p:blipFill>
        <p:spPr>
          <a:xfrm flipH="1">
            <a:off x="4067280" y="1557360"/>
            <a:ext cx="877680" cy="1022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3"/>
          <p:cNvSpPr/>
          <p:nvPr/>
        </p:nvSpPr>
        <p:spPr>
          <a:xfrm>
            <a:off x="421164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4" descr="eat_drink_017"/>
          <p:cNvPicPr/>
          <p:nvPr/>
        </p:nvPicPr>
        <p:blipFill>
          <a:blip r:embed="rId8"/>
          <a:stretch/>
        </p:blipFill>
        <p:spPr>
          <a:xfrm>
            <a:off x="6659640" y="1052640"/>
            <a:ext cx="939600" cy="10936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5"/>
          <p:cNvSpPr/>
          <p:nvPr/>
        </p:nvSpPr>
        <p:spPr>
          <a:xfrm>
            <a:off x="6877080" y="148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6" descr="eat_drink_017"/>
          <p:cNvPicPr/>
          <p:nvPr/>
        </p:nvPicPr>
        <p:blipFill>
          <a:blip r:embed="rId9"/>
          <a:stretch/>
        </p:blipFill>
        <p:spPr>
          <a:xfrm>
            <a:off x="2771640" y="2133720"/>
            <a:ext cx="817560" cy="950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7"/>
          <p:cNvSpPr/>
          <p:nvPr/>
        </p:nvSpPr>
        <p:spPr>
          <a:xfrm>
            <a:off x="2916360" y="2492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8" descr="eat_drink_017"/>
          <p:cNvPicPr/>
          <p:nvPr/>
        </p:nvPicPr>
        <p:blipFill>
          <a:blip r:embed="rId10"/>
          <a:stretch/>
        </p:blipFill>
        <p:spPr>
          <a:xfrm>
            <a:off x="5076720" y="2997360"/>
            <a:ext cx="878040" cy="10220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9"/>
          <p:cNvSpPr/>
          <p:nvPr/>
        </p:nvSpPr>
        <p:spPr>
          <a:xfrm>
            <a:off x="5219640" y="335772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0" descr="eat_drink_017"/>
          <p:cNvPicPr/>
          <p:nvPr/>
        </p:nvPicPr>
        <p:blipFill>
          <a:blip r:embed="rId11"/>
          <a:stretch/>
        </p:blipFill>
        <p:spPr>
          <a:xfrm>
            <a:off x="5003640" y="907920"/>
            <a:ext cx="881280" cy="10242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1"/>
          <p:cNvSpPr/>
          <p:nvPr/>
        </p:nvSpPr>
        <p:spPr>
          <a:xfrm>
            <a:off x="5219640" y="126828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2" descr="eat_drink_017"/>
          <p:cNvPicPr/>
          <p:nvPr/>
        </p:nvPicPr>
        <p:blipFill>
          <a:blip r:embed="rId12"/>
          <a:stretch/>
        </p:blipFill>
        <p:spPr>
          <a:xfrm>
            <a:off x="2843280" y="3500280"/>
            <a:ext cx="755640" cy="87948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23"/>
          <p:cNvSpPr/>
          <p:nvPr/>
        </p:nvSpPr>
        <p:spPr>
          <a:xfrm>
            <a:off x="2987640" y="378936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4" descr="eat_drink_017"/>
          <p:cNvPicPr/>
          <p:nvPr/>
        </p:nvPicPr>
        <p:blipFill>
          <a:blip r:embed="rId13"/>
          <a:stretch/>
        </p:blipFill>
        <p:spPr>
          <a:xfrm>
            <a:off x="5724360" y="1989000"/>
            <a:ext cx="939960" cy="1094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5"/>
          <p:cNvSpPr/>
          <p:nvPr/>
        </p:nvSpPr>
        <p:spPr>
          <a:xfrm>
            <a:off x="5867280" y="242100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6" descr="eat_drink_017"/>
          <p:cNvPicPr/>
          <p:nvPr/>
        </p:nvPicPr>
        <p:blipFill>
          <a:blip r:embed="rId14"/>
          <a:stretch/>
        </p:blipFill>
        <p:spPr>
          <a:xfrm>
            <a:off x="3132000" y="981000"/>
            <a:ext cx="939960" cy="1094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7"/>
          <p:cNvSpPr/>
          <p:nvPr/>
        </p:nvSpPr>
        <p:spPr>
          <a:xfrm>
            <a:off x="3348000" y="1341360"/>
            <a:ext cx="43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8" descr="eat_drink_017"/>
          <p:cNvPicPr/>
          <p:nvPr/>
        </p:nvPicPr>
        <p:blipFill>
          <a:blip r:embed="rId15"/>
          <a:stretch/>
        </p:blipFill>
        <p:spPr>
          <a:xfrm>
            <a:off x="3635280" y="2708280"/>
            <a:ext cx="817560" cy="9507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9"/>
          <p:cNvSpPr/>
          <p:nvPr/>
        </p:nvSpPr>
        <p:spPr>
          <a:xfrm>
            <a:off x="3851280" y="306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0" descr="eat_drink_017"/>
          <p:cNvPicPr/>
          <p:nvPr/>
        </p:nvPicPr>
        <p:blipFill>
          <a:blip r:embed="rId16"/>
          <a:stretch/>
        </p:blipFill>
        <p:spPr>
          <a:xfrm>
            <a:off x="1547640" y="1484280"/>
            <a:ext cx="878040" cy="10224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1"/>
          <p:cNvSpPr/>
          <p:nvPr/>
        </p:nvSpPr>
        <p:spPr>
          <a:xfrm>
            <a:off x="1763640" y="1844640"/>
            <a:ext cx="43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1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15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吹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祝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希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祖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3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301680" y="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你会连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24000" y="765000"/>
            <a:ext cx="3456000" cy="484236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十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九月十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六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月一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5076720" y="836640"/>
            <a:ext cx="3456000" cy="48423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劳动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元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国庆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儿童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教师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987640" y="1197000"/>
            <a:ext cx="2160720" cy="360"/>
            <a:chOff x="2987640" y="1197000"/>
            <a:chExt cx="2160720" cy="360"/>
          </a:xfrm>
        </p:grpSpPr>
        <p:sp>
          <p:nvSpPr>
            <p:cNvPr id="90" name="Line 8"/>
            <p:cNvSpPr/>
            <p:nvPr/>
          </p:nvSpPr>
          <p:spPr>
            <a:xfrm>
              <a:off x="2987640" y="1197000"/>
              <a:ext cx="216072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2987640" y="1197000"/>
              <a:ext cx="21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987640" y="2205000"/>
            <a:ext cx="2160720" cy="1150920"/>
            <a:chOff x="2987640" y="2205000"/>
            <a:chExt cx="2160720" cy="1150920"/>
          </a:xfrm>
        </p:grpSpPr>
        <p:sp>
          <p:nvSpPr>
            <p:cNvPr id="93" name="Line 9"/>
            <p:cNvSpPr/>
            <p:nvPr/>
          </p:nvSpPr>
          <p:spPr>
            <a:xfrm>
              <a:off x="2987640" y="2205000"/>
              <a:ext cx="2160720" cy="1150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2987640" y="2205000"/>
              <a:ext cx="2160720" cy="11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059280" y="3357720"/>
            <a:ext cx="2089080" cy="1871640"/>
            <a:chOff x="3059280" y="3357720"/>
            <a:chExt cx="2089080" cy="1871640"/>
          </a:xfrm>
        </p:grpSpPr>
        <p:sp>
          <p:nvSpPr>
            <p:cNvPr id="96" name="Line 10"/>
            <p:cNvSpPr/>
            <p:nvPr/>
          </p:nvSpPr>
          <p:spPr>
            <a:xfrm>
              <a:off x="3059280" y="3357720"/>
              <a:ext cx="2089080" cy="18716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059280" y="3357720"/>
              <a:ext cx="208908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916360" y="4292640"/>
            <a:ext cx="2160360" cy="360"/>
            <a:chOff x="2916360" y="4292640"/>
            <a:chExt cx="2160360" cy="360"/>
          </a:xfrm>
        </p:grpSpPr>
        <p:sp>
          <p:nvSpPr>
            <p:cNvPr id="99" name="Line 11"/>
            <p:cNvSpPr/>
            <p:nvPr/>
          </p:nvSpPr>
          <p:spPr>
            <a:xfrm>
              <a:off x="2916360" y="4292640"/>
              <a:ext cx="2160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916360" y="4292640"/>
              <a:ext cx="21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059280" y="2276280"/>
            <a:ext cx="2016000" cy="2881080"/>
            <a:chOff x="3059280" y="2276280"/>
            <a:chExt cx="2016000" cy="2881080"/>
          </a:xfrm>
        </p:grpSpPr>
        <p:sp>
          <p:nvSpPr>
            <p:cNvPr id="102" name="Line 12"/>
            <p:cNvSpPr/>
            <p:nvPr/>
          </p:nvSpPr>
          <p:spPr>
            <a:xfrm flipV="1">
              <a:off x="3059280" y="2276280"/>
              <a:ext cx="2016000" cy="28810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 rot="10800000">
              <a:off x="3059280" y="2276280"/>
              <a:ext cx="2016000" cy="28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3"/>
          <p:cNvSpPr/>
          <p:nvPr/>
        </p:nvSpPr>
        <p:spPr>
          <a:xfrm>
            <a:off x="6725160" y="836640"/>
            <a:ext cx="164268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你最喜欢哪个节日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自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羽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丰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勇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"/>
          <p:cNvSpPr/>
          <p:nvPr/>
        </p:nvSpPr>
        <p:spPr>
          <a:xfrm>
            <a:off x="1528560" y="551808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理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敬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border_036"/>
          <p:cNvPicPr/>
          <p:nvPr/>
        </p:nvPicPr>
        <p:blipFill>
          <a:blip r:embed="rId2"/>
          <a:stretch/>
        </p:blipFill>
        <p:spPr>
          <a:xfrm>
            <a:off x="755640" y="1628640"/>
            <a:ext cx="7812000" cy="20163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>
            <a:off x="4284720" y="220500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度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border_035"/>
          <p:cNvPicPr/>
          <p:nvPr/>
        </p:nvPicPr>
        <p:blipFill>
          <a:blip r:embed="rId1"/>
          <a:stretch/>
        </p:blipFill>
        <p:spPr>
          <a:xfrm>
            <a:off x="0" y="404640"/>
            <a:ext cx="8893080" cy="309564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3132000" y="1197000"/>
            <a:ext cx="56880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ǔ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祝     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6" descr="丛林"/>
          <p:cNvPicPr/>
          <p:nvPr/>
        </p:nvPicPr>
        <p:blipFill>
          <a:blip r:embed="rId2"/>
          <a:stretch/>
        </p:blipFill>
        <p:spPr>
          <a:xfrm>
            <a:off x="324000" y="4149720"/>
            <a:ext cx="8569080" cy="244800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4427640" y="1844640"/>
            <a:ext cx="360" cy="360360"/>
            <a:chOff x="4427640" y="1844640"/>
            <a:chExt cx="360" cy="360360"/>
          </a:xfrm>
        </p:grpSpPr>
        <p:sp>
          <p:nvSpPr>
            <p:cNvPr id="232" name="Line 7"/>
            <p:cNvSpPr/>
            <p:nvPr/>
          </p:nvSpPr>
          <p:spPr>
            <a:xfrm>
              <a:off x="4427640" y="184464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4427640" y="184464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88000" y="1916280"/>
            <a:ext cx="360" cy="360360"/>
            <a:chOff x="6588000" y="1916280"/>
            <a:chExt cx="360" cy="360360"/>
          </a:xfrm>
        </p:grpSpPr>
        <p:sp>
          <p:nvSpPr>
            <p:cNvPr id="235" name="Line 8"/>
            <p:cNvSpPr/>
            <p:nvPr/>
          </p:nvSpPr>
          <p:spPr>
            <a:xfrm>
              <a:off x="6588000" y="1916280"/>
              <a:ext cx="0" cy="360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6588000" y="1916280"/>
              <a:ext cx="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border_036"/>
          <p:cNvPicPr/>
          <p:nvPr/>
        </p:nvPicPr>
        <p:blipFill>
          <a:blip r:embed="rId2"/>
          <a:stretch/>
        </p:blipFill>
        <p:spPr>
          <a:xfrm>
            <a:off x="0" y="1450800"/>
            <a:ext cx="9325080" cy="34182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5"/>
          <p:cNvSpPr/>
          <p:nvPr/>
        </p:nvSpPr>
        <p:spPr>
          <a:xfrm>
            <a:off x="2987640" y="2060640"/>
            <a:ext cx="6156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找出文中和“快乐的节日‘格式一样的短语，用横线划出来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60020113"/>
          <p:cNvPicPr/>
          <p:nvPr/>
        </p:nvPicPr>
        <p:blipFill>
          <a:blip r:embed="rId1"/>
          <a:stretch/>
        </p:blipFill>
        <p:spPr>
          <a:xfrm>
            <a:off x="900000" y="0"/>
            <a:ext cx="698508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324000" y="126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09520" y="46450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771640" y="3716280"/>
            <a:ext cx="2592360" cy="360"/>
            <a:chOff x="2771640" y="3716280"/>
            <a:chExt cx="2592360" cy="360"/>
          </a:xfrm>
        </p:grpSpPr>
        <p:sp>
          <p:nvSpPr>
            <p:cNvPr id="244" name="Line 7"/>
            <p:cNvSpPr/>
            <p:nvPr/>
          </p:nvSpPr>
          <p:spPr>
            <a:xfrm>
              <a:off x="2771640" y="3716280"/>
              <a:ext cx="2592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2771640" y="3716280"/>
              <a:ext cx="25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771640" y="4076640"/>
            <a:ext cx="2448000" cy="360"/>
            <a:chOff x="2771640" y="4076640"/>
            <a:chExt cx="2448000" cy="360"/>
          </a:xfrm>
        </p:grpSpPr>
        <p:sp>
          <p:nvSpPr>
            <p:cNvPr id="247" name="Line 8"/>
            <p:cNvSpPr/>
            <p:nvPr/>
          </p:nvSpPr>
          <p:spPr>
            <a:xfrm>
              <a:off x="2771640" y="4076640"/>
              <a:ext cx="24480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2771640" y="4076640"/>
              <a:ext cx="2448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矩形 6"/>
          <p:cNvSpPr/>
          <p:nvPr/>
        </p:nvSpPr>
        <p:spPr>
          <a:xfrm>
            <a:off x="5435640" y="6075360"/>
            <a:ext cx="26654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2010631610378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60020115"/>
          <p:cNvPicPr/>
          <p:nvPr/>
        </p:nvPicPr>
        <p:blipFill>
          <a:blip r:embed="rId1"/>
          <a:stretch/>
        </p:blipFill>
        <p:spPr>
          <a:xfrm>
            <a:off x="4500720" y="-28440"/>
            <a:ext cx="4427280" cy="6886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60020114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4"/>
          <p:cNvSpPr/>
          <p:nvPr/>
        </p:nvSpPr>
        <p:spPr>
          <a:xfrm>
            <a:off x="497520" y="25653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4500720" y="234936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692360" y="2997360"/>
            <a:ext cx="1366920" cy="360"/>
            <a:chOff x="1692360" y="2997360"/>
            <a:chExt cx="1366920" cy="360"/>
          </a:xfrm>
        </p:grpSpPr>
        <p:sp>
          <p:nvSpPr>
            <p:cNvPr id="255" name="Line 6"/>
            <p:cNvSpPr/>
            <p:nvPr/>
          </p:nvSpPr>
          <p:spPr>
            <a:xfrm>
              <a:off x="1692360" y="2997360"/>
              <a:ext cx="136692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1692360" y="2997360"/>
              <a:ext cx="136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076720" y="3213000"/>
            <a:ext cx="1366920" cy="360"/>
            <a:chOff x="5076720" y="3213000"/>
            <a:chExt cx="1366920" cy="360"/>
          </a:xfrm>
        </p:grpSpPr>
        <p:sp>
          <p:nvSpPr>
            <p:cNvPr id="258" name="Line 7"/>
            <p:cNvSpPr/>
            <p:nvPr/>
          </p:nvSpPr>
          <p:spPr>
            <a:xfrm>
              <a:off x="5076720" y="3213000"/>
              <a:ext cx="136692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5076720" y="3213000"/>
              <a:ext cx="1366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003640" y="3645000"/>
            <a:ext cx="1513080" cy="360"/>
            <a:chOff x="5003640" y="3645000"/>
            <a:chExt cx="1513080" cy="360"/>
          </a:xfrm>
        </p:grpSpPr>
        <p:sp>
          <p:nvSpPr>
            <p:cNvPr id="261" name="Line 8"/>
            <p:cNvSpPr/>
            <p:nvPr/>
          </p:nvSpPr>
          <p:spPr>
            <a:xfrm>
              <a:off x="5003640" y="3645000"/>
              <a:ext cx="15130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5003640" y="3645000"/>
              <a:ext cx="151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7164360" y="4076640"/>
            <a:ext cx="1368360" cy="360"/>
            <a:chOff x="7164360" y="4076640"/>
            <a:chExt cx="1368360" cy="360"/>
          </a:xfrm>
        </p:grpSpPr>
        <p:sp>
          <p:nvSpPr>
            <p:cNvPr id="264" name="Line 9"/>
            <p:cNvSpPr/>
            <p:nvPr/>
          </p:nvSpPr>
          <p:spPr>
            <a:xfrm>
              <a:off x="7164360" y="4076640"/>
              <a:ext cx="136836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7164360" y="4076640"/>
              <a:ext cx="136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9" descr="20097923555495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395280" y="1413000"/>
            <a:ext cx="83995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节日（　　）的红领巾　（　　）的衣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祖国（　　）的老师　（　　）的伙伴（　　）的时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WordArt 7"/>
          <p:cNvSpPr txBox="1"/>
          <p:nvPr/>
        </p:nvSpPr>
        <p:spPr>
          <a:xfrm>
            <a:off x="2627280" y="549360"/>
            <a:ext cx="3657600" cy="67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你能正确填写吗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20097923555495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395280" y="1773360"/>
            <a:ext cx="8399520" cy="2837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快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节日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鲜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红领巾　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美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衣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可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祖国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敬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老师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亲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伙伴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快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的时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4"/>
          <p:cNvSpPr txBox="1"/>
          <p:nvPr/>
        </p:nvSpPr>
        <p:spPr>
          <a:xfrm>
            <a:off x="2627280" y="549360"/>
            <a:ext cx="3657600" cy="672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你能正确填写吗？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200979235554956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395280" y="1413000"/>
            <a:ext cx="8399520" cy="5031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球赛（　　）的荷叶　（　　）的松果（　　）的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乌鸦（　　）的天气（　　）的眼睛（　　）的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　　）的浪花（　　）的太阳（　　）的贝壳（　　）的夏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6"/>
          <p:cNvSpPr txBox="1"/>
          <p:nvPr/>
        </p:nvSpPr>
        <p:spPr>
          <a:xfrm>
            <a:off x="684360" y="26028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还会填吗？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天空"/>
          <p:cNvPicPr/>
          <p:nvPr/>
        </p:nvPicPr>
        <p:blipFill>
          <a:blip r:embed="rId1"/>
          <a:stretch/>
        </p:blipFill>
        <p:spPr>
          <a:xfrm>
            <a:off x="0" y="0"/>
            <a:ext cx="9325080" cy="67802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3" descr="border_036"/>
          <p:cNvPicPr/>
          <p:nvPr/>
        </p:nvPicPr>
        <p:blipFill>
          <a:blip r:embed="rId2"/>
          <a:stretch/>
        </p:blipFill>
        <p:spPr>
          <a:xfrm>
            <a:off x="0" y="1450800"/>
            <a:ext cx="9325080" cy="34182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2987640" y="2060640"/>
            <a:ext cx="61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你从文中的哪些地方感受到了节日的“快乐”？用波浪线划一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8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2009414022499882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2124000" y="105264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鸟在前面带路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风儿吹着我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春天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花园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来到草地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鲜艳的红领巾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美丽的衣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像朵朵花儿开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468360" y="260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5"/>
          <p:cNvSpPr/>
          <p:nvPr/>
        </p:nvSpPr>
        <p:spPr>
          <a:xfrm>
            <a:off x="2195640" y="580536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6"/>
          <p:cNvSpPr/>
          <p:nvPr/>
        </p:nvSpPr>
        <p:spPr>
          <a:xfrm>
            <a:off x="2195640" y="508464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2124000" y="371628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2016000" y="981000"/>
            <a:ext cx="7128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花儿向我们点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小溪欢快地流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向我们祝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向我们歌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它们好像在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这个世界上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更加美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有我们就充满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468360" y="33336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5"/>
          <p:cNvSpPr/>
          <p:nvPr/>
        </p:nvSpPr>
        <p:spPr>
          <a:xfrm>
            <a:off x="2268360" y="234936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"/>
          <p:cNvSpPr/>
          <p:nvPr/>
        </p:nvSpPr>
        <p:spPr>
          <a:xfrm>
            <a:off x="2340000" y="5734080"/>
            <a:ext cx="374328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7"/>
          <p:cNvSpPr/>
          <p:nvPr/>
        </p:nvSpPr>
        <p:spPr>
          <a:xfrm>
            <a:off x="2268360" y="6381720"/>
            <a:ext cx="381636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3"/>
          <p:cNvSpPr/>
          <p:nvPr/>
        </p:nvSpPr>
        <p:spPr>
          <a:xfrm>
            <a:off x="2891520" y="1268280"/>
            <a:ext cx="3533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亲爱的祖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让我们自由地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像小鸟一样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身上的羽毛长得丰满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就勇敢地向着天空飞翔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飞向我们的理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468360" y="26028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"/>
          <p:cNvSpPr/>
          <p:nvPr/>
        </p:nvSpPr>
        <p:spPr>
          <a:xfrm>
            <a:off x="2700360" y="2637000"/>
            <a:ext cx="3095640" cy="14256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6"/>
          <p:cNvSpPr/>
          <p:nvPr/>
        </p:nvSpPr>
        <p:spPr>
          <a:xfrm>
            <a:off x="2050920" y="537372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1870200" y="1700280"/>
            <a:ext cx="727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唱啊，跳哇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敬爱的老师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亲爱的伙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一起度过这快乐的时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755640" y="62064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5"/>
          <p:cNvSpPr/>
          <p:nvPr/>
        </p:nvSpPr>
        <p:spPr>
          <a:xfrm>
            <a:off x="1979640" y="2349360"/>
            <a:ext cx="3095640" cy="14292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6"/>
          <p:cNvSpPr/>
          <p:nvPr/>
        </p:nvSpPr>
        <p:spPr>
          <a:xfrm>
            <a:off x="3564000" y="4437000"/>
            <a:ext cx="4392720" cy="69840"/>
          </a:xfrm>
          <a:custGeom>
            <a:avLst/>
            <a:gdLst/>
            <a:ahLst/>
            <a:rect l="l" t="t" r="r" b="b"/>
            <a:pathLst>
              <a:path w="1905" h="151">
                <a:moveTo>
                  <a:pt x="0" y="143"/>
                </a:moveTo>
                <a:cubicBezTo>
                  <a:pt x="30" y="78"/>
                  <a:pt x="60" y="14"/>
                  <a:pt x="90" y="7"/>
                </a:cubicBezTo>
                <a:cubicBezTo>
                  <a:pt x="120" y="0"/>
                  <a:pt x="151" y="98"/>
                  <a:pt x="181" y="98"/>
                </a:cubicBezTo>
                <a:cubicBezTo>
                  <a:pt x="211" y="98"/>
                  <a:pt x="242" y="7"/>
                  <a:pt x="272" y="7"/>
                </a:cubicBezTo>
                <a:cubicBezTo>
                  <a:pt x="302" y="7"/>
                  <a:pt x="333" y="98"/>
                  <a:pt x="363" y="98"/>
                </a:cubicBezTo>
                <a:cubicBezTo>
                  <a:pt x="393" y="98"/>
                  <a:pt x="423" y="7"/>
                  <a:pt x="453" y="7"/>
                </a:cubicBezTo>
                <a:cubicBezTo>
                  <a:pt x="483" y="7"/>
                  <a:pt x="514" y="90"/>
                  <a:pt x="544" y="98"/>
                </a:cubicBezTo>
                <a:cubicBezTo>
                  <a:pt x="574" y="106"/>
                  <a:pt x="620" y="68"/>
                  <a:pt x="635" y="53"/>
                </a:cubicBezTo>
                <a:cubicBezTo>
                  <a:pt x="650" y="38"/>
                  <a:pt x="620" y="0"/>
                  <a:pt x="635" y="7"/>
                </a:cubicBezTo>
                <a:cubicBezTo>
                  <a:pt x="650" y="14"/>
                  <a:pt x="696" y="98"/>
                  <a:pt x="726" y="98"/>
                </a:cubicBezTo>
                <a:cubicBezTo>
                  <a:pt x="756" y="98"/>
                  <a:pt x="786" y="7"/>
                  <a:pt x="816" y="7"/>
                </a:cubicBezTo>
                <a:cubicBezTo>
                  <a:pt x="846" y="7"/>
                  <a:pt x="884" y="98"/>
                  <a:pt x="907" y="98"/>
                </a:cubicBezTo>
                <a:cubicBezTo>
                  <a:pt x="930" y="98"/>
                  <a:pt x="929" y="0"/>
                  <a:pt x="952" y="7"/>
                </a:cubicBezTo>
                <a:cubicBezTo>
                  <a:pt x="975" y="14"/>
                  <a:pt x="1013" y="135"/>
                  <a:pt x="1043" y="143"/>
                </a:cubicBezTo>
                <a:cubicBezTo>
                  <a:pt x="1073" y="151"/>
                  <a:pt x="1104" y="53"/>
                  <a:pt x="1134" y="53"/>
                </a:cubicBezTo>
                <a:cubicBezTo>
                  <a:pt x="1164" y="53"/>
                  <a:pt x="1194" y="143"/>
                  <a:pt x="1224" y="143"/>
                </a:cubicBezTo>
                <a:cubicBezTo>
                  <a:pt x="1254" y="143"/>
                  <a:pt x="1285" y="53"/>
                  <a:pt x="1315" y="53"/>
                </a:cubicBezTo>
                <a:cubicBezTo>
                  <a:pt x="1345" y="53"/>
                  <a:pt x="1383" y="143"/>
                  <a:pt x="1406" y="143"/>
                </a:cubicBezTo>
                <a:cubicBezTo>
                  <a:pt x="1429" y="143"/>
                  <a:pt x="1428" y="53"/>
                  <a:pt x="1451" y="53"/>
                </a:cubicBezTo>
                <a:cubicBezTo>
                  <a:pt x="1474" y="53"/>
                  <a:pt x="1512" y="151"/>
                  <a:pt x="1542" y="143"/>
                </a:cubicBezTo>
                <a:cubicBezTo>
                  <a:pt x="1572" y="135"/>
                  <a:pt x="1610" y="7"/>
                  <a:pt x="1633" y="7"/>
                </a:cubicBezTo>
                <a:cubicBezTo>
                  <a:pt x="1656" y="7"/>
                  <a:pt x="1655" y="143"/>
                  <a:pt x="1678" y="143"/>
                </a:cubicBezTo>
                <a:cubicBezTo>
                  <a:pt x="1701" y="143"/>
                  <a:pt x="1739" y="14"/>
                  <a:pt x="1769" y="7"/>
                </a:cubicBezTo>
                <a:cubicBezTo>
                  <a:pt x="1799" y="0"/>
                  <a:pt x="1836" y="98"/>
                  <a:pt x="1859" y="98"/>
                </a:cubicBezTo>
                <a:cubicBezTo>
                  <a:pt x="1882" y="98"/>
                  <a:pt x="1897" y="22"/>
                  <a:pt x="1905" y="7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60020114"/>
          <p:cNvPicPr/>
          <p:nvPr/>
        </p:nvPicPr>
        <p:blipFill>
          <a:blip r:embed="rId2"/>
          <a:stretch/>
        </p:blipFill>
        <p:spPr>
          <a:xfrm>
            <a:off x="2771640" y="1025640"/>
            <a:ext cx="3918240" cy="5832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60020113"/>
          <p:cNvPicPr/>
          <p:nvPr/>
        </p:nvPicPr>
        <p:blipFill>
          <a:blip r:embed="rId3"/>
          <a:stretch/>
        </p:blipFill>
        <p:spPr>
          <a:xfrm>
            <a:off x="0" y="0"/>
            <a:ext cx="3583080" cy="51116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60020115"/>
          <p:cNvPicPr/>
          <p:nvPr/>
        </p:nvPicPr>
        <p:blipFill>
          <a:blip r:embed="rId4"/>
          <a:stretch/>
        </p:blipFill>
        <p:spPr>
          <a:xfrm>
            <a:off x="5796000" y="0"/>
            <a:ext cx="3703680" cy="5761080"/>
          </a:xfrm>
          <a:prstGeom prst="rect">
            <a:avLst/>
          </a:prstGeom>
          <a:ln w="0">
            <a:noFill/>
          </a:ln>
        </p:spPr>
      </p:pic>
      <p:pic>
        <p:nvPicPr>
          <p:cNvPr id="304" name="快乐的节日(1).mp3" descr=""/>
          <p:cNvPicPr/>
          <p:nvPr/>
        </p:nvPicPr>
        <p:blipFill>
          <a:blip r:embed="rId5"/>
          <a:stretch/>
        </p:blipFill>
        <p:spPr>
          <a:xfrm>
            <a:off x="900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5" dur="125784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20100612125657_n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07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吹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  <a:ea typeface="宋体"/>
              </a:rPr>
              <a:t>chuī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5"/>
          <p:cNvSpPr/>
          <p:nvPr/>
        </p:nvSpPr>
        <p:spPr>
          <a:xfrm>
            <a:off x="5475960" y="594000"/>
            <a:ext cx="127800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牛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吹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2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  <a:ea typeface="宋体"/>
              </a:rPr>
              <a:t>dì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5475960" y="596880"/>
            <a:ext cx="1278000" cy="58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土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地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"/>
          <p:cNvSpPr/>
          <p:nvPr/>
        </p:nvSpPr>
        <p:spPr>
          <a:xfrm>
            <a:off x="593280" y="5518080"/>
            <a:ext cx="3516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16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8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老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33cc"/>
                </a:solidFill>
                <a:latin typeface="Comic Sans MS"/>
                <a:ea typeface="宋体"/>
              </a:rPr>
              <a:t>l</a:t>
            </a:r>
            <a:r>
              <a:rPr b="1" lang="en-US" sz="9600" spc="-1" strike="noStrike">
                <a:solidFill>
                  <a:srgbClr val="0033cc"/>
                </a:solidFill>
                <a:latin typeface="Arial"/>
                <a:ea typeface="宋体"/>
              </a:rPr>
              <a:t>ǎ</a:t>
            </a:r>
            <a:r>
              <a:rPr b="1" lang="en-US" sz="9600" spc="-1" strike="noStrike">
                <a:solidFill>
                  <a:srgbClr val="0033cc"/>
                </a:solidFill>
                <a:latin typeface="Comic Sans MS"/>
                <a:ea typeface="宋体"/>
              </a:rPr>
              <a:t>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"/>
          <p:cNvSpPr/>
          <p:nvPr/>
        </p:nvSpPr>
        <p:spPr>
          <a:xfrm>
            <a:off x="5520960" y="-1800"/>
            <a:ext cx="1337400" cy="66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年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D065-EF43-497E-8CEF-0D940E8266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7" name="Text Box 13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师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4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  <a:ea typeface="宋体"/>
              </a:rPr>
              <a:t>shí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5475960" y="733320"/>
            <a:ext cx="1278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老师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师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5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042920" y="318996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每年六月一日是国际儿童节，又称儿童节、六一儿童节。六一儿童节是全世界少年儿童的节日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1" name="Text Box 14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快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  <a:ea typeface="宋体"/>
              </a:rPr>
              <a:t>kuà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5478120" y="733320"/>
            <a:ext cx="13374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飞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200941402249988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533520" y="1752480"/>
          <a:ext cx="3504960" cy="3505320"/>
        </p:xfrm>
        <a:graphic>
          <a:graphicData uri="http://schemas.openxmlformats.org/drawingml/2006/table">
            <a:tbl>
              <a:tblPr/>
              <a:tblGrid>
                <a:gridCol w="1714320"/>
                <a:gridCol w="1790640"/>
              </a:tblGrid>
              <a:tr h="1712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0000"/>
                      </a:solidFill>
                    </a:lnL>
                    <a:lnR w="13680">
                      <a:solidFill>
                        <a:srgbClr val="ff0000"/>
                      </a:solidFill>
                    </a:lnR>
                    <a:lnT w="13680">
                      <a:solidFill>
                        <a:srgbClr val="ff0000"/>
                      </a:solidFill>
                    </a:lnT>
                    <a:lnB w="13680">
                      <a:solidFill>
                        <a:srgbClr val="ff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14"/>
          <p:cNvSpPr/>
          <p:nvPr/>
        </p:nvSpPr>
        <p:spPr>
          <a:xfrm>
            <a:off x="1303200" y="1371600"/>
            <a:ext cx="2009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0" spc="-1" strike="noStrike">
                <a:solidFill>
                  <a:srgbClr val="000000"/>
                </a:solidFill>
                <a:latin typeface="Arial"/>
                <a:ea typeface="楷体_GB2312"/>
              </a:rPr>
              <a:t>乐</a:t>
            </a:r>
            <a:endParaRPr b="0" lang="en-US" sz="2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762120" y="228600"/>
            <a:ext cx="302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omic Sans MS"/>
                <a:ea typeface="宋体"/>
              </a:rPr>
              <a:t>l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5328720" y="733320"/>
            <a:ext cx="182664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乐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可乐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乐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快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乐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60020113"/>
          <p:cNvPicPr/>
          <p:nvPr/>
        </p:nvPicPr>
        <p:blipFill>
          <a:blip r:embed="rId1"/>
          <a:stretch/>
        </p:blipFill>
        <p:spPr>
          <a:xfrm>
            <a:off x="-324000" y="77760"/>
            <a:ext cx="4753080" cy="678024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10"/>
          <p:cNvSpPr/>
          <p:nvPr/>
        </p:nvSpPr>
        <p:spPr>
          <a:xfrm>
            <a:off x="3311640" y="-27000"/>
            <a:ext cx="5832360" cy="3456000"/>
          </a:xfrm>
          <a:prstGeom prst="cloudCallout">
            <a:avLst>
              <a:gd name="adj1" fmla="val -44013"/>
              <a:gd name="adj2" fmla="val 2749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067280" y="404640"/>
            <a:ext cx="489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读课文，标出小节序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圈出本课生字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24000" y="1268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209520" y="464508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2843280" y="6021360"/>
            <a:ext cx="151272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60020115"/>
          <p:cNvPicPr/>
          <p:nvPr/>
        </p:nvPicPr>
        <p:blipFill>
          <a:blip r:embed="rId1"/>
          <a:stretch/>
        </p:blipFill>
        <p:spPr>
          <a:xfrm>
            <a:off x="4500720" y="-28440"/>
            <a:ext cx="4427280" cy="6886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60020114"/>
          <p:cNvPicPr/>
          <p:nvPr/>
        </p:nvPicPr>
        <p:blipFill>
          <a:blip r:embed="rId2"/>
          <a:stretch/>
        </p:blipFill>
        <p:spPr>
          <a:xfrm>
            <a:off x="0" y="0"/>
            <a:ext cx="46069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7"/>
          <p:cNvSpPr/>
          <p:nvPr/>
        </p:nvSpPr>
        <p:spPr>
          <a:xfrm>
            <a:off x="497520" y="2565360"/>
            <a:ext cx="48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4500720" y="234936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3:40:3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25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