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06E-015A-439F-A3F0-A29AD5BF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C01-7E72-4B69-B0F0-F524333C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C5CE4-E8C7-45EB-9291-4035CB36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491BD-4967-4F01-AD29-A94FA1B2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A620E-AE22-4B72-AB89-EABED06B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AFFF1-83F7-484A-9AE7-52B30B1D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F88F7-90FC-4DD5-8530-40FFDDC1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1875D-1D63-448E-BAFF-EDF361DD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A3B16-2571-403D-A715-7DED0647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8AFBB-F13F-40BC-8B73-12C479D9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3FFF5-473D-4788-A09C-9868FE17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E0E90-5F49-4F49-AE48-7EBA7553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2C8-D470-4809-BD8A-EAD8A9F1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A88ED-88F8-495E-B296-4FA1A7DC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8734C-6E34-4F13-8BF2-4103DB23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B3497-7092-4AEE-9008-4D17659C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B042F-1E80-4E51-A0BB-B26890A8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25D8C-BDA0-4CC3-9476-B5E4CD18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48B73-80DF-4D98-BEFB-7B46E8E0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33CDB-0F2F-4EF1-9741-AC2A4146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C27EB-81FA-41F0-8FD6-FF6AA9AB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F4AAE-065F-47A5-A4C1-2D7483E9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6D8B4-C2B2-42B5-B347-473A48CB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BDF-58A9-42F9-B850-5579C0CE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FB02F-31BC-4659-AF53-1480271D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37237-723E-4E43-BD0E-FC2432CC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68CFD-4616-4A10-AB46-8D700194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4F633-B27E-497A-B693-49D95474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771E8-BC68-4300-8581-DB3651B4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4EB24-FFAE-4DDC-9ADD-5A7A3CD3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46FEA-7EDA-44E8-B735-A07F6A3D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BE759-DB55-42D1-8627-6854F148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0C988-58C9-48A6-9DA5-52075DB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77FFE-6F1D-4CB3-B5AD-A3034B61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B362-70FA-4236-B4ED-41BB04EE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2E518-5622-443E-B426-77E6BF7D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57F28-489F-4B2D-9FDF-4FCFCACB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76716-C979-47A4-AAB5-9F820A4A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DE8F2-93B5-4246-8E3F-76597C9C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70219-6223-4DA4-BD4E-59625AC2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1EB1D-3E65-4F7A-B423-AD7FDB7B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B0196-2348-48F7-A538-D19EA0C4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80BE5-E51D-45B8-8C4D-8BAC16B6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2536F-DEF3-40F8-8004-12849AC6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18BDE-FABA-4307-B550-7C2A4077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94AC-C7E1-4F40-BC6D-81E40DD4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02671-4476-4AEF-9D66-1945980B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0428F-2C71-46D3-8B6D-1311A4C4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5EBC8-265D-4B3F-A96B-909C7CFA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1C995-2814-4DE6-A416-7B23111E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C043B-803D-4064-A100-C5EEC9F9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0DF87-53B3-488B-9BDC-1E69622A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682FF-911E-4A8C-B821-E39A8B1C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4FD30-C9B5-4A25-9D36-53454A9A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51F2A-F2A3-4E8B-913A-E9ECE21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A667D-B0E4-4F96-98DB-2D7E225F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5B26-58EE-4597-94AF-3BBD8F41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92D4E-5170-4DA4-B8C7-AA078189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5BE9C-1376-40CF-A26E-6F7B02E9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7EC45-473D-4B34-87A5-D75BC3FA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1516E-1F96-41DA-BCDA-7F6FB455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89598-3A32-43B3-8D02-1A91B019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85212-0D72-4BDA-8C7A-0A19401C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E0010-9C2E-4D8C-BB97-13667DF9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0A8A7-15F3-4AC6-804D-D61A20EF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325DD-9F88-4A9E-97BA-0DA40422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E9139-9738-4CEE-9008-8155F0E2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9B5F-7674-4CA4-8737-4111BC9B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3D8A0-2F36-4CE7-8C64-5B913D3A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6C21A-50CE-4640-BD46-3C0F5E23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8B2E9-D620-4156-9DDD-7B66E5BC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D1C01-FC07-474E-B698-ED4D070E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A6F3F-C74F-474F-BF8E-323F0F30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3BF97-5EF6-4DC6-8C85-B7D42EC5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E39E3-9A57-4724-8AB0-7A84D35A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0662D-BEA0-4F26-8899-8100DD82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17445-B8A1-4A31-B8AA-E1840AF5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6A5CB2-BE8A-4619-AB91-1CAD9D64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BAF0-0EC9-45CD-A694-3A04B9A8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B6620F-2175-4FF0-ADAA-E4C5FD46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B239E-4F2F-4C47-B333-6CED64D6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239C3-7F5D-4E98-8081-D3D8B9DC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ED47B1-2DEA-455A-BA2B-DBD878F9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BC092-30C4-46D9-B866-759F5E21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842B7-8D34-43B7-9728-600B458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A29D2-E4B8-4729-94FC-C80EC3AD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FC111-E915-410E-96F1-FED2BDB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7A2E3-B748-40EA-AE82-1EE4E407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D01AF-838E-4925-B8FF-5DCA73CB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3685-F933-44C0-90D3-D78DAC46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5BFE6-6B73-4927-9DDA-CE299E63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F77F-6B84-4BE7-9124-7FCD3BC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059-882E-4767-9DE1-DF21A9FE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93B5-7B0D-43B0-B65A-B2628407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2FD0-8EB4-4C2D-BFAF-A23AF14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658A-287A-43A3-B7BA-1CF91EFF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786E-1D62-4A21-BF40-C0744D8E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5041-B096-42C4-ABE8-5F0E36B0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7DE2-71B7-442B-B35E-A4AF8ECA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5C7A-212A-4E2D-91EE-72D1C846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639E-A3F8-4AB6-BB74-906AF2EC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E7245-10EB-4B03-BE78-110FDF3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83247-E29F-40E8-89A5-52EC99C8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B0C-0E7B-4424-8AA7-787BF9A4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3EDD-AD4C-409B-B191-F49DD7A9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B957-1809-449A-B10D-7CA5D243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EAC1-08FD-461C-899A-B87FA978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BC88-E4BC-495D-A00E-513DB89E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19D0-AB1C-4EB0-9EB7-6F3BF3FF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495C-AFFC-4E1E-B471-FE44262A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9B28-6AAF-45D1-9C75-D5F06955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9F714-22F5-4C83-B085-44B1B545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AE48-749F-498A-A4ED-69F82773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7165-4B5A-437D-B7EA-22F54229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B95-D7D1-4CDC-A56D-17E3CA23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B5927-83CE-4102-9B61-A6A929A7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260E2-CE26-43FE-B62D-CC68318E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D772A-56CF-4778-912A-2DD907EB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EB09C-D78D-4415-B7B1-0D2E5AC6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2771-675E-4588-833F-93165FB5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A63FC-718F-4D5B-9F0E-386B2B89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3BBF4-3144-40FF-A7E1-4BE02855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FF71-889E-440E-8392-10CD6297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0B7A-8B5B-400E-B249-F0BF9939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1CB1E-A4A0-477A-9217-6914F9A7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0AE-CC40-4BAE-837C-4A24F426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8C533-560C-47D9-A928-84D42160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E08A-1915-49B2-9A8A-65AF30CC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5ADD1-A186-4361-B5EF-A3D8FD72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B7799-B861-4C35-AC1A-89A07BCC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D5D1E-A927-41E9-B109-9BFEBEE4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8979-379F-43A8-BC09-524DAC40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86F70-5F79-4AAA-A28B-22A2608F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ECBA3-D2F8-4929-830C-C63C836B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B86ED-5167-42AF-BD37-2AC523A9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5E9FE-DB86-4890-9D38-EDBE9DFE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C0B-81EE-4BC8-9607-11BA01F7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90ABB-98F4-4104-9CFD-9BBE750A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885A-D72E-40FD-BEB9-6BB0FBA1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6A6A0-B896-4782-B45C-5725E991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4C8C0-0D34-4FEB-8A21-E4930305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F0358-7B5E-47C5-9F2A-EBD824DA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EA226-373B-4F62-9D22-0EE012D4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DF082-2837-4BD2-BDA4-D60BCDB5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5C3CF-393C-420E-BC2E-F17EA6FD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7AE0B-66E2-4301-9B29-4BF972AF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5C835-025F-4F58-85DE-9F1C4D1B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921-37ED-456E-A5F7-4704EBF3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99536-9418-4B35-814C-3BC20A06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B0B17-8F9B-40B3-814A-18BFF7A2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B88D0-2120-4005-9F1F-CF45980F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2D4B2-9B07-4000-8DC1-237B2BD7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9CC55-1292-48BA-ADF7-5FE8CC01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430F7-EE36-474F-B0A3-E1D2D581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E0EF8-86AC-4A63-B0A4-E31E25D6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7357C-10EC-46CD-A46A-550ECD3D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EBEBC-CA49-4CEE-B07B-9659C697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8D15A-81C5-41B1-927B-215B9A0C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EE0-C34A-4BD8-8C16-ACF6F509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0FE0F-7EEE-4AA0-AFD9-9893B99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494B9-A524-4A80-B3B8-CA5CABA7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6DC4F-5BC4-4E18-BDEF-772442A1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F4BEE-30EF-4232-A188-233F9755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BAC00-2AD9-473A-B27B-E939F768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04E98-3679-4D35-868A-89176172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64876-1893-443D-9E60-EE042907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57253-A7CB-4BD6-9B55-D1CC606C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0B7C9-28D5-453E-8BBF-0034B18D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8188C-BD1F-40BC-8704-02231EAF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3F1-D639-4C60-BC60-1076F4C9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FB4D5-71B7-4610-BCA7-7546A094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65358-77FA-4408-8320-263899D7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6C257-3661-4C52-A5C4-AA0E2E86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61167-67EC-4EC6-B51D-D7EC806F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60B5A-605B-4E07-ADBC-A5BEFB65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F5E9D-20D9-40D3-B730-AC957B63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3B4B1-E527-441C-99B9-B3F186F4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99705-794D-4272-8E3A-1D4B1AE5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5272D-580C-472D-8DA1-3DD3B355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2B229-433A-48FA-8B32-4CB734B5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3B02-1830-49E7-9AA7-73101A285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FDB5-E71B-4FFE-A5C4-3A11106F3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9CC0-C0E5-45A3-933E-319DE55F4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12AB-CC10-41D7-ACED-D9F54B4C3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EDC8-538F-4238-8AA6-3F808E910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40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41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42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CF61-F3B5-4EE8-848A-553F6371F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6F98-1C94-46DC-8EB3-2572E2EB9D2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950A-8905-4E26-82C0-F0F60674B5F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7E22-CD66-4178-8FA7-82D86FBABC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89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4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95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22440" y="3394080"/>
              <a:ext cx="7840440" cy="360"/>
              <a:chOff x="622440" y="3394080"/>
              <a:chExt cx="7840440" cy="360"/>
            </a:xfrm>
          </p:grpSpPr>
          <p:sp>
            <p:nvSpPr>
              <p:cNvPr id="98" name="Line 16"/>
              <p:cNvSpPr/>
              <p:nvPr/>
            </p:nvSpPr>
            <p:spPr>
              <a:xfrm>
                <a:off x="622440" y="339408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622440" y="3394080"/>
                <a:ext cx="784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2440" y="3470400"/>
              <a:ext cx="7840440" cy="360"/>
              <a:chOff x="622440" y="3470400"/>
              <a:chExt cx="7840440" cy="360"/>
            </a:xfrm>
          </p:grpSpPr>
          <p:sp>
            <p:nvSpPr>
              <p:cNvPr id="101" name="Line 17"/>
              <p:cNvSpPr/>
              <p:nvPr/>
            </p:nvSpPr>
            <p:spPr>
              <a:xfrm>
                <a:off x="622440" y="347040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22440" y="3470400"/>
                <a:ext cx="784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22440" y="3546360"/>
              <a:ext cx="7840440" cy="360"/>
              <a:chOff x="622440" y="3546360"/>
              <a:chExt cx="7840440" cy="360"/>
            </a:xfrm>
          </p:grpSpPr>
          <p:sp>
            <p:nvSpPr>
              <p:cNvPr id="104" name="Line 18"/>
              <p:cNvSpPr/>
              <p:nvPr/>
            </p:nvSpPr>
            <p:spPr>
              <a:xfrm>
                <a:off x="622440" y="354636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622440" y="3546360"/>
                <a:ext cx="784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22440" y="3379680"/>
              <a:ext cx="7840440" cy="360"/>
              <a:chOff x="622440" y="3379680"/>
              <a:chExt cx="7840440" cy="360"/>
            </a:xfrm>
          </p:grpSpPr>
          <p:sp>
            <p:nvSpPr>
              <p:cNvPr id="107" name="Line 19"/>
              <p:cNvSpPr/>
              <p:nvPr/>
            </p:nvSpPr>
            <p:spPr>
              <a:xfrm>
                <a:off x="622440" y="337968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622440" y="3379680"/>
                <a:ext cx="784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22440" y="3456000"/>
              <a:ext cx="7840440" cy="360"/>
              <a:chOff x="622440" y="3456000"/>
              <a:chExt cx="7840440" cy="360"/>
            </a:xfrm>
          </p:grpSpPr>
          <p:sp>
            <p:nvSpPr>
              <p:cNvPr id="110" name="Line 20"/>
              <p:cNvSpPr/>
              <p:nvPr/>
            </p:nvSpPr>
            <p:spPr>
              <a:xfrm>
                <a:off x="622440" y="345600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622440" y="3456000"/>
                <a:ext cx="784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22440" y="3532320"/>
              <a:ext cx="7840440" cy="360"/>
              <a:chOff x="622440" y="3532320"/>
              <a:chExt cx="7840440" cy="360"/>
            </a:xfrm>
          </p:grpSpPr>
          <p:sp>
            <p:nvSpPr>
              <p:cNvPr id="113" name="Line 21"/>
              <p:cNvSpPr/>
              <p:nvPr/>
            </p:nvSpPr>
            <p:spPr>
              <a:xfrm>
                <a:off x="622440" y="353232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622440" y="3532320"/>
                <a:ext cx="784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1679-C42B-4CEF-B9C2-C6DB94C3F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BE95-B908-4F03-B953-66EDDA674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14E1-C569-447A-A648-E16430A3E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A943-5750-422C-9D74-BAD048E58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F1B6-8B0F-4E10-9283-78825BE18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099C-FF18-4265-8DE3-C821F6070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DB0E-F30D-4558-A4C6-0F55BA97F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49" name="Picture 4" descr="D:\Documents\My Pictures\1-1312020QK3548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方正毡笔黑简体"/>
                <a:ea typeface="方正毡笔黑简体"/>
              </a:rPr>
              <a:t>卡罗纳语文课件</a:t>
            </a:r>
            <a:r>
              <a:rPr b="0" lang="en-US" sz="4000" spc="-1" strike="noStrike">
                <a:solidFill>
                  <a:srgbClr val="ff0066"/>
                </a:solidFill>
                <a:latin typeface="方正毡笔黑简体"/>
                <a:ea typeface="方正毡笔黑简体"/>
              </a:rPr>
              <a:t>PPT</a:t>
            </a:r>
            <a:r>
              <a:rPr b="0" lang="zh-CN" sz="4000" spc="-1" strike="noStrike">
                <a:solidFill>
                  <a:srgbClr val="ff0066"/>
                </a:solidFill>
                <a:latin typeface="方正毡笔黑简体"/>
                <a:ea typeface="方正毡笔黑简体"/>
              </a:rPr>
              <a:t>模板下载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eaeaea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收获盘点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11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抓住人物的语言、动作、神情进行细致描写的方法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11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同身受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理解方法 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11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11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是一种能力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一定要学会爱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9" name="AutoShape 6"/>
          <p:cNvSpPr/>
          <p:nvPr/>
        </p:nvSpPr>
        <p:spPr>
          <a:xfrm>
            <a:off x="395280" y="1628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0" name="AutoShape 7"/>
          <p:cNvSpPr/>
          <p:nvPr/>
        </p:nvSpPr>
        <p:spPr>
          <a:xfrm>
            <a:off x="395280" y="3429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1" name="AutoShape 8"/>
          <p:cNvSpPr/>
          <p:nvPr/>
        </p:nvSpPr>
        <p:spPr>
          <a:xfrm>
            <a:off x="395280" y="472428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8"/>
                </a:moveTo>
                <a:lnTo>
                  <a:pt x="367462" y="349271"/>
                </a:lnTo>
                <a:lnTo>
                  <a:pt x="481012" y="0"/>
                </a:lnTo>
                <a:lnTo>
                  <a:pt x="594562" y="349271"/>
                </a:lnTo>
                <a:lnTo>
                  <a:pt x="962023" y="349268"/>
                </a:lnTo>
                <a:lnTo>
                  <a:pt x="664739" y="565127"/>
                </a:lnTo>
                <a:lnTo>
                  <a:pt x="778293" y="914397"/>
                </a:lnTo>
                <a:lnTo>
                  <a:pt x="481012" y="698534"/>
                </a:lnTo>
                <a:lnTo>
                  <a:pt x="183731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92AA-3AC2-4A96-B011-CE699BA5989E}" type="slidenum">
              <a:rPr b="0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作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24000" y="1196640"/>
            <a:ext cx="814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饭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积累本课词语，给每个生字组一到三个词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说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怜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意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菜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１、你能写几个表示伤心难过的成语吗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如果你是卡罗纳，你会对这些爱你的人说什么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今后，若有同学需要你的帮助与关爱，你会怎么做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读读</a:t>
            </a:r>
            <a:r>
              <a:rPr b="0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爱的教育</a:t>
            </a:r>
            <a:r>
              <a:rPr b="0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，把自己的感想写下来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生字词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zāo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　　　　　　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ǐ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　　　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í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遭到    怜悯    叮咛 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　　　   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á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嘱咐     号啕大哭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学法引导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找出描写卡罗纳样子、神态的句子，划下来，想象卡罗纳的心情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找出大家的做法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思考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卡罗纳遭遇到什么不幸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此时的卡罗纳是什么样的呢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文本框 8194"/>
          <p:cNvSpPr/>
          <p:nvPr/>
        </p:nvSpPr>
        <p:spPr>
          <a:xfrm>
            <a:off x="10800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不幸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　　　　　　　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539640" y="1700280"/>
            <a:ext cx="61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面色灰白　　哭红双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走进教室　　放声大哭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看到插图　　号啕大哭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端详同学　　神情悲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372000" y="1699920"/>
            <a:ext cx="2098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Times New Roman"/>
                <a:ea typeface="方正姚体"/>
              </a:rPr>
              <a:t>悲伤过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Times New Roman"/>
                <a:ea typeface="方正姚体"/>
              </a:rPr>
              <a:t>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Times New Roman"/>
                <a:ea typeface="方正姚体"/>
              </a:rPr>
              <a:t>往日回忆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Times New Roman"/>
                <a:ea typeface="方正姚体"/>
              </a:rPr>
              <a:t>触景生情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Times New Roman"/>
                <a:ea typeface="方正姚体"/>
              </a:rPr>
              <a:t>悲从中来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2124000" y="620640"/>
            <a:ext cx="3384720" cy="630360"/>
          </a:xfrm>
          <a:prstGeom prst="rightArrow">
            <a:avLst>
              <a:gd name="adj1" fmla="val 50000"/>
              <a:gd name="adj2" fmla="val 134188"/>
            </a:avLst>
          </a:pr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5796000" y="5666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失去母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5" descr="j0216724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思考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卡罗纳又是幸福的，为什么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大家是怎么做的？你从中受到了什么启发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67" name="Picture 13" descr="j0233018"/>
          <p:cNvPicPr/>
          <p:nvPr/>
        </p:nvPicPr>
        <p:blipFill>
          <a:blip r:embed="rId1"/>
          <a:stretch/>
        </p:blipFill>
        <p:spPr>
          <a:xfrm>
            <a:off x="250920" y="3500280"/>
            <a:ext cx="87138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  <a:ea typeface="隶书"/>
              </a:rPr>
              <a:t>幸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68360" y="1665360"/>
            <a:ext cx="41752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老师对大家说：“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……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同情怜悯　　屏息凝神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老师拥抱、安慰卡罗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老师暗示　　同学关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母亲推“我”“我”恍然大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732360" y="1665360"/>
            <a:ext cx="270036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知道关心同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不知如何表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学会表达关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1" name="AutoShape 7"/>
          <p:cNvSpPr/>
          <p:nvPr/>
        </p:nvSpPr>
        <p:spPr>
          <a:xfrm>
            <a:off x="1042920" y="1484280"/>
            <a:ext cx="486000" cy="4176720"/>
          </a:xfrm>
          <a:prstGeom prst="downArrow">
            <a:avLst>
              <a:gd name="adj1" fmla="val 50000"/>
              <a:gd name="adj2" fmla="val 214852"/>
            </a:avLst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2" name="Rectangle 8"/>
          <p:cNvSpPr/>
          <p:nvPr/>
        </p:nvSpPr>
        <p:spPr>
          <a:xfrm>
            <a:off x="539640" y="58503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众人关爱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AutoShape 9"/>
          <p:cNvSpPr/>
          <p:nvPr/>
        </p:nvSpPr>
        <p:spPr>
          <a:xfrm>
            <a:off x="6012000" y="1557360"/>
            <a:ext cx="792000" cy="4753080"/>
          </a:xfrm>
          <a:prstGeom prst="downArrow">
            <a:avLst>
              <a:gd name="adj1" fmla="val 50000"/>
              <a:gd name="adj2" fmla="val 150006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隶书"/>
              </a:rPr>
              <a:t>　“我”学会如何关爱他人的过程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493120" cy="613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把自己当作卡罗纳或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深入体会人物情感，并记录自己的感想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AutoShape 7"/>
          <p:cNvSpPr/>
          <p:nvPr/>
        </p:nvSpPr>
        <p:spPr>
          <a:xfrm>
            <a:off x="468360" y="836640"/>
            <a:ext cx="151128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6002f"/>
              </a:gs>
              <a:gs pos="50000">
                <a:srgbClr val="ff0066"/>
              </a:gs>
              <a:gs pos="100000">
                <a:srgbClr val="76002f"/>
              </a:gs>
            </a:gsLst>
            <a:lin ang="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6" name="文本框 8194"/>
          <p:cNvSpPr/>
          <p:nvPr/>
        </p:nvSpPr>
        <p:spPr>
          <a:xfrm>
            <a:off x="108000" y="6381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09:2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16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