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36E-D843-4967-8D79-106244DE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C1E-7664-46C8-9BCF-B1C8C6A7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91E2-B9C0-4330-AABB-4ACED1D0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A5D7-A16C-4543-B934-FB49D691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3480-C9F0-4B55-B32A-22F86ABE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AF13-D14B-4D97-A394-3199940F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34BC-2AE1-4DB3-BDCB-C60CF827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1E65-9A85-455C-92C2-F54B9C49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05DB-4CAB-4F00-8426-825C34CF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16BF-9A1C-4A87-AE2F-68A64D27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D633-59A7-4F97-85D4-38517AC9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01AD-A426-47D9-A9CB-00109272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ACF8-6B6C-4440-8828-53B90113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6232-4DB3-42D9-B9C0-24D5C8AB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9469-513C-46EF-8184-F27951B5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7769-CEB3-4C3F-8660-12C31A4B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ABDA-0C6F-488A-94A7-B6B67D55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189BC-CE80-4DA2-A984-BE16315E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2D323-B74D-4711-A6CB-29BE33DD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83CFB-249F-46B9-82B8-FE862398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889D5-DCD2-4D10-B013-75257191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63A36-9253-4545-BA1A-8298FA04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BF43-F172-4B9D-AC3F-81D0A173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F2B62-DBFF-45C4-8906-15EEC970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345EF-FF71-443D-A910-E930089D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6A268-8916-4361-B09D-2BCB6367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B5A37-BD37-4517-A0E2-A72B0737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E160D-089D-442D-B116-79A523FA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C7786-BCAE-43FC-83CB-C10ADA16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E71B3-8A94-430E-8B09-629AA159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721A-4278-4CF4-8CA4-D409D89F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C764-044B-4F5A-96DA-F3D2AB9B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E47-95BE-44F0-A0CE-2EFBFEC7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189E-0A3A-44ED-8561-A25C62F9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6E64-0253-46B1-BCF5-FB9EBF48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9ED-F57C-4ADD-AE00-8919BF18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98EC-A902-42AC-B178-4119DB3570C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867F-470C-4060-B0EB-72BB58AF6F1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A574-92FD-41E3-A3F6-373FA70F8D9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9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890C-3CE1-485A-9414-273533FBDF77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5"/>
          <p:cNvSpPr/>
          <p:nvPr/>
        </p:nvSpPr>
        <p:spPr>
          <a:xfrm>
            <a:off x="1692360" y="981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584000" y="40464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跨越海峡的生命桥新课标课件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模板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文本框 6155"/>
          <p:cNvSpPr/>
          <p:nvPr/>
        </p:nvSpPr>
        <p:spPr>
          <a:xfrm>
            <a:off x="1692360" y="63817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d4ed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ccd4ed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395280" y="1268280"/>
          <a:ext cx="8282160" cy="4572000"/>
        </p:xfrm>
        <a:graphic>
          <a:graphicData uri="http://schemas.openxmlformats.org/drawingml/2006/table">
            <a:tbl>
              <a:tblPr/>
              <a:tblGrid>
                <a:gridCol w="2251080"/>
                <a:gridCol w="6031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0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捐髓者进无菌室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39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捐髓者全身麻醉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8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抽骨髓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历时约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小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钟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骨髓交给负责护送的义工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0 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抵台北机场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0 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抵香港机场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9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抵上海机场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骨髓运到杭州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开始骨髓移植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31"/>
          <p:cNvSpPr/>
          <p:nvPr/>
        </p:nvSpPr>
        <p:spPr>
          <a:xfrm>
            <a:off x="324000" y="47628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骨髓移植时间表</a:t>
            </a: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Picture 32" descr="pic_115001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411000" y="1295280"/>
            <a:ext cx="1870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一位青年躺在病床上，等候着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他来抽取骨髓。就在昨天，一场里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氏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7.3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级的大地震袭击了台湾地区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此刻，大地仍在余震中摇晃。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5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地震.wmv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400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录象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026440" y="1295280"/>
            <a:ext cx="5325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在这场灾难中，病床上的青年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没有受伤，他的家人是否平安无事，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目前还不清楚。但是，他知道，在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海峡的另一边，有一位青年正满怀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着希望，期待着他的骨髓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062800" y="1905120"/>
            <a:ext cx="5087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针头向皮肤刺去，一阵突如其来的余震，使针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头从肌肤里脱落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……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。经过一次又一次的努力，利用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大地震动暂停的间隔，台湾青年的骨髓，终于从身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里涓涓流出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300560" y="2590920"/>
            <a:ext cx="67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宋体"/>
              </a:rPr>
              <a:t>那位青年也静静地躺在病床上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24000" y="533520"/>
            <a:ext cx="88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李博士就是台湾的骨髓移植专家李政道博士，被医学界誉为“血清之父”的李政道教授是当代国际著名的骨髓移植配型专家。李政道出生于台湾，他是那样令人尊敬，１９９３年１０月他主持创办了台湾慈济骨髓捐献中心，征集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分骨髓样本，成为全球最大的华人骨髓库，救助了众多的白血病患者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00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日，他第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次携带着台湾同胞捐献的骨髓来到大陆。让我们记住这位可敬的老人！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4" name="Picture 3" descr="j16p3"/>
          <p:cNvPicPr/>
          <p:nvPr/>
        </p:nvPicPr>
        <p:blipFill>
          <a:blip r:embed="rId1"/>
          <a:stretch/>
        </p:blipFill>
        <p:spPr>
          <a:xfrm>
            <a:off x="4368960" y="3933720"/>
            <a:ext cx="43941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179080" y="2133720"/>
            <a:ext cx="4766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在同一时刻，海峡彼岸的台湾花莲慈济医院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骨髓移植专家李博士正步履匆匆地走进手术室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2134080" y="1905120"/>
            <a:ext cx="5301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针头向皮肤刺去，一阵突如其来的余震，使针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头从肌肤里脱落，李博士不得不停止工作。此时此刻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跑到空旷的地方才比较安全。但是，李博士仍沉着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站在病床旁，那位青年也静静地躺在病床上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38088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宋体"/>
              </a:rPr>
              <a:t>         </a:t>
            </a: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骨髓的保存期只有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24</a:t>
            </a: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小时。李博士带着刚抽取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骨髓，经过十几个小时的奔波，赶到杭州，和当地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医护人员一起连夜为小钱做了骨髓移植手术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762120" y="137160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第一棵树上结了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80</a:t>
            </a: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个苹果，第二棵树上结了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100</a:t>
            </a: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个苹果，第三棵树上结了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150</a:t>
            </a: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个苹果。现在你来到了苹果树下，要和你的对手比赛谁摘的苹果多，我们假设你们采摘的速度一样快，你先摘哪一个树上的苹果？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0948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宋体"/>
              </a:rPr>
              <a:t>            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小钱得救了。两岸骨肉同胞用爱心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架起了一座跨越海峡的生命桥。也许，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小钱和这位台湾青年永远不会见面，这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并不重要，因为两岸同胞的心是连在一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起的。那血脉亲情，如同生命的火种，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必将一代一代传下去。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9" name="200512413415382705.mp3" descr=""/>
          <p:cNvPicPr/>
          <p:nvPr/>
        </p:nvPicPr>
        <p:blipFill>
          <a:blip r:embed="rId1"/>
          <a:stretch/>
        </p:blipFill>
        <p:spPr>
          <a:xfrm>
            <a:off x="8001000" y="5867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8194"/>
          <p:cNvSpPr/>
          <p:nvPr/>
        </p:nvSpPr>
        <p:spPr>
          <a:xfrm>
            <a:off x="1187280" y="508644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663480" y="293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2" name="Picture 3" descr="chinampa1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0920" y="0"/>
            <a:ext cx="8532720" cy="674208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6803640" y="5589720"/>
            <a:ext cx="792720" cy="215640"/>
            <a:chOff x="6803640" y="5589720"/>
            <a:chExt cx="792720" cy="215640"/>
          </a:xfrm>
        </p:grpSpPr>
        <p:sp>
          <p:nvSpPr>
            <p:cNvPr id="174" name="Line 4"/>
            <p:cNvSpPr/>
            <p:nvPr/>
          </p:nvSpPr>
          <p:spPr>
            <a:xfrm flipH="1">
              <a:off x="6803640" y="5589720"/>
              <a:ext cx="792360" cy="21564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6804000" y="5589720"/>
              <a:ext cx="792360" cy="21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732360" y="4005000"/>
            <a:ext cx="1152720" cy="1584360"/>
            <a:chOff x="6732360" y="4005000"/>
            <a:chExt cx="1152720" cy="1584360"/>
          </a:xfrm>
        </p:grpSpPr>
        <p:sp>
          <p:nvSpPr>
            <p:cNvPr id="177" name="Line 5"/>
            <p:cNvSpPr/>
            <p:nvPr/>
          </p:nvSpPr>
          <p:spPr>
            <a:xfrm flipV="1">
              <a:off x="6732720" y="4005000"/>
              <a:ext cx="1152360" cy="158436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 rot="10800000">
              <a:off x="6732360" y="4005000"/>
              <a:ext cx="115236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380000" y="4005360"/>
            <a:ext cx="432000" cy="287280"/>
            <a:chOff x="7380000" y="4005360"/>
            <a:chExt cx="432000" cy="287280"/>
          </a:xfrm>
        </p:grpSpPr>
        <p:sp>
          <p:nvSpPr>
            <p:cNvPr id="180" name="Line 6"/>
            <p:cNvSpPr/>
            <p:nvPr/>
          </p:nvSpPr>
          <p:spPr>
            <a:xfrm flipH="1">
              <a:off x="7380000" y="4005360"/>
              <a:ext cx="431640" cy="28728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7380360" y="4005360"/>
              <a:ext cx="43164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8591-7AB7-413B-81A7-CBA8B8F735D3}" type="slidenum">
              <a:rPr b="0" lang="zh-CN" sz="1400" spc="-1" strike="noStrike">
                <a:solidFill>
                  <a:srgbClr val="5b5249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533520" y="1447920"/>
          <a:ext cx="8281800" cy="4614840"/>
        </p:xfrm>
        <a:graphic>
          <a:graphicData uri="http://schemas.openxmlformats.org/drawingml/2006/table">
            <a:tbl>
              <a:tblPr/>
              <a:tblGrid>
                <a:gridCol w="2250720"/>
                <a:gridCol w="6031080"/>
              </a:tblGrid>
              <a:tr h="560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0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捐髓者进无菌室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3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捐髓者全身麻醉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8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抽骨髓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历时约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小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钟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骨髓交给负责护送的义工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0 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抵台北机场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0 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抵香港机场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9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抵上海机场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骨髓运到杭州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开始骨髓移植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Text Box 31"/>
          <p:cNvSpPr/>
          <p:nvPr/>
        </p:nvSpPr>
        <p:spPr>
          <a:xfrm>
            <a:off x="228600" y="68580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骨髓移植时间表</a:t>
            </a: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609480" y="1981080"/>
            <a:ext cx="78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还是这样三棵苹果树，你又来到了苹果树下，你的对手也是一个孩子，已经几天没有吃饭了，很饿很饿。你和他比赛谁摘的苹果多，你先摘哪一个树上的苹果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057400" y="266688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给予是快乐的！”</a:t>
            </a: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497320" y="198108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Times New Roman"/>
              </a:rPr>
              <a:t>jǐ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520360" y="227664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跨越海峡的生命桥</a:t>
            </a:r>
            <a:endParaRPr b="0" lang="en-US" sz="7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663480" y="293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2" name="Picture 3" descr="chinampa1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0920" y="0"/>
            <a:ext cx="8532720" cy="674208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7467480" y="4419720"/>
            <a:ext cx="152640" cy="533160"/>
            <a:chOff x="7467480" y="4419720"/>
            <a:chExt cx="152640" cy="533160"/>
          </a:xfrm>
        </p:grpSpPr>
        <p:sp>
          <p:nvSpPr>
            <p:cNvPr id="144" name="Line 7"/>
            <p:cNvSpPr/>
            <p:nvPr/>
          </p:nvSpPr>
          <p:spPr>
            <a:xfrm>
              <a:off x="7467480" y="4419720"/>
              <a:ext cx="152640" cy="533160"/>
            </a:xfrm>
            <a:prstGeom prst="line">
              <a:avLst/>
            </a:prstGeom>
            <a:ln w="5724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7467480" y="4419720"/>
              <a:ext cx="15264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38080" y="990720"/>
            <a:ext cx="77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Arial"/>
              </a:rPr>
              <a:t>凋零     含苞     骨髓    绽放</a:t>
            </a:r>
            <a:r>
              <a:rPr b="1" lang="zh-CN" sz="3600" spc="-1" strike="noStrike">
                <a:solidFill>
                  <a:srgbClr val="5b5249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80880" y="26668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宋体"/>
              </a:rPr>
              <a:t>           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这个刚满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18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岁的年轻人，患了严重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的白血病，生命就像即将</a:t>
            </a:r>
            <a:r>
              <a:rPr b="0" lang="zh-CN" sz="3600" spc="-1" strike="noStrike">
                <a:solidFill>
                  <a:srgbClr val="ff5050"/>
                </a:solidFill>
                <a:latin typeface="宋体"/>
              </a:rPr>
              <a:t>凋零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的</a:t>
            </a:r>
            <a:r>
              <a:rPr b="0" lang="zh-CN" sz="3600" spc="-1" strike="noStrike">
                <a:solidFill>
                  <a:srgbClr val="ff5050"/>
                </a:solidFill>
                <a:latin typeface="宋体"/>
              </a:rPr>
              <a:t>含苞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的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花朵，唯有</a:t>
            </a:r>
            <a:r>
              <a:rPr b="0" lang="zh-CN" sz="3600" spc="-1" strike="noStrike">
                <a:solidFill>
                  <a:srgbClr val="ff5050"/>
                </a:solidFill>
                <a:latin typeface="宋体"/>
              </a:rPr>
              <a:t>骨髓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移植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才能使这朵生命之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花</a:t>
            </a:r>
            <a:r>
              <a:rPr b="0" lang="zh-CN" sz="3600" spc="-1" strike="noStrike">
                <a:solidFill>
                  <a:srgbClr val="ff5050"/>
                </a:solidFill>
                <a:latin typeface="宋体"/>
              </a:rPr>
              <a:t>绽放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。</a:t>
            </a:r>
            <a:r>
              <a:rPr b="0" lang="zh-CN" sz="11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838080" y="838080"/>
            <a:ext cx="77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Arial"/>
              </a:rPr>
              <a:t>谈何容易</a:t>
            </a:r>
            <a:r>
              <a:rPr b="1" lang="zh-CN" sz="3600" spc="-1" strike="noStrike">
                <a:solidFill>
                  <a:srgbClr val="5b5249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28600" y="2971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宋体"/>
              </a:rPr>
              <a:t>然而要找到适合的骨髓，又</a:t>
            </a:r>
            <a:r>
              <a:rPr b="0" lang="zh-CN" sz="4000" spc="-1" strike="noStrike">
                <a:solidFill>
                  <a:srgbClr val="ff5050"/>
                </a:solidFill>
                <a:latin typeface="宋体"/>
              </a:rPr>
              <a:t>谈何容易</a:t>
            </a:r>
            <a:r>
              <a:rPr b="0" lang="zh-CN" sz="4000" spc="-1" strike="noStrike">
                <a:solidFill>
                  <a:srgbClr val="5b5249"/>
                </a:solidFill>
                <a:latin typeface="宋体"/>
              </a:rPr>
              <a:t>。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366920" y="114300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Arial"/>
              </a:rPr>
              <a:t>辗转</a:t>
            </a:r>
            <a:r>
              <a:rPr b="1" lang="zh-CN" sz="3600" spc="-1" strike="noStrike">
                <a:solidFill>
                  <a:srgbClr val="5b5249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80880" y="281952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如果没有亲缘关系，大约在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万人里才有可能找到一个有适合骨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髓的人。小钱是幸运的，几经</a:t>
            </a: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辗转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终于在台湾找到这样的人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文本框 8194"/>
          <p:cNvSpPr/>
          <p:nvPr/>
        </p:nvSpPr>
        <p:spPr>
          <a:xfrm>
            <a:off x="1763640" y="2276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4:2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3:04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