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13D0-80CC-482B-A3E4-0F1728087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56BB-21E0-4B06-9D2A-70852B92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1D94-2069-44A2-A1B2-E75349F1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DE37-7239-4F5F-BA6E-ABA39A3A1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5462-2ECE-4002-A8E8-EC5A5DA1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A351-4698-4BCE-9B6B-23C2B7E3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35F6-A086-4821-8F6C-16F85FD1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7D74-E1B4-4151-BD71-46FACFC4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B477-31EE-4CA1-815A-9BDD1E15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E41F-909B-4CD8-B15B-57C5BD60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F6A0-D217-4F4F-A70C-14247343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8269-CBE9-4858-B116-7B141A9A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C5C2-7799-47F6-975A-5FEE4704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A57A-793D-440E-BB54-B6C1EE6F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36F9-FC0F-4A8D-B64D-A076C258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C7E7-62C0-438E-8CA4-46B5A6046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FD80-AEE5-4DDC-A431-5C80D934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43B3-CE9D-429F-B506-56EF3EAC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71C2-9BE4-4BA1-BF06-733F16E8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6B7F-8368-4BA4-8B21-2C9E6790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45B1-6468-440D-992E-0503ED08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6F9B-FD64-406A-841B-C212BD79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763A-1672-4FEA-95C0-5A1027DD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E352-2DDE-4DE8-A0E1-1B28EA61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EE51-56B8-48B6-AEF4-B469A94D8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DA6F-62ED-4EC4-B53E-1BEC72B2659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6D93-D856-4C81-9114-F4E209A7BD7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xinsrc_77e7ae1d04c643f4bbcdf0eeb984a897"/>
          <p:cNvPicPr/>
          <p:nvPr/>
        </p:nvPicPr>
        <p:blipFill>
          <a:blip r:embed="rId2"/>
          <a:stretch/>
        </p:blipFill>
        <p:spPr>
          <a:xfrm>
            <a:off x="2268360" y="189000"/>
            <a:ext cx="4680000" cy="6119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398520" y="4290840"/>
            <a:ext cx="8715240" cy="703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宋体"/>
                <a:ea typeface="宋体"/>
              </a:rPr>
              <a:t>雷锋叔叔，你在哪里课件</a:t>
            </a:r>
            <a:r>
              <a:rPr b="0" lang="en-US" sz="4000" spc="-1" strike="noStrike">
                <a:solidFill>
                  <a:srgbClr val="ffff66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66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623160" y="260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四册第６课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幻灯片之家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http://www.eeppt.com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8" name="Picture 4" descr="xinsrc_dfee777cf30643af866cc21daa3f3ba1"/>
          <p:cNvPicPr/>
          <p:nvPr/>
        </p:nvPicPr>
        <p:blipFill>
          <a:blip r:embed="rId2"/>
          <a:stretch/>
        </p:blipFill>
        <p:spPr>
          <a:xfrm>
            <a:off x="324000" y="549360"/>
            <a:ext cx="3887640" cy="5256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xinsimple_4478460532794efab76df78339771c77"/>
          <p:cNvPicPr/>
          <p:nvPr/>
        </p:nvPicPr>
        <p:blipFill>
          <a:blip r:embed="rId3"/>
          <a:stretch/>
        </p:blipFill>
        <p:spPr>
          <a:xfrm>
            <a:off x="4643280" y="476280"/>
            <a:ext cx="41054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21" name="Picture 4" descr="未标题-2"/>
          <p:cNvPicPr/>
          <p:nvPr/>
        </p:nvPicPr>
        <p:blipFill>
          <a:blip r:embed="rId1"/>
          <a:stretch/>
        </p:blipFill>
        <p:spPr>
          <a:xfrm>
            <a:off x="611280" y="549360"/>
            <a:ext cx="707688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324000" y="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雷锋叔叔牺牲以后，好几位国家领导人为他题词。毛泽东主席的题词是：“向雷锋同志学习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24" name="Picture 3" descr="xinsrc_ee9a555f8bc24a62965ecc6917616d84"/>
          <p:cNvPicPr/>
          <p:nvPr/>
        </p:nvPicPr>
        <p:blipFill>
          <a:blip r:embed="rId1"/>
          <a:stretch/>
        </p:blipFill>
        <p:spPr>
          <a:xfrm>
            <a:off x="539640" y="1819440"/>
            <a:ext cx="3527640" cy="4705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xinsrc_6e2b9b4a75c1451fbb70ef1a88888a13"/>
          <p:cNvPicPr/>
          <p:nvPr/>
        </p:nvPicPr>
        <p:blipFill>
          <a:blip r:embed="rId2"/>
          <a:stretch/>
        </p:blipFill>
        <p:spPr>
          <a:xfrm>
            <a:off x="4716360" y="1844640"/>
            <a:ext cx="3743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179280" y="260280"/>
            <a:ext cx="1022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99"/>
                </a:solidFill>
                <a:latin typeface="Arial"/>
                <a:ea typeface="黑体"/>
              </a:rPr>
              <a:t>哪里需要献出爱心，</a:t>
            </a:r>
            <a:endParaRPr b="0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99"/>
                </a:solidFill>
                <a:latin typeface="Arial"/>
                <a:ea typeface="黑体"/>
              </a:rPr>
              <a:t>雷锋叔叔就出现在哪里</a:t>
            </a:r>
            <a:r>
              <a:rPr b="1" lang="zh-CN" sz="6600" spc="-1" strike="noStrike">
                <a:solidFill>
                  <a:srgbClr val="cc0099"/>
                </a:solidFill>
                <a:latin typeface="Arial"/>
                <a:ea typeface="黑体"/>
              </a:rPr>
              <a:t>。</a:t>
            </a:r>
            <a:endParaRPr b="0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912680" y="350028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  <a:ea typeface="黑体"/>
              </a:rPr>
              <a:t>哪里需要献出爱心，</a:t>
            </a:r>
            <a:endParaRPr b="0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  <a:ea typeface="黑体"/>
              </a:rPr>
              <a:t>我们就出现在哪里。</a:t>
            </a:r>
            <a:endParaRPr b="0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9" name="文本框 8200"/>
          <p:cNvSpPr/>
          <p:nvPr/>
        </p:nvSpPr>
        <p:spPr>
          <a:xfrm>
            <a:off x="1187280" y="26370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eeppt.com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835280" y="0"/>
            <a:ext cx="7057800" cy="86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ccff"/>
                </a:solidFill>
                <a:latin typeface="黑体"/>
                <a:ea typeface="黑体"/>
              </a:rPr>
              <a:t>长长的（　）</a:t>
            </a:r>
            <a:endParaRPr b="0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cc"/>
                </a:solidFill>
                <a:latin typeface="黑体"/>
                <a:ea typeface="黑体"/>
              </a:rPr>
              <a:t>蒙蒙的（　）</a:t>
            </a:r>
            <a:endParaRPr b="0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996633"/>
                </a:solidFill>
                <a:latin typeface="黑体"/>
                <a:ea typeface="黑体"/>
              </a:rPr>
              <a:t>弯弯的（　）</a:t>
            </a:r>
            <a:endParaRPr b="0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黑体"/>
                <a:ea typeface="黑体"/>
              </a:rPr>
              <a:t>晶莹的（　）</a:t>
            </a:r>
            <a:r>
              <a:rPr b="1" lang="zh-CN" sz="8000" spc="-1" strike="noStrike">
                <a:solidFill>
                  <a:srgbClr val="00cc66"/>
                </a:solidFill>
                <a:latin typeface="黑体"/>
                <a:ea typeface="黑体"/>
              </a:rPr>
              <a:t>温暖的（　）</a:t>
            </a:r>
            <a:endParaRPr b="0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95280" y="26028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Arial"/>
                <a:ea typeface="黑体"/>
              </a:rPr>
              <a:t>　　　　　</a:t>
            </a: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黑体"/>
              </a:rPr>
              <a:t>我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黑体"/>
              </a:rPr>
              <a:t>不但在小溪旁、小路边找到了雷锋叔叔，我还在　　　　也找到了雷锋叔叔的足迹。</a:t>
            </a:r>
            <a:r>
              <a:rPr b="1" lang="zh-CN" sz="4400" spc="-1" strike="noStrike" u="sng">
                <a:solidFill>
                  <a:srgbClr val="008000"/>
                </a:solidFill>
                <a:uFillTx/>
                <a:latin typeface="Arial"/>
                <a:ea typeface="黑体"/>
              </a:rPr>
              <a:t>　　　　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1641960" y="3068640"/>
            <a:ext cx="5766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　　　　　需要献出爱心，雷锋叔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叔就出现在　　　　　。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611280" y="501336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  <a:ea typeface="黑体"/>
              </a:rPr>
              <a:t>　　　　需要献出爱心，我们就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  <a:ea typeface="黑体"/>
              </a:rPr>
              <a:t>出现在　　。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227640" y="1557360"/>
            <a:ext cx="2376720" cy="360"/>
            <a:chOff x="6227640" y="1557360"/>
            <a:chExt cx="2376720" cy="360"/>
          </a:xfrm>
        </p:grpSpPr>
        <p:sp>
          <p:nvSpPr>
            <p:cNvPr id="137" name="Line 9"/>
            <p:cNvSpPr/>
            <p:nvPr/>
          </p:nvSpPr>
          <p:spPr>
            <a:xfrm>
              <a:off x="6227640" y="1557360"/>
              <a:ext cx="2376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6227640" y="1557360"/>
              <a:ext cx="23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348000" y="4292640"/>
            <a:ext cx="2376360" cy="360"/>
            <a:chOff x="3348000" y="4292640"/>
            <a:chExt cx="2376360" cy="360"/>
          </a:xfrm>
        </p:grpSpPr>
        <p:sp>
          <p:nvSpPr>
            <p:cNvPr id="140" name="Line 10"/>
            <p:cNvSpPr/>
            <p:nvPr/>
          </p:nvSpPr>
          <p:spPr>
            <a:xfrm>
              <a:off x="3348000" y="4292640"/>
              <a:ext cx="23763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3348000" y="4292640"/>
              <a:ext cx="23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763640" y="3645000"/>
            <a:ext cx="1440000" cy="360"/>
            <a:chOff x="1763640" y="3645000"/>
            <a:chExt cx="1440000" cy="360"/>
          </a:xfrm>
        </p:grpSpPr>
        <p:sp>
          <p:nvSpPr>
            <p:cNvPr id="143" name="Line 11"/>
            <p:cNvSpPr/>
            <p:nvPr/>
          </p:nvSpPr>
          <p:spPr>
            <a:xfrm>
              <a:off x="1763640" y="3645000"/>
              <a:ext cx="14400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1763640" y="3645000"/>
              <a:ext cx="144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663560" y="5661000"/>
            <a:ext cx="1079640" cy="360"/>
            <a:chOff x="1663560" y="5661000"/>
            <a:chExt cx="1079640" cy="360"/>
          </a:xfrm>
        </p:grpSpPr>
        <p:sp>
          <p:nvSpPr>
            <p:cNvPr id="146" name="Line 12"/>
            <p:cNvSpPr/>
            <p:nvPr/>
          </p:nvSpPr>
          <p:spPr>
            <a:xfrm>
              <a:off x="1663560" y="5661000"/>
              <a:ext cx="10796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1663560" y="5661000"/>
              <a:ext cx="107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268360" y="6308640"/>
            <a:ext cx="935280" cy="360"/>
            <a:chOff x="2268360" y="6308640"/>
            <a:chExt cx="935280" cy="360"/>
          </a:xfrm>
        </p:grpSpPr>
        <p:sp>
          <p:nvSpPr>
            <p:cNvPr id="149" name="Line 13"/>
            <p:cNvSpPr/>
            <p:nvPr/>
          </p:nvSpPr>
          <p:spPr>
            <a:xfrm>
              <a:off x="2268360" y="6308640"/>
              <a:ext cx="9352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2268360" y="6308640"/>
              <a:ext cx="935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1" name="Rectangle 14"/>
          <p:cNvSpPr/>
          <p:nvPr/>
        </p:nvSpPr>
        <p:spPr>
          <a:xfrm>
            <a:off x="1774800" y="5013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  <a:ea typeface="黑体"/>
              </a:rPr>
              <a:t>哪里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330640" y="5661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  <a:ea typeface="黑体"/>
              </a:rPr>
              <a:t>哪里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2855160" y="1052640"/>
            <a:ext cx="49860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0000"/>
                </a:solidFill>
                <a:latin typeface="Arial"/>
                <a:ea typeface="楷体_GB2312"/>
              </a:rPr>
              <a:t>滴　洒</a:t>
            </a:r>
            <a:endParaRPr b="0" lang="en-US" sz="17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0000"/>
                </a:solidFill>
                <a:latin typeface="Arial"/>
                <a:ea typeface="楷体_GB2312"/>
              </a:rPr>
              <a:t>泥　泞</a:t>
            </a:r>
            <a:endParaRPr b="0" lang="en-US" sz="1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250920" y="0"/>
            <a:ext cx="3529080" cy="1844640"/>
          </a:xfrm>
          <a:prstGeom prst="cloudCallout">
            <a:avLst>
              <a:gd name="adj1" fmla="val -50180"/>
              <a:gd name="adj2" fmla="val 6093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198800" y="14940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Arial"/>
                <a:ea typeface="黑体"/>
              </a:rPr>
              <a:t>我会写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8" name="Picture 2" descr="背景29"/>
          <p:cNvPicPr/>
          <p:nvPr/>
        </p:nvPicPr>
        <p:blipFill>
          <a:blip r:embed="rId2"/>
          <a:stretch/>
        </p:blipFill>
        <p:spPr>
          <a:xfrm>
            <a:off x="1116000" y="907920"/>
            <a:ext cx="6837480" cy="5141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2874600" y="1922400"/>
            <a:ext cx="37468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33cc"/>
                </a:solidFill>
                <a:latin typeface="Arial"/>
                <a:ea typeface="黑体"/>
              </a:rPr>
              <a:t>谢谢指导</a:t>
            </a:r>
            <a:endParaRPr b="0" lang="en-US" sz="117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1" name="Picture 4" descr="xinsrc_67b76a598d594b529cd69c105dc1f426"/>
          <p:cNvPicPr/>
          <p:nvPr/>
        </p:nvPicPr>
        <p:blipFill>
          <a:blip r:embed="rId1"/>
          <a:stretch/>
        </p:blipFill>
        <p:spPr>
          <a:xfrm>
            <a:off x="900000" y="1268280"/>
            <a:ext cx="7704360" cy="38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3" name="Picture 4" descr="xinsrc_47a4660b40f34e8290880d89958a504d"/>
          <p:cNvPicPr/>
          <p:nvPr/>
        </p:nvPicPr>
        <p:blipFill>
          <a:blip r:embed="rId1"/>
          <a:stretch/>
        </p:blipFill>
        <p:spPr>
          <a:xfrm>
            <a:off x="1692360" y="692280"/>
            <a:ext cx="554508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" name="Text Box 1027"/>
          <p:cNvSpPr/>
          <p:nvPr/>
        </p:nvSpPr>
        <p:spPr>
          <a:xfrm>
            <a:off x="684360" y="198900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99"/>
                </a:solidFill>
                <a:latin typeface="Arial"/>
                <a:ea typeface="黑体"/>
              </a:rPr>
              <a:t>泥泞　脚窝　冒着</a:t>
            </a:r>
            <a:endParaRPr b="0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99"/>
                </a:solidFill>
                <a:latin typeface="Arial"/>
                <a:ea typeface="黑体"/>
              </a:rPr>
              <a:t>曾经　年迈　荆棘</a:t>
            </a:r>
            <a:endParaRPr b="0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99"/>
                </a:solidFill>
                <a:latin typeface="Arial"/>
                <a:ea typeface="黑体"/>
              </a:rPr>
              <a:t>花瓣　晶莹　寻觅</a:t>
            </a:r>
            <a:endParaRPr b="0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99"/>
                </a:solidFill>
                <a:latin typeface="Arial"/>
                <a:ea typeface="黑体"/>
              </a:rPr>
              <a:t>需要　汗滴　洒下</a:t>
            </a:r>
            <a:endParaRPr b="0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AutoShape 1028"/>
          <p:cNvSpPr/>
          <p:nvPr/>
        </p:nvSpPr>
        <p:spPr>
          <a:xfrm>
            <a:off x="2050920" y="0"/>
            <a:ext cx="4176720" cy="1735200"/>
          </a:xfrm>
          <a:prstGeom prst="cloudCallout">
            <a:avLst>
              <a:gd name="adj1" fmla="val -48629"/>
              <a:gd name="adj2" fmla="val 57046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9" name="Text Box 1029"/>
          <p:cNvSpPr/>
          <p:nvPr/>
        </p:nvSpPr>
        <p:spPr>
          <a:xfrm>
            <a:off x="3276360" y="260280"/>
            <a:ext cx="168948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0099"/>
                </a:solidFill>
                <a:latin typeface="Arial"/>
                <a:ea typeface="华文彩云"/>
              </a:rPr>
              <a:t>我会读</a:t>
            </a:r>
            <a:endParaRPr b="0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A5ED-CC76-496C-B6A6-A748571E4AE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9" name="Picture 4" descr="xinsimple_4478460532794efab76df78339771c77"/>
          <p:cNvPicPr/>
          <p:nvPr/>
        </p:nvPicPr>
        <p:blipFill>
          <a:blip r:embed="rId1"/>
          <a:stretch/>
        </p:blipFill>
        <p:spPr>
          <a:xfrm>
            <a:off x="1692360" y="692280"/>
            <a:ext cx="5506920" cy="53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527120" y="127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92" name="Picture 6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8"/>
          <p:cNvSpPr/>
          <p:nvPr/>
        </p:nvSpPr>
        <p:spPr>
          <a:xfrm>
            <a:off x="2368440" y="404640"/>
            <a:ext cx="475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Arial"/>
                <a:ea typeface="黑体"/>
              </a:rPr>
              <a:t>沿着长长的小溪，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Arial"/>
                <a:ea typeface="黑体"/>
              </a:rPr>
              <a:t>寻找雷锋的足迹。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Arial"/>
                <a:ea typeface="黑体"/>
              </a:rPr>
              <a:t>雷锋叔叔，你在哪里，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Arial"/>
                <a:ea typeface="黑体"/>
              </a:rPr>
              <a:t>你在哪里？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1527120" y="127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96" name="Picture 3" descr="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152712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239920" y="836640"/>
            <a:ext cx="52099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ffff"/>
                </a:solidFill>
                <a:latin typeface="Arial"/>
                <a:ea typeface="黑体"/>
              </a:rPr>
              <a:t>沿着弯弯的小路，</a:t>
            </a:r>
            <a:endParaRPr b="0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ffff"/>
                </a:solidFill>
                <a:latin typeface="Arial"/>
                <a:ea typeface="黑体"/>
              </a:rPr>
              <a:t>寻找雷锋的足迹。</a:t>
            </a:r>
            <a:endParaRPr b="0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ffff"/>
                </a:solidFill>
                <a:latin typeface="Arial"/>
                <a:ea typeface="黑体"/>
              </a:rPr>
              <a:t>雷锋叔叔，你在哪里，</a:t>
            </a:r>
            <a:endParaRPr b="0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ffff"/>
                </a:solidFill>
                <a:latin typeface="Arial"/>
                <a:ea typeface="黑体"/>
              </a:rPr>
              <a:t>你在哪里？</a:t>
            </a:r>
            <a:endParaRPr b="0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AutoShape 2"/>
          <p:cNvSpPr/>
          <p:nvPr/>
        </p:nvSpPr>
        <p:spPr>
          <a:xfrm>
            <a:off x="900000" y="404640"/>
            <a:ext cx="7704360" cy="4210200"/>
          </a:xfrm>
          <a:prstGeom prst="cloudCallout">
            <a:avLst>
              <a:gd name="adj1" fmla="val -45199"/>
              <a:gd name="adj2" fmla="val 5776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256200" y="1084320"/>
            <a:ext cx="338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99"/>
                </a:solidFill>
                <a:latin typeface="Arial"/>
                <a:ea typeface="黑体"/>
              </a:rPr>
              <a:t>老师讲故事了，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99"/>
                </a:solidFill>
                <a:latin typeface="Arial"/>
                <a:ea typeface="黑体"/>
              </a:rPr>
              <a:t>我要认真听喔！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" name="AutoShape 3"/>
          <p:cNvSpPr/>
          <p:nvPr/>
        </p:nvSpPr>
        <p:spPr>
          <a:xfrm>
            <a:off x="971640" y="476280"/>
            <a:ext cx="7777080" cy="4392720"/>
          </a:xfrm>
          <a:prstGeom prst="cloudCallout">
            <a:avLst>
              <a:gd name="adj1" fmla="val -49490"/>
              <a:gd name="adj2" fmla="val 41074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583720" y="1557360"/>
            <a:ext cx="444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我头脑中出现了雷锋叔叔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背着年迈的老大娘的样子，我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想讲给你们听，好吗？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79280" y="2133720"/>
            <a:ext cx="1022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99"/>
                </a:solidFill>
                <a:latin typeface="Arial"/>
                <a:ea typeface="黑体"/>
              </a:rPr>
              <a:t>哪里需要献出爱心，</a:t>
            </a:r>
            <a:endParaRPr b="0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99"/>
                </a:solidFill>
                <a:latin typeface="Arial"/>
                <a:ea typeface="黑体"/>
              </a:rPr>
              <a:t>雷锋叔叔就出现在哪里。</a:t>
            </a:r>
            <a:r>
              <a:rPr b="1" lang="zh-CN" sz="6600" spc="-1" strike="noStrike">
                <a:solidFill>
                  <a:srgbClr val="cc3399"/>
                </a:solidFill>
                <a:latin typeface="Arial"/>
                <a:ea typeface="黑体"/>
              </a:rPr>
              <a:t>　　</a:t>
            </a:r>
            <a:endParaRPr b="0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1908000" y="0"/>
            <a:ext cx="6409080" cy="2166840"/>
          </a:xfrm>
          <a:prstGeom prst="cloudCallout">
            <a:avLst>
              <a:gd name="adj1" fmla="val -50643"/>
              <a:gd name="adj2" fmla="val 5425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735720" y="69228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你知道雷锋叔叔的故事吗？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4643280" y="1989000"/>
            <a:ext cx="39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雷锋叔叔是一名解放军战士，只活了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22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岁。他为人民做了许多好事。当时流传这样一句话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雷锋出差一千里，好事做了一火车。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”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1" name="Picture 3" descr="3"/>
          <p:cNvPicPr/>
          <p:nvPr/>
        </p:nvPicPr>
        <p:blipFill>
          <a:blip r:embed="rId2"/>
          <a:stretch/>
        </p:blipFill>
        <p:spPr>
          <a:xfrm>
            <a:off x="179280" y="260280"/>
            <a:ext cx="4176720" cy="62643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5"/>
          <p:cNvSpPr/>
          <p:nvPr/>
        </p:nvSpPr>
        <p:spPr>
          <a:xfrm>
            <a:off x="5003640" y="0"/>
            <a:ext cx="3816360" cy="1735200"/>
          </a:xfrm>
          <a:prstGeom prst="cloudCallout">
            <a:avLst>
              <a:gd name="adj1" fmla="val -42638"/>
              <a:gd name="adj2" fmla="val 6033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940000" y="26028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cc"/>
                </a:solidFill>
                <a:latin typeface="Arial"/>
                <a:ea typeface="黑体"/>
              </a:rPr>
              <a:t>我知道</a:t>
            </a:r>
            <a:endParaRPr b="0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5" name="Picture 1034" descr="2"/>
          <p:cNvPicPr/>
          <p:nvPr/>
        </p:nvPicPr>
        <p:blipFill>
          <a:blip r:embed="rId2"/>
          <a:stretch/>
        </p:blipFill>
        <p:spPr>
          <a:xfrm>
            <a:off x="4716360" y="765000"/>
            <a:ext cx="4140360" cy="5173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35" descr="xinsrc_47a4660b40f34e8290880d89958a504d"/>
          <p:cNvPicPr/>
          <p:nvPr/>
        </p:nvPicPr>
        <p:blipFill>
          <a:blip r:embed="rId3"/>
          <a:stretch/>
        </p:blipFill>
        <p:spPr>
          <a:xfrm>
            <a:off x="250920" y="765000"/>
            <a:ext cx="43210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7:36:1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3:12Z</dcterms:modified>
  <cp:revision>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