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chimes.wav" ContentType="audio/x-wav"/>
  <Override PartName="/ppt/media/image3.jpeg" ContentType="image/jpeg"/>
  <Override PartName="/ppt/media/image4.jpeg" ContentType="image/jpeg"/>
  <Override PartName="/ppt/media/type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4A2-6417-4513-9697-188A5981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108-0A2A-43D0-A6FB-63715632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C9F-85A2-4494-9732-85F56B97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0C0-F43E-407D-A7B1-CAF7B0C4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BD97-2A7E-4E04-9023-B64379FA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2A05-6EAA-4706-BCAE-8F0F5B58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2186-F183-4862-99E0-96E3E83D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C6C9-C0F7-4913-9923-40061E9C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98D5-8345-4257-8E22-5420CE8A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2EA9-FA07-4504-8BED-12CBDC46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184D-B7B9-4727-AD51-2A064407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AF9-8DE3-4D03-BB02-62AF461A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0B2B-811D-4BC7-BBC3-A31DF21E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AE9D-B2F0-420A-BE12-BA820B06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2CD2-C48B-4B2B-8630-CD0CAEB9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F0A4-AD9E-4546-9CDD-D3A6C4C5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6D65-5BEB-4F2F-B1C1-A3EFED2B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288-5CA7-4265-8FA2-55284B25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0E8-D0DA-491C-B251-8D4F4D65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8CF-9547-422A-ACAC-FCD61D2D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37D-6B8F-4189-AF6E-B6F5F0C7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BE6-C780-4E6A-BABC-0663DCDE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BB1-C4F1-4575-ABD5-967940C4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24A-A018-4565-8C7C-4D6E6458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7855-FDFD-4799-90CD-DE693092DA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1CB8-21CD-4159-AC65-7C53AB1A43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8AF3-D8FE-441C-A411-F34D3156F1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69,23,&#20004;&#20010;&#38081;&#29699;&#21516;&#26102;&#30528;&#22320;" TargetMode="External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kwct09"/>
          <p:cNvPicPr/>
          <p:nvPr/>
        </p:nvPicPr>
        <p:blipFill>
          <a:blip r:embed="rId1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 rot="5400000">
            <a:off x="4178880" y="2665800"/>
            <a:ext cx="6326280" cy="136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00"/>
                </a:solidFill>
                <a:latin typeface="楷体_GB2312"/>
              </a:rPr>
              <a:t>两个铁球同时着地语文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00"/>
                </a:solidFill>
                <a:latin typeface="楷体_GB2312"/>
              </a:rPr>
              <a:t>PPT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00"/>
                </a:solidFill>
                <a:latin typeface="楷体_GB2312"/>
              </a:rPr>
              <a:t>课件下载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00"/>
              </a:solidFill>
              <a:latin typeface="楷体_GB2312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16000" y="1052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难道要违背人类的真理吗？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476360" y="227664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不要违背人类的真理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宋体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403280" y="34290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不能违背人类的真理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宋体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403280" y="4508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不可以违背人类的真理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宋体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971640" y="907920"/>
            <a:ext cx="707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个铁球，一个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磅重，一个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磅重。同时从高处落下来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磅重的一定先着地，速度是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磅重的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　　　　　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亚里士多德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-10800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24000" y="1557360"/>
            <a:ext cx="864072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</a:rPr>
              <a:t>这句话说明</a:t>
            </a:r>
            <a:r>
              <a:rPr b="1" lang="en-US" sz="4800" spc="-1" strike="noStrike">
                <a:solidFill>
                  <a:srgbClr val="ff3300"/>
                </a:solidFill>
                <a:latin typeface="楷体_GB2312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物体下落的速度与物体的重量（  ）关系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物体越（  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落下的速度越（  ） 。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340000" y="32986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</a:rPr>
              <a:t>有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596360" y="3284640"/>
            <a:ext cx="86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</a:rPr>
              <a:t>重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4859280" y="400536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</a:rPr>
              <a:t>快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619280" y="5878440"/>
            <a:ext cx="5616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690560" y="6021360"/>
            <a:ext cx="5616720" cy="144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Rectangle 6"/>
          <p:cNvSpPr/>
          <p:nvPr/>
        </p:nvSpPr>
        <p:spPr>
          <a:xfrm flipH="1">
            <a:off x="2304360" y="2349360"/>
            <a:ext cx="73080" cy="367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Rectangle 7"/>
          <p:cNvSpPr/>
          <p:nvPr/>
        </p:nvSpPr>
        <p:spPr>
          <a:xfrm rot="5400000">
            <a:off x="3796200" y="203760"/>
            <a:ext cx="36360" cy="432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2916360" y="1630440"/>
            <a:ext cx="718920" cy="71892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4465800" y="1917720"/>
            <a:ext cx="431640" cy="431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文本框 8200"/>
          <p:cNvSpPr/>
          <p:nvPr/>
        </p:nvSpPr>
        <p:spPr>
          <a:xfrm>
            <a:off x="1619280" y="1125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68208E-006 L 2.77778E-007 0.51607 E">
                                      <p:cBhvr>
                                        <p:cTn id="167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52601E-006 L 1.38889E-006 0.51908 E">
                                      <p:cBhvr>
                                        <p:cTn id="16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9640" y="1177920"/>
            <a:ext cx="7920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</a:t>
            </a:r>
            <a:r>
              <a:rPr b="1" lang="zh-CN" sz="3600" spc="-1" strike="noStrike">
                <a:solidFill>
                  <a:srgbClr val="ff33cc"/>
                </a:solidFill>
                <a:latin typeface="华文细黑"/>
                <a:ea typeface="华文细黑"/>
              </a:rPr>
              <a:t>如果亚里士多德的话是正确的，就可能产生两种结果：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476360" y="2687760"/>
            <a:ext cx="7275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</a:rPr>
              <a:t>把两个铁球拴在一起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落得慢的就会拖住落得快的，落下的速度就会比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磅重的铁球     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477800" y="4559400"/>
            <a:ext cx="7275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</a:rPr>
              <a:t>把拴在一起的两个铁球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看作一个整体，就有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磅重，落下的速度就会比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磅重的铁球     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140360" y="3645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</a:rPr>
              <a:t>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40360" y="5516640"/>
            <a:ext cx="936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楷体_GB2312"/>
                <a:hlinkClick r:id="rId1"/>
              </a:rPr>
              <a:t>快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684360" y="2852640"/>
            <a:ext cx="718920" cy="1038240"/>
            <a:chOff x="684360" y="2852640"/>
            <a:chExt cx="718920" cy="1038240"/>
          </a:xfrm>
        </p:grpSpPr>
        <p:grpSp>
          <p:nvGrpSpPr>
            <p:cNvPr id="165" name=""/>
            <p:cNvGrpSpPr/>
            <p:nvPr/>
          </p:nvGrpSpPr>
          <p:grpSpPr>
            <a:xfrm>
              <a:off x="1044720" y="3025800"/>
              <a:ext cx="360" cy="142920"/>
              <a:chOff x="1044720" y="3025800"/>
              <a:chExt cx="360" cy="142920"/>
            </a:xfrm>
          </p:grpSpPr>
          <p:sp>
            <p:nvSpPr>
              <p:cNvPr id="166" name="Line 10"/>
              <p:cNvSpPr/>
              <p:nvPr/>
            </p:nvSpPr>
            <p:spPr>
              <a:xfrm>
                <a:off x="1044720" y="3025800"/>
                <a:ext cx="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1044720" y="302580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68" name="Oval 11"/>
            <p:cNvSpPr/>
            <p:nvPr/>
          </p:nvSpPr>
          <p:spPr>
            <a:xfrm>
              <a:off x="684360" y="317196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9" name="Oval 12"/>
            <p:cNvSpPr/>
            <p:nvPr/>
          </p:nvSpPr>
          <p:spPr>
            <a:xfrm>
              <a:off x="928800" y="285264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0" name="Group 13"/>
          <p:cNvGrpSpPr/>
          <p:nvPr/>
        </p:nvGrpSpPr>
        <p:grpSpPr>
          <a:xfrm>
            <a:off x="684360" y="4653000"/>
            <a:ext cx="718920" cy="1038240"/>
            <a:chOff x="684360" y="4653000"/>
            <a:chExt cx="718920" cy="1038240"/>
          </a:xfrm>
        </p:grpSpPr>
        <p:grpSp>
          <p:nvGrpSpPr>
            <p:cNvPr id="171" name=""/>
            <p:cNvGrpSpPr/>
            <p:nvPr/>
          </p:nvGrpSpPr>
          <p:grpSpPr>
            <a:xfrm>
              <a:off x="1044720" y="4826160"/>
              <a:ext cx="360" cy="142920"/>
              <a:chOff x="1044720" y="4826160"/>
              <a:chExt cx="360" cy="142920"/>
            </a:xfrm>
          </p:grpSpPr>
          <p:sp>
            <p:nvSpPr>
              <p:cNvPr id="172" name="Line 14"/>
              <p:cNvSpPr/>
              <p:nvPr/>
            </p:nvSpPr>
            <p:spPr>
              <a:xfrm>
                <a:off x="1044720" y="4826160"/>
                <a:ext cx="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1044720" y="482616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74" name="Oval 15"/>
            <p:cNvSpPr/>
            <p:nvPr/>
          </p:nvSpPr>
          <p:spPr>
            <a:xfrm>
              <a:off x="684360" y="497232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5" name="Oval 16"/>
            <p:cNvSpPr/>
            <p:nvPr/>
          </p:nvSpPr>
          <p:spPr>
            <a:xfrm>
              <a:off x="928800" y="465300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140360" y="4221000"/>
            <a:ext cx="720720" cy="360"/>
            <a:chOff x="4140360" y="4221000"/>
            <a:chExt cx="720720" cy="360"/>
          </a:xfrm>
        </p:grpSpPr>
        <p:sp>
          <p:nvSpPr>
            <p:cNvPr id="177" name="Line 17"/>
            <p:cNvSpPr/>
            <p:nvPr/>
          </p:nvSpPr>
          <p:spPr>
            <a:xfrm>
              <a:off x="4140360" y="4221000"/>
              <a:ext cx="720720" cy="0"/>
            </a:xfrm>
            <a:prstGeom prst="line">
              <a:avLst/>
            </a:prstGeom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4140360" y="422100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067280" y="6093000"/>
            <a:ext cx="720720" cy="360"/>
            <a:chOff x="4067280" y="6093000"/>
            <a:chExt cx="720720" cy="360"/>
          </a:xfrm>
        </p:grpSpPr>
        <p:sp>
          <p:nvSpPr>
            <p:cNvPr id="180" name="Line 18"/>
            <p:cNvSpPr/>
            <p:nvPr/>
          </p:nvSpPr>
          <p:spPr>
            <a:xfrm>
              <a:off x="4067280" y="6093000"/>
              <a:ext cx="720720" cy="0"/>
            </a:xfrm>
            <a:prstGeom prst="line">
              <a:avLst/>
            </a:prstGeom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067280" y="609300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619280" y="5878440"/>
            <a:ext cx="5616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690560" y="6021360"/>
            <a:ext cx="5616720" cy="144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Rectangle 6"/>
          <p:cNvSpPr/>
          <p:nvPr/>
        </p:nvSpPr>
        <p:spPr>
          <a:xfrm flipH="1">
            <a:off x="2304360" y="2349360"/>
            <a:ext cx="73080" cy="367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Rectangle 7"/>
          <p:cNvSpPr/>
          <p:nvPr/>
        </p:nvSpPr>
        <p:spPr>
          <a:xfrm rot="5400000">
            <a:off x="3796200" y="203760"/>
            <a:ext cx="36360" cy="432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Oval 8"/>
          <p:cNvSpPr/>
          <p:nvPr/>
        </p:nvSpPr>
        <p:spPr>
          <a:xfrm>
            <a:off x="2881440" y="1630440"/>
            <a:ext cx="718920" cy="71892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9" name="Group 9"/>
          <p:cNvGrpSpPr/>
          <p:nvPr/>
        </p:nvGrpSpPr>
        <p:grpSpPr>
          <a:xfrm>
            <a:off x="4788000" y="1311120"/>
            <a:ext cx="718920" cy="1038240"/>
            <a:chOff x="4788000" y="1311120"/>
            <a:chExt cx="718920" cy="1038240"/>
          </a:xfrm>
        </p:grpSpPr>
        <p:grpSp>
          <p:nvGrpSpPr>
            <p:cNvPr id="190" name=""/>
            <p:cNvGrpSpPr/>
            <p:nvPr/>
          </p:nvGrpSpPr>
          <p:grpSpPr>
            <a:xfrm>
              <a:off x="5148360" y="1484280"/>
              <a:ext cx="360" cy="142920"/>
              <a:chOff x="5148360" y="1484280"/>
              <a:chExt cx="360" cy="142920"/>
            </a:xfrm>
          </p:grpSpPr>
          <p:sp>
            <p:nvSpPr>
              <p:cNvPr id="191" name="Line 10"/>
              <p:cNvSpPr/>
              <p:nvPr/>
            </p:nvSpPr>
            <p:spPr>
              <a:xfrm>
                <a:off x="5148360" y="1484280"/>
                <a:ext cx="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>
                <a:off x="5148360" y="148428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93" name="Oval 11"/>
            <p:cNvSpPr/>
            <p:nvPr/>
          </p:nvSpPr>
          <p:spPr>
            <a:xfrm>
              <a:off x="4788000" y="163044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5032440" y="131112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5" name="Text Box 13"/>
          <p:cNvSpPr/>
          <p:nvPr/>
        </p:nvSpPr>
        <p:spPr>
          <a:xfrm>
            <a:off x="5580000" y="378936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  <a:ea typeface="宋体"/>
              </a:rPr>
              <a:t>1+10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宋体"/>
              </a:rPr>
              <a:t>慢于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  <a:ea typeface="宋体"/>
              </a:rPr>
              <a:t>10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832 L 3.61111E-006 0.52208 E">
                                      <p:cBhvr>
                                        <p:cTn id="189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4624E-007 L 2.77778E-006 0.52647 E">
                                      <p:cBhvr>
                                        <p:cTn id="19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619280" y="5878440"/>
            <a:ext cx="5616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690560" y="6021360"/>
            <a:ext cx="5616720" cy="144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Rectangle 6"/>
          <p:cNvSpPr/>
          <p:nvPr/>
        </p:nvSpPr>
        <p:spPr>
          <a:xfrm flipH="1">
            <a:off x="2304360" y="2349360"/>
            <a:ext cx="73080" cy="367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Rectangle 7"/>
          <p:cNvSpPr/>
          <p:nvPr/>
        </p:nvSpPr>
        <p:spPr>
          <a:xfrm rot="5400000">
            <a:off x="3796200" y="203760"/>
            <a:ext cx="36360" cy="432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2881440" y="1630440"/>
            <a:ext cx="718920" cy="71892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3" name="Group 9"/>
          <p:cNvGrpSpPr/>
          <p:nvPr/>
        </p:nvGrpSpPr>
        <p:grpSpPr>
          <a:xfrm>
            <a:off x="4788000" y="1311120"/>
            <a:ext cx="718920" cy="1038240"/>
            <a:chOff x="4788000" y="1311120"/>
            <a:chExt cx="718920" cy="1038240"/>
          </a:xfrm>
        </p:grpSpPr>
        <p:grpSp>
          <p:nvGrpSpPr>
            <p:cNvPr id="204" name=""/>
            <p:cNvGrpSpPr/>
            <p:nvPr/>
          </p:nvGrpSpPr>
          <p:grpSpPr>
            <a:xfrm>
              <a:off x="5148360" y="1484280"/>
              <a:ext cx="360" cy="142920"/>
              <a:chOff x="5148360" y="1484280"/>
              <a:chExt cx="360" cy="142920"/>
            </a:xfrm>
          </p:grpSpPr>
          <p:sp>
            <p:nvSpPr>
              <p:cNvPr id="205" name="Line 10"/>
              <p:cNvSpPr/>
              <p:nvPr/>
            </p:nvSpPr>
            <p:spPr>
              <a:xfrm>
                <a:off x="5148360" y="1484280"/>
                <a:ext cx="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5148360" y="148428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7" name="Oval 11"/>
            <p:cNvSpPr/>
            <p:nvPr/>
          </p:nvSpPr>
          <p:spPr>
            <a:xfrm>
              <a:off x="4788000" y="163044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5032440" y="131112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9" name="Text Box 13"/>
          <p:cNvSpPr/>
          <p:nvPr/>
        </p:nvSpPr>
        <p:spPr>
          <a:xfrm>
            <a:off x="5796000" y="3500280"/>
            <a:ext cx="33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黑体"/>
                <a:ea typeface="黑体"/>
              </a:rPr>
              <a:t>1+10</a:t>
            </a:r>
            <a:r>
              <a:rPr b="1" lang="zh-CN" sz="4800" spc="-1" strike="noStrike">
                <a:solidFill>
                  <a:srgbClr val="ff33cc"/>
                </a:solidFill>
                <a:latin typeface="黑体"/>
                <a:ea typeface="黑体"/>
              </a:rPr>
              <a:t>快于</a:t>
            </a:r>
            <a:r>
              <a:rPr b="1" lang="en-US" sz="4800" spc="-1" strike="noStrike">
                <a:solidFill>
                  <a:srgbClr val="ff33cc"/>
                </a:solidFill>
                <a:latin typeface="黑体"/>
                <a:ea typeface="黑体"/>
              </a:rPr>
              <a:t>10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832 L 3.61111E-006 0.52208 E">
                                      <p:cBhvr>
                                        <p:cTn id="20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416 L 2.77778E-006 0.52023 E">
                                      <p:cBhvr>
                                        <p:cTn id="205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547640" y="220500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宋体"/>
              </a:rPr>
              <a:t> 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从</a:t>
            </a: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宋体"/>
              </a:rPr>
              <a:t>一个事实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中却可以得出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宋体"/>
              </a:rPr>
              <a:t>两个相反的结论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，这怎么解释呢？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325440" y="41400"/>
            <a:ext cx="59022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24000" y="126828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伽利略经过多次试验，结果都证明亚里士多德的这句话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。两个不同重量的铁球同时从高处落下，总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铁球往下落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与铁球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没有关系。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227640" y="19162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楷体_GB2312"/>
              </a:rPr>
              <a:t>说错了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348000" y="306864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楷体_GB2312"/>
              </a:rPr>
              <a:t>同时着地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6364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楷体_GB2312"/>
              </a:rPr>
              <a:t>速度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58000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楷体_GB2312"/>
              </a:rPr>
              <a:t>轻重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两个铁球同时着地.WMV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4267440" cy="60958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5410080" y="45720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公开证实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410080" y="1600200"/>
            <a:ext cx="3581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有的说：“这个青年真是胆大妄为，竟想找亚里士多德的错处！”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有的说：“等会儿他就固执不了啦，事实是无情的，会让他丢尽了脸！”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166760" y="1268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</a:rPr>
              <a:t>生字学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3213000"/>
          <a:ext cx="8351640" cy="1152360"/>
        </p:xfrm>
        <a:graphic>
          <a:graphicData uri="http://schemas.openxmlformats.org/drawingml/2006/table">
            <a:tbl>
              <a:tblPr/>
              <a:tblGrid>
                <a:gridCol w="1391760"/>
                <a:gridCol w="1392480"/>
                <a:gridCol w="1392120"/>
                <a:gridCol w="1390680"/>
                <a:gridCol w="1392120"/>
                <a:gridCol w="1392480"/>
              </a:tblGrid>
              <a:tr h="11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9"/>
          <p:cNvSpPr/>
          <p:nvPr/>
        </p:nvSpPr>
        <p:spPr>
          <a:xfrm>
            <a:off x="941400" y="3325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略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2382840" y="3325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辩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3822480" y="3397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奉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099040" y="3384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违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6557760" y="3397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磅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7926120" y="3397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拴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468360" y="4508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99"/>
                </a:solidFill>
                <a:latin typeface="Arial"/>
              </a:rPr>
              <a:t>省略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1979640" y="4508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辩论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3492360" y="4508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信奉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485928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违背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630072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一磅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7596360" y="450864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拴住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807840" y="242100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  <a:ea typeface="幼圆"/>
              </a:rPr>
              <a:t>l</a:t>
            </a:r>
            <a:r>
              <a:rPr b="0" lang="en-US" sz="3200" spc="-1" strike="noStrike">
                <a:solidFill>
                  <a:srgbClr val="ff7c80"/>
                </a:solidFill>
                <a:latin typeface="楷体_GB2312"/>
              </a:rPr>
              <a:t>ű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  <a:ea typeface="幼圆"/>
              </a:rPr>
              <a:t>è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1980000" y="249228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  <a:ea typeface="幼圆"/>
              </a:rPr>
              <a:t>biàn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 Box 33"/>
          <p:cNvSpPr/>
          <p:nvPr/>
        </p:nvSpPr>
        <p:spPr>
          <a:xfrm>
            <a:off x="3419640" y="2492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  <a:ea typeface="幼圆"/>
              </a:rPr>
              <a:t>fèng 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 Box 34"/>
          <p:cNvSpPr/>
          <p:nvPr/>
        </p:nvSpPr>
        <p:spPr>
          <a:xfrm>
            <a:off x="4933440" y="2492280"/>
            <a:ext cx="8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  <a:ea typeface="幼圆"/>
              </a:rPr>
              <a:t>wéi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012000" y="2492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楷体_GB2312"/>
              </a:rPr>
              <a:t>b</a:t>
            </a:r>
            <a:r>
              <a:rPr b="1" lang="en-US" sz="3600" spc="-1" strike="noStrike">
                <a:solidFill>
                  <a:srgbClr val="ff7c80"/>
                </a:solidFill>
                <a:latin typeface="Arial"/>
                <a:ea typeface="幼圆"/>
              </a:rPr>
              <a:t>à</a:t>
            </a:r>
            <a:r>
              <a:rPr b="1" lang="en-US" sz="3600" spc="-1" strike="noStrike">
                <a:solidFill>
                  <a:srgbClr val="ff7c80"/>
                </a:solidFill>
                <a:latin typeface="楷体_GB2312"/>
              </a:rPr>
              <a:t>ng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36"/>
          <p:cNvSpPr/>
          <p:nvPr/>
        </p:nvSpPr>
        <p:spPr>
          <a:xfrm>
            <a:off x="7451640" y="2465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楷体_GB2312"/>
              </a:rPr>
              <a:t>shu</a:t>
            </a:r>
            <a:r>
              <a:rPr b="1" lang="en-US" sz="3600" spc="-1" strike="noStrike">
                <a:solidFill>
                  <a:srgbClr val="ff7c80"/>
                </a:solidFill>
                <a:latin typeface="Arial"/>
                <a:ea typeface="幼圆"/>
              </a:rPr>
              <a:t>ā</a:t>
            </a:r>
            <a:r>
              <a:rPr b="1" lang="en-US" sz="3600" spc="-1" strike="noStrike">
                <a:solidFill>
                  <a:srgbClr val="ff7c80"/>
                </a:solidFill>
                <a:latin typeface="楷体_GB2312"/>
              </a:rPr>
              <a:t>n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79280" y="151704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</a:rPr>
              <a:t>说话训练：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　　作为伽利略的亲人，朋友，身边的人，你会怎么跟他说呢？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　　身份有：亲人　同事　朋友　学生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　　如果你是其中的一位，你会对他说些什么？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rcRect l="0" t="6490" r="10661" b="1192"/>
          <a:stretch/>
        </p:blipFill>
        <p:spPr>
          <a:xfrm>
            <a:off x="179280" y="115920"/>
            <a:ext cx="8713800" cy="6524640"/>
          </a:xfrm>
          <a:prstGeom prst="rect">
            <a:avLst/>
          </a:prstGeom>
          <a:ln w="0">
            <a:noFill/>
          </a:ln>
        </p:spPr>
      </p:pic>
      <p:sp>
        <p:nvSpPr>
          <p:cNvPr id="226" name="Oval 5"/>
          <p:cNvSpPr/>
          <p:nvPr/>
        </p:nvSpPr>
        <p:spPr>
          <a:xfrm>
            <a:off x="3000240" y="577800"/>
            <a:ext cx="173160" cy="176400"/>
          </a:xfrm>
          <a:prstGeom prst="ellipse">
            <a:avLst/>
          </a:prstGeom>
          <a:gradFill rotWithShape="0">
            <a:gsLst>
              <a:gs pos="0">
                <a:srgbClr val="ccffff">
                  <a:alpha val="72156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Oval 6"/>
          <p:cNvSpPr/>
          <p:nvPr/>
        </p:nvSpPr>
        <p:spPr>
          <a:xfrm>
            <a:off x="3203640" y="189000"/>
            <a:ext cx="720720" cy="57600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Oval 7"/>
          <p:cNvSpPr/>
          <p:nvPr/>
        </p:nvSpPr>
        <p:spPr>
          <a:xfrm>
            <a:off x="2050920" y="0"/>
            <a:ext cx="2089440" cy="10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2268360" y="0"/>
            <a:ext cx="2519640" cy="1052640"/>
          </a:xfrm>
          <a:prstGeom prst="ellips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55" dur="1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5.55112E-017 1.38728E-006 L 5.55112E-017 0.72763 E">
                                      <p:cBhvr>
                                        <p:cTn id="259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62428E-006 L 1.66667E-006 0.73411 E">
                                      <p:cBhvr>
                                        <p:cTn id="261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04960" y="1125360"/>
            <a:ext cx="6714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80320" y="1628640"/>
            <a:ext cx="13993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两个铁球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</a:rPr>
              <a:t>重的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着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132000" y="170028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</a:rPr>
              <a:t>产生疑问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6487560" y="1989000"/>
            <a:ext cx="13993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两个铁球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</a:rPr>
              <a:t>同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着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140360" y="1628640"/>
            <a:ext cx="360" cy="287640"/>
            <a:chOff x="4140360" y="1628640"/>
            <a:chExt cx="360" cy="287640"/>
          </a:xfrm>
        </p:grpSpPr>
        <p:sp>
          <p:nvSpPr>
            <p:cNvPr id="235" name="Line 6"/>
            <p:cNvSpPr/>
            <p:nvPr/>
          </p:nvSpPr>
          <p:spPr>
            <a:xfrm>
              <a:off x="4140360" y="1628640"/>
              <a:ext cx="0" cy="28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4140360" y="1628640"/>
              <a:ext cx="360" cy="2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484000" y="4508640"/>
            <a:ext cx="72000" cy="934920"/>
            <a:chOff x="2484000" y="4508640"/>
            <a:chExt cx="72000" cy="934920"/>
          </a:xfrm>
        </p:grpSpPr>
        <p:sp>
          <p:nvSpPr>
            <p:cNvPr id="238" name="Line 7"/>
            <p:cNvSpPr/>
            <p:nvPr/>
          </p:nvSpPr>
          <p:spPr>
            <a:xfrm flipH="1">
              <a:off x="2484000" y="4508640"/>
              <a:ext cx="71640" cy="93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2484360" y="4508640"/>
              <a:ext cx="71640" cy="9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067280" y="1628640"/>
            <a:ext cx="360" cy="287640"/>
            <a:chOff x="4067280" y="1628640"/>
            <a:chExt cx="360" cy="287640"/>
          </a:xfrm>
        </p:grpSpPr>
        <p:sp>
          <p:nvSpPr>
            <p:cNvPr id="241" name="Line 8"/>
            <p:cNvSpPr/>
            <p:nvPr/>
          </p:nvSpPr>
          <p:spPr>
            <a:xfrm>
              <a:off x="4067280" y="1628640"/>
              <a:ext cx="0" cy="28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4067280" y="1628640"/>
              <a:ext cx="360" cy="2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3" name="Rectangle 9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324000" y="1890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132000" y="292428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反复试验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3203640" y="414972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公开试验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132000" y="530064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试验成功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2411280" y="3860640"/>
            <a:ext cx="4392720" cy="144720"/>
          </a:xfrm>
          <a:prstGeom prst="rightArrow">
            <a:avLst>
              <a:gd name="adj1" fmla="val 50000"/>
              <a:gd name="adj2" fmla="val 75855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68360" y="1268280"/>
          <a:ext cx="8207280" cy="4824360"/>
        </p:xfrm>
        <a:graphic>
          <a:graphicData uri="http://schemas.openxmlformats.org/drawingml/2006/table">
            <a:tbl>
              <a:tblPr/>
              <a:tblGrid>
                <a:gridCol w="2016000"/>
                <a:gridCol w="3095640"/>
                <a:gridCol w="3095640"/>
              </a:tblGrid>
              <a:tr h="76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试验前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试验后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905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态度变化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15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思想变化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2" name="Rectangle 40"/>
          <p:cNvSpPr/>
          <p:nvPr/>
        </p:nvSpPr>
        <p:spPr>
          <a:xfrm>
            <a:off x="2484360" y="2060640"/>
            <a:ext cx="345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Text Box 48"/>
          <p:cNvSpPr/>
          <p:nvPr/>
        </p:nvSpPr>
        <p:spPr>
          <a:xfrm>
            <a:off x="2556000" y="2489400"/>
            <a:ext cx="28796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大妄为、固执，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会让他丢尽脸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Text Box 49"/>
          <p:cNvSpPr/>
          <p:nvPr/>
        </p:nvSpPr>
        <p:spPr>
          <a:xfrm>
            <a:off x="5724360" y="2788560"/>
            <a:ext cx="26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忍不住惊讶地叫了起来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2268360" y="4589640"/>
            <a:ext cx="3240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信奉亚里士多德，把他的话当作真理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5651640" y="4336560"/>
            <a:ext cx="2879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明白</a:t>
            </a:r>
            <a:r>
              <a:rPr b="0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亚里士多德这样的大哲学家说的话也不是全都对的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Rectangle 52"/>
          <p:cNvSpPr/>
          <p:nvPr/>
        </p:nvSpPr>
        <p:spPr>
          <a:xfrm>
            <a:off x="2543040" y="2075040"/>
            <a:ext cx="2951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Rectangle 54"/>
          <p:cNvSpPr/>
          <p:nvPr/>
        </p:nvSpPr>
        <p:spPr>
          <a:xfrm>
            <a:off x="5651640" y="2060640"/>
            <a:ext cx="29509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Rectangle 55"/>
          <p:cNvSpPr/>
          <p:nvPr/>
        </p:nvSpPr>
        <p:spPr>
          <a:xfrm>
            <a:off x="2556000" y="4005360"/>
            <a:ext cx="29509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Rectangle 56"/>
          <p:cNvSpPr/>
          <p:nvPr/>
        </p:nvSpPr>
        <p:spPr>
          <a:xfrm>
            <a:off x="5651640" y="4076640"/>
            <a:ext cx="295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539640" y="1121400"/>
            <a:ext cx="86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       </a:t>
            </a:r>
            <a:r>
              <a:rPr b="1" lang="en-US" sz="4000" spc="-1" strike="noStrike">
                <a:solidFill>
                  <a:srgbClr val="0066ff"/>
                </a:solidFill>
                <a:latin typeface="楷体_GB2312"/>
              </a:rPr>
              <a:t>1</a:t>
            </a:r>
            <a:r>
              <a:rPr b="1" lang="zh-CN" sz="4000" spc="-1" strike="noStrike">
                <a:solidFill>
                  <a:srgbClr val="0066ff"/>
                </a:solidFill>
                <a:latin typeface="楷体_GB2312"/>
              </a:rPr>
              <a:t>、伽利略是一个（          ）科学家。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6330240" y="907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善于思考的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68360" y="4028760"/>
            <a:ext cx="82072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对权威要尊重，但不应盲从，权威也有错的时候，实践是检验真理的唯一标准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611280" y="404640"/>
            <a:ext cx="8153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971640" y="1989000"/>
            <a:ext cx="68072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怀疑也要讲科学，讲证据；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坚持真理要有足够的勇气；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许多科学创新和发明都是在对权威的批判中诞生的。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让想象插上翅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象一下，当伽利略试验结束后从比萨斜塔上下来后，人们围住了他，会怎样说，怎样做。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伽利略走下斜塔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题写一段话，注意对人物语言、动作的描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1042920" y="981000"/>
            <a:ext cx="7345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拓展延伸：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搜集有关伽利略的科学小故事。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在家中动手把试验做一做。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亚里士多德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（公元前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38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前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322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）　古希腊哲学家、科学家，是亚历山大大帝的教师。马克思、恩格斯称他为古希腊哲学中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最博学的人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。他将科学分为理论的科学、实践的科学、创造的科学。他在生物学、生理学、医学等方面都有突出的贡献。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335268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文本框 8200"/>
          <p:cNvSpPr/>
          <p:nvPr/>
        </p:nvSpPr>
        <p:spPr>
          <a:xfrm>
            <a:off x="1403280" y="6093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404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伽利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56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出生于意大利。他把阿基米德的浮力原理和杠杆原理结合起来，获得了精密的测量方法，发明了用以测定合金成分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液体静力天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引起了学术界的注意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58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夏天，他受聘为比萨大学数学教授，年仅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岁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60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，经过刻苦钻研和实验，成功地研制了世界上第一架放大倍数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倍的天文望远镜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6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，伽利略出版了他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星际使者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人们惊讶地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哥伦布发现了新大陆，伽利略发现了新宇宙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95280" y="2793960"/>
          <a:ext cx="8497800" cy="1427040"/>
        </p:xfrm>
        <a:graphic>
          <a:graphicData uri="http://schemas.openxmlformats.org/drawingml/2006/table">
            <a:tbl>
              <a:tblPr/>
              <a:tblGrid>
                <a:gridCol w="1415880"/>
                <a:gridCol w="1416240"/>
                <a:gridCol w="1417680"/>
                <a:gridCol w="1415880"/>
                <a:gridCol w="1416240"/>
                <a:gridCol w="1415880"/>
              </a:tblGrid>
              <a:tr h="14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18"/>
          <p:cNvSpPr/>
          <p:nvPr/>
        </p:nvSpPr>
        <p:spPr>
          <a:xfrm>
            <a:off x="869760" y="31100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拖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2238120" y="3141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释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606840" y="3141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宣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5118120" y="31100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萨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6486480" y="3141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妄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7926120" y="31100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执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611280" y="4365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拖住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2124000" y="4365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解释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3419640" y="4365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宣布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4716360" y="4365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拉萨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5867280" y="436572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胆大妄为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7812000" y="436572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固执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744480" y="19890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  <a:ea typeface="幼圆"/>
              </a:rPr>
              <a:t>tuō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3407760" y="198900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  <a:ea typeface="幼圆"/>
              </a:rPr>
              <a:t>xuān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5078160" y="19890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  <a:ea typeface="幼圆"/>
              </a:rPr>
              <a:t>sà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6227640" y="198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  <a:ea typeface="幼圆"/>
              </a:rPr>
              <a:t>wàng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 Box 34"/>
          <p:cNvSpPr/>
          <p:nvPr/>
        </p:nvSpPr>
        <p:spPr>
          <a:xfrm>
            <a:off x="7742520" y="19890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  <a:ea typeface="幼圆"/>
              </a:rPr>
              <a:t>zhí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2125800" y="19890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  <a:ea typeface="幼圆"/>
              </a:rPr>
              <a:t>shì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55640" y="476280"/>
            <a:ext cx="7467480" cy="2226960"/>
          </a:xfrm>
          <a:prstGeom prst="rect">
            <a:avLst/>
          </a:prstGeom>
          <a:noFill/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布鲁诺，意大利文艺复兴时期伟大的思想家、自然科学家、哲学家和文学家。他批判了被教会奉为神圣不可侵犯的地心说，勇敢地捍卫和发展了哥白尼的太阳中心说，并把它传遍欧洲。正因为如          此，布鲁诺引起了罗马宗教裁判所          的恐惧和仇恨。</a:t>
            </a:r>
            <a:r>
              <a:rPr b="1" lang="en-US" sz="2800" spc="-1" strike="noStrike">
                <a:solidFill>
                  <a:srgbClr val="292929"/>
                </a:solidFill>
                <a:latin typeface="楷体_GB2312"/>
              </a:rPr>
              <a:t>1600</a:t>
            </a: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年</a:t>
            </a:r>
            <a:r>
              <a:rPr b="1" lang="en-US" sz="2800" spc="-1" strike="noStrike">
                <a:solidFill>
                  <a:srgbClr val="292929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月</a:t>
            </a:r>
            <a:r>
              <a:rPr b="1" lang="en-US" sz="2800" spc="-1" strike="noStrike">
                <a:solidFill>
                  <a:srgbClr val="292929"/>
                </a:solidFill>
                <a:latin typeface="楷体_GB2312"/>
              </a:rPr>
              <a:t>17</a:t>
            </a: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日，         布鲁诺被处以火刑。他向围观的人们          庄严地宣布：</a:t>
            </a:r>
            <a:r>
              <a:rPr b="1" lang="zh-CN" sz="2800" spc="-1" strike="noStrike">
                <a:solidFill>
                  <a:srgbClr val="292929"/>
                </a:solidFill>
                <a:latin typeface="_x005F_x000B__x005F_x000C_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</a:rPr>
              <a:t>黑暗即将过去，黎          明即将来临，真理终将战胜邪恶！</a:t>
            </a:r>
            <a:r>
              <a:rPr b="1" lang="zh-CN" sz="2800" spc="-1" strike="noStrike">
                <a:solidFill>
                  <a:srgbClr val="292929"/>
                </a:solidFill>
                <a:latin typeface="_x005F_x000B__x005F_x000C_"/>
              </a:rPr>
              <a:t>”</a:t>
            </a: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英勇就义！</a:t>
            </a:r>
            <a:r>
              <a:rPr b="1" lang="en-US" sz="2800" spc="-1" strike="noStrike">
                <a:solidFill>
                  <a:srgbClr val="292929"/>
                </a:solidFill>
                <a:latin typeface="楷体_GB2312"/>
              </a:rPr>
              <a:t>1889</a:t>
            </a: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年</a:t>
            </a:r>
            <a:r>
              <a:rPr b="1" lang="en-US" sz="2800" spc="-1" strike="noStrike">
                <a:solidFill>
                  <a:srgbClr val="292929"/>
                </a:solidFill>
                <a:latin typeface="楷体_GB2312"/>
              </a:rPr>
              <a:t>6</a:t>
            </a: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月</a:t>
            </a:r>
            <a:r>
              <a:rPr b="1" lang="en-US" sz="2800" spc="-1" strike="noStrike">
                <a:solidFill>
                  <a:srgbClr val="292929"/>
                </a:solidFill>
                <a:latin typeface="楷体_GB2312"/>
              </a:rPr>
              <a:t>9</a:t>
            </a: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日，在布鲁诺殉难的罗马鲜花广场上，人们为他树立了一尊铜像，以永远纪念这位为真理而呐喊、为科学而献身的伟大思想家。</a:t>
            </a:r>
            <a:r>
              <a:rPr b="0" lang="zh-CN" sz="2800" spc="-1" strike="noStrike">
                <a:solidFill>
                  <a:srgbClr val="292929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74" name="Picture 3" descr="布鲁诺"/>
          <p:cNvPicPr/>
          <p:nvPr/>
        </p:nvPicPr>
        <p:blipFill>
          <a:blip r:embed="rId1"/>
          <a:stretch/>
        </p:blipFill>
        <p:spPr>
          <a:xfrm>
            <a:off x="3492360" y="2205000"/>
            <a:ext cx="16765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783F-48E0-4FAE-9D83-C16F817792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395280" y="155736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当科学家们被权势吓倒，科学就会变成一个软骨病人。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追求科学的真理需要特殊的勇气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</a:rPr>
              <a:t>!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伽利略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0" name="Picture 3" descr="102822494"/>
          <p:cNvPicPr/>
          <p:nvPr/>
        </p:nvPicPr>
        <p:blipFill>
          <a:blip r:embed="rId1"/>
          <a:stretch/>
        </p:blipFill>
        <p:spPr>
          <a:xfrm>
            <a:off x="395280" y="700200"/>
            <a:ext cx="8280360" cy="5506920"/>
          </a:xfrm>
          <a:prstGeom prst="rect">
            <a:avLst/>
          </a:prstGeom>
          <a:ln w="0">
            <a:noFill/>
          </a:ln>
        </p:spPr>
      </p:pic>
      <p:pic>
        <p:nvPicPr>
          <p:cNvPr id="281" name="517222356.mp3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1692360" y="148428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27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1042"/>
          <p:cNvSpPr/>
          <p:nvPr/>
        </p:nvSpPr>
        <p:spPr>
          <a:xfrm>
            <a:off x="684360" y="1012680"/>
            <a:ext cx="7991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自读目标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读准字音，读通句子。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课文讲的是谁的故事？他是什么时期的哪国人？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他做了一件什么事？课文按什么样的顺序叙述的？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（请你用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然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接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最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叙述）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24000" y="18900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行楷"/>
              </a:rPr>
              <a:t>我会读：</a:t>
            </a:r>
            <a:endParaRPr b="1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95280" y="1268280"/>
            <a:ext cx="8424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辩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论 寻常 解答 信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 怀疑 责备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背 曾经 疑问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拖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住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拴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住 结论 解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释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 试验 </a:t>
            </a:r>
            <a:r>
              <a:rPr b="1" lang="zh-CN" sz="4400" spc="-1" strike="noStrike">
                <a:solidFill>
                  <a:srgbClr val="009999"/>
                </a:solidFill>
                <a:latin typeface="楷体_GB2312"/>
              </a:rPr>
              <a:t>的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确 教授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宣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布 斜塔 固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执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 惊讶 呼喊 一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磅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 比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萨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城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哲学家  伽利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  忍不住 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不容更改  胆大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妄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为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635280" y="2276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辩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916360" y="2276640"/>
            <a:ext cx="33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（  　）论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　　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</a:rPr>
              <a:t>辫  辩  辨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7"/>
          <p:cNvSpPr/>
          <p:nvPr/>
        </p:nvSpPr>
        <p:spPr>
          <a:xfrm>
            <a:off x="1619280" y="200988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1" name="Picture 2" descr="75600500770862800-fm"/>
          <p:cNvPicPr/>
          <p:nvPr/>
        </p:nvPicPr>
        <p:blipFill>
          <a:blip r:embed="rId1"/>
          <a:stretch/>
        </p:blipFill>
        <p:spPr>
          <a:xfrm>
            <a:off x="395280" y="1125360"/>
            <a:ext cx="4321080" cy="5183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4932360" y="2872080"/>
            <a:ext cx="38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 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楷体_GB2312"/>
              </a:rPr>
              <a:t>    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</a:rPr>
              <a:t>1564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</a:rPr>
              <a:t>年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</a:rPr>
              <a:t>月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</a:rPr>
              <a:t>15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</a:rPr>
              <a:t>日生于意大利比萨，卒于 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</a:rPr>
              <a:t>1642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</a:rPr>
              <a:t>年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</a:rPr>
              <a:t>月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</a:rPr>
              <a:t>8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</a:rPr>
              <a:t>日。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幼圆"/>
              </a:rPr>
              <a:t>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</a:rPr>
              <a:t>是伟大的意大利物理学家和天文学家，科学革命的先驱。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940360" y="1484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伽利略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02"/>
          <p:cNvPicPr/>
          <p:nvPr/>
        </p:nvPicPr>
        <p:blipFill>
          <a:blip r:embed="rId1"/>
          <a:stretch/>
        </p:blipFill>
        <p:spPr>
          <a:xfrm>
            <a:off x="395280" y="1197000"/>
            <a:ext cx="4753080" cy="5183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5148360" y="4068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两千多年前希腊的哲学家，同时也是科学家。在生物学、生理学、医学等方面都有杰出的贡献。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559480" y="139860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亚里斯多德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9640" y="1700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那时候，研究科学的人都信奉亚里士多德，把这位两千多年前的希腊哲学家的话当作不容更改的真理。谁要是怀疑亚里士多德，人们就会责备他：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你是什么意思？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黑体"/>
              </a:rPr>
              <a:t>难道要违背人类的真理吗？”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24000" y="47628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华文行楷"/>
              </a:rPr>
              <a:t>研读背景，感知人物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09:3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43Z</dcterms:modified>
  <cp:revision>1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