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B6E-A918-4B79-B118-300E09E6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AEB-6FDF-44C8-BFDF-FF3AA60A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375-9591-4FEC-970D-C73360DF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01A-6236-41A0-A0BA-1CF7E09F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EF4A-9627-43B5-91DA-143117AE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D6A1-36AE-420E-82B2-F2F1F58C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5D15-3C6C-4ACF-9601-B70ED14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9765-CE8D-4E19-9035-5BE0E3E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BB2B-BF9D-4263-BD24-2F20A938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CA6C-B96E-4784-A7E4-B4ABC641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1E3-F1B0-48A4-99A8-6F757953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4D4-1562-438B-B7CA-E7AA3E50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04A-A8F3-4335-A5DB-6ACB756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35D0-81CE-4DE4-BE03-C05206C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E4C1-6AEA-4AB5-B053-0DE5DFB4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C0EF-1E0F-4EFE-842F-31EC3921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BE77-3B13-4088-A194-3BF27C9D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271-C6B7-4E79-B6C3-80365E5E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4C5-2A33-4300-AFA0-63B8BCD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8BF-122D-47E7-ABDA-A9154D84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FB0-63FE-46BB-AE58-8C8B3767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EA3-543B-4E99-A84F-5DBF71E9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E47-02BD-4E92-9C6B-50141FC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582-979F-46F5-B002-EC1C5C63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B671-9BDF-40DB-9FC6-66937814F7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9AE5-4D8E-4D74-BA24-0CB9ED6597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1ED0-B8CB-4332-A5F1-F40CBFE393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3" descr=""/>
          <p:cNvPicPr/>
          <p:nvPr/>
        </p:nvPicPr>
        <p:blipFill>
          <a:blip r:embed="rId1"/>
          <a:stretch/>
        </p:blipFill>
        <p:spPr>
          <a:xfrm>
            <a:off x="2700360" y="479520"/>
            <a:ext cx="6172200" cy="5790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940680" y="404640"/>
            <a:ext cx="139932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玲玲的画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56680" y="1705320"/>
            <a:ext cx="91188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81160" y="620640"/>
            <a:ext cx="642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30492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好多事情并不像我们想象的那么糟。只要肯动脑筋，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坏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往往能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变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成</a:t>
            </a:r>
            <a:r>
              <a:rPr b="1" lang="zh-CN" sz="8000" spc="-1" strike="noStrike">
                <a:solidFill>
                  <a:srgbClr val="a42b22"/>
                </a:solidFill>
                <a:latin typeface="Times New Roman"/>
              </a:rPr>
              <a:t>好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5"/>
          <p:cNvSpPr/>
          <p:nvPr/>
        </p:nvSpPr>
        <p:spPr>
          <a:xfrm>
            <a:off x="140328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95680" y="0"/>
            <a:ext cx="4496040" cy="4495680"/>
          </a:xfrm>
          <a:prstGeom prst="cloudCallout">
            <a:avLst>
              <a:gd name="adj1" fmla="val -51129"/>
              <a:gd name="adj2" fmla="val 1214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玲玲————说：“我的画弄脏了，另画一张也来不及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5840" y="115920"/>
            <a:ext cx="4435560" cy="655308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8199"/>
          <p:cNvSpPr/>
          <p:nvPr/>
        </p:nvSpPr>
        <p:spPr>
          <a:xfrm>
            <a:off x="4498920" y="5732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250920" y="344520"/>
            <a:ext cx="4190760" cy="6172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867280" y="1066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457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玲玲想了想，拿起笔，在弄脏的地方画了一只小花狗。小狗懒洋洋的趴在楼梯上。玲玲满意地笑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6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477120" cy="3898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762120" y="44197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在第二天的评奖会上，玲玲的画得了一等奖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57120" y="785880"/>
            <a:ext cx="84582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　玲玲的画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肯　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　楼　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叭　玲　狗　糟　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0A89-CA9D-4B43-89C9-3436B10C25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Object 0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:\刘玉静上缴学校课件\PIC_77~1.JPG"/>
          <p:cNvPicPr/>
          <p:nvPr/>
        </p:nvPicPr>
        <p:blipFill>
          <a:blip r:embed="rId2"/>
          <a:stretch/>
        </p:blipFill>
        <p:spPr>
          <a:xfrm>
            <a:off x="457200" y="0"/>
            <a:ext cx="815328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914400" y="228600"/>
            <a:ext cx="769608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líng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ling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玲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玲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380880"/>
            <a:ext cx="655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xiáng       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端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详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571760" y="714240"/>
            <a:ext cx="6476760" cy="11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fú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　　  　　　　　   这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幅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609480"/>
            <a:ext cx="8458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iǎ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评  奖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451640" y="554040"/>
            <a:ext cx="18432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8199"/>
          <p:cNvSpPr/>
          <p:nvPr/>
        </p:nvSpPr>
        <p:spPr>
          <a:xfrm>
            <a:off x="4282920" y="544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838080" y="304920"/>
            <a:ext cx="769644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cuī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催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她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70160" y="17316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09480" y="533520"/>
            <a:ext cx="7925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zān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弄 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143000" y="990720"/>
            <a:ext cx="6959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0000"/>
                </a:solidFill>
                <a:latin typeface="Times New Roman"/>
              </a:rPr>
              <a:t>bā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Times New Roman"/>
              </a:rPr>
              <a:t>叭</a:t>
            </a:r>
            <a:r>
              <a:rPr b="0" lang="zh-CN" sz="13000" spc="-1" strike="noStrike">
                <a:solidFill>
                  <a:srgbClr val="000000"/>
                </a:solidFill>
                <a:latin typeface="Times New Roman"/>
              </a:rPr>
              <a:t>的一下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000080" y="714240"/>
            <a:ext cx="76201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　  </a:t>
            </a:r>
            <a:r>
              <a:rPr b="0" lang="en-US" sz="15000" spc="-1" strike="noStrike">
                <a:solidFill>
                  <a:srgbClr val="ff0000"/>
                </a:solidFill>
                <a:latin typeface="Times New Roman"/>
              </a:rPr>
              <a:t>jī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动脑</a:t>
            </a:r>
            <a:r>
              <a:rPr b="0" lang="zh-CN" sz="15000" spc="-1" strike="noStrike">
                <a:solidFill>
                  <a:srgbClr val="ff0000"/>
                </a:solidFill>
                <a:latin typeface="Times New Roman"/>
              </a:rPr>
              <a:t>筋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9:05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5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