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553-F58B-4413-BE00-F59F6022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7CB-18CD-4D9B-8663-C75A681B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22E-2151-427D-895F-5CDD3412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E2A-1C81-4753-B63A-36870E96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AD8E-99EB-456B-9587-5925186D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25FC-B0A7-49A8-B03D-200A29FA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E393-0D11-4356-BF54-5C989D7E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9F70-01A9-41F6-806B-A2A7D11A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486F-25B9-4D73-9DCB-0008895B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FE59-A357-4ADF-9982-D60F0878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2338-F58F-40FA-8974-27D97E31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349-2370-44DA-A6A1-C22FA036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FE37-6692-4FE3-8A36-4844418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D957-3C84-4C5C-B615-9502A44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347B-A34B-490B-8D4A-98D85CFE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0B4C-C2D5-4028-82BB-526BFC58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1D25-3184-4527-8C6F-D149F24A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BE9-1047-4DC9-851A-685BF1A0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AD1-4521-4BDC-BDC5-A6947AF0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F6E-5C31-4668-98B8-38E696CE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3D4-FE0E-43C9-A8F2-8596B78F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653-54A6-43BB-9823-B3CB7AC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0C5-B03A-4F1B-A137-0FCB7B9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92B-4568-409B-8F73-EB9699E4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A659-229B-4B33-9F09-EC60D0E5A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E641-3CC5-4D97-B0CA-617477E4E6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4813-3AE2-47E5-BEA5-79E3A3BBC8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7" descr=""/>
          <p:cNvPicPr/>
          <p:nvPr/>
        </p:nvPicPr>
        <p:blipFill>
          <a:blip r:embed="rId2"/>
          <a:stretch/>
        </p:blipFill>
        <p:spPr>
          <a:xfrm>
            <a:off x="1339920" y="1824120"/>
            <a:ext cx="6770520" cy="8524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85800" y="835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筑这条路的人一定有一颗高尚的心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button106"/>
          <p:cNvPicPr/>
          <p:nvPr/>
        </p:nvPicPr>
        <p:blipFill>
          <a:blip r:embed="rId2"/>
          <a:stretch/>
        </p:blipFill>
        <p:spPr>
          <a:xfrm>
            <a:off x="83059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533520" y="2895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句话赞美了工程师和筑路工人珍爱树木、保护环境的高尚品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5800" y="835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筑这条路的人一定有一颗高尚的心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74D3-E9BC-4179-AC00-560E5C54E4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952560" y="754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3" descr="《路旁的橡树》课文插图一"/>
          <p:cNvPicPr/>
          <p:nvPr/>
        </p:nvPicPr>
        <p:blipFill>
          <a:blip r:embed="rId2"/>
          <a:stretch/>
        </p:blipFill>
        <p:spPr>
          <a:xfrm>
            <a:off x="0" y="0"/>
            <a:ext cx="4572000" cy="343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4" descr="《路旁的橡树》课文插图二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914400" y="22096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朗读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5562720" y="22096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词语学习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914400" y="36576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句段赏析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5562720" y="36576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复述课文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62120" y="7621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xi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71680" y="1447920"/>
            <a:ext cx="8001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橡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平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木 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未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来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路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0384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tǎ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4864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gu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37160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w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è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8098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p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94360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y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á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8200"/>
          <p:cNvSpPr/>
          <p:nvPr/>
        </p:nvSpPr>
        <p:spPr>
          <a:xfrm>
            <a:off x="1260360" y="522936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sh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71680" y="1447920"/>
            <a:ext cx="8001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兵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楔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子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责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沥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      射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6576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xi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1992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z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668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l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4100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ji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4920" y="1600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990720" y="114300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62120" y="990720"/>
            <a:ext cx="28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762120" y="2286000"/>
            <a:ext cx="28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124080" y="3733920"/>
            <a:ext cx="31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590920" y="1600200"/>
            <a:ext cx="1828800" cy="360"/>
            <a:chOff x="2590920" y="1600200"/>
            <a:chExt cx="1828800" cy="360"/>
          </a:xfrm>
        </p:grpSpPr>
        <p:sp>
          <p:nvSpPr>
            <p:cNvPr id="112" name="Line 10"/>
            <p:cNvSpPr/>
            <p:nvPr/>
          </p:nvSpPr>
          <p:spPr>
            <a:xfrm>
              <a:off x="2590920" y="16002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590920" y="16002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590920" y="2895480"/>
            <a:ext cx="1828800" cy="360"/>
            <a:chOff x="2590920" y="2895480"/>
            <a:chExt cx="1828800" cy="360"/>
          </a:xfrm>
        </p:grpSpPr>
        <p:sp>
          <p:nvSpPr>
            <p:cNvPr id="115" name="Line 11"/>
            <p:cNvSpPr/>
            <p:nvPr/>
          </p:nvSpPr>
          <p:spPr>
            <a:xfrm>
              <a:off x="259092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2590920" y="28954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14"/>
          <p:cNvSpPr/>
          <p:nvPr/>
        </p:nvSpPr>
        <p:spPr>
          <a:xfrm>
            <a:off x="4724280" y="16002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5486400" y="11430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257800" y="990720"/>
            <a:ext cx="291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257800" y="2286000"/>
            <a:ext cx="269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086600" y="1600200"/>
            <a:ext cx="1828800" cy="360"/>
            <a:chOff x="7086600" y="1600200"/>
            <a:chExt cx="1828800" cy="360"/>
          </a:xfrm>
        </p:grpSpPr>
        <p:sp>
          <p:nvSpPr>
            <p:cNvPr id="122" name="Line 20"/>
            <p:cNvSpPr/>
            <p:nvPr/>
          </p:nvSpPr>
          <p:spPr>
            <a:xfrm>
              <a:off x="7086600" y="16002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086600" y="16002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086600" y="2895480"/>
            <a:ext cx="1828800" cy="360"/>
            <a:chOff x="7086600" y="2895480"/>
            <a:chExt cx="1828800" cy="360"/>
          </a:xfrm>
        </p:grpSpPr>
        <p:sp>
          <p:nvSpPr>
            <p:cNvPr id="125" name="Line 21"/>
            <p:cNvSpPr/>
            <p:nvPr/>
          </p:nvSpPr>
          <p:spPr>
            <a:xfrm>
              <a:off x="708660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7086600" y="28954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Text Box 24"/>
          <p:cNvSpPr/>
          <p:nvPr/>
        </p:nvSpPr>
        <p:spPr>
          <a:xfrm>
            <a:off x="2590920" y="4343400"/>
            <a:ext cx="291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5"/>
          <p:cNvSpPr/>
          <p:nvPr/>
        </p:nvSpPr>
        <p:spPr>
          <a:xfrm>
            <a:off x="3352680" y="38862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3124080" y="5029200"/>
            <a:ext cx="31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952880" y="4343400"/>
            <a:ext cx="1828800" cy="360"/>
            <a:chOff x="4952880" y="4343400"/>
            <a:chExt cx="1828800" cy="360"/>
          </a:xfrm>
        </p:grpSpPr>
        <p:sp>
          <p:nvSpPr>
            <p:cNvPr id="131" name="Line 27"/>
            <p:cNvSpPr/>
            <p:nvPr/>
          </p:nvSpPr>
          <p:spPr>
            <a:xfrm>
              <a:off x="4952880" y="43434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952880" y="43434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52880" y="5638680"/>
            <a:ext cx="1828800" cy="360"/>
            <a:chOff x="4952880" y="5638680"/>
            <a:chExt cx="1828800" cy="360"/>
          </a:xfrm>
        </p:grpSpPr>
        <p:sp>
          <p:nvSpPr>
            <p:cNvPr id="134" name="Line 28"/>
            <p:cNvSpPr/>
            <p:nvPr/>
          </p:nvSpPr>
          <p:spPr>
            <a:xfrm>
              <a:off x="4952880" y="56386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952880" y="56386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04920" y="1600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990720" y="114300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990720"/>
            <a:ext cx="32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447920" y="91440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q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62120" y="2286000"/>
            <a:ext cx="29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124080" y="3733920"/>
            <a:ext cx="281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447920" y="22096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q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90920" y="1600200"/>
            <a:ext cx="1828800" cy="360"/>
            <a:chOff x="2590920" y="1600200"/>
            <a:chExt cx="1828800" cy="360"/>
          </a:xfrm>
        </p:grpSpPr>
        <p:sp>
          <p:nvSpPr>
            <p:cNvPr id="145" name="Line 9"/>
            <p:cNvSpPr/>
            <p:nvPr/>
          </p:nvSpPr>
          <p:spPr>
            <a:xfrm>
              <a:off x="2590920" y="16002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2590920" y="16002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590920" y="2895480"/>
            <a:ext cx="1828800" cy="360"/>
            <a:chOff x="2590920" y="2895480"/>
            <a:chExt cx="1828800" cy="360"/>
          </a:xfrm>
        </p:grpSpPr>
        <p:sp>
          <p:nvSpPr>
            <p:cNvPr id="148" name="Line 10"/>
            <p:cNvSpPr/>
            <p:nvPr/>
          </p:nvSpPr>
          <p:spPr>
            <a:xfrm>
              <a:off x="259092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590920" y="28954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11"/>
          <p:cNvSpPr/>
          <p:nvPr/>
        </p:nvSpPr>
        <p:spPr>
          <a:xfrm>
            <a:off x="274320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弯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743200" y="20718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歌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724280" y="16002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5486400" y="11430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5257800" y="990720"/>
            <a:ext cx="34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5943600" y="914400"/>
            <a:ext cx="23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p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257800" y="228600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5943600" y="2209680"/>
            <a:ext cx="23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p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086600" y="1600200"/>
            <a:ext cx="1828800" cy="360"/>
            <a:chOff x="7086600" y="1600200"/>
            <a:chExt cx="1828800" cy="360"/>
          </a:xfrm>
        </p:grpSpPr>
        <p:sp>
          <p:nvSpPr>
            <p:cNvPr id="159" name="Line 19"/>
            <p:cNvSpPr/>
            <p:nvPr/>
          </p:nvSpPr>
          <p:spPr>
            <a:xfrm>
              <a:off x="7086600" y="16002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086600" y="16002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86600" y="2895480"/>
            <a:ext cx="1828800" cy="360"/>
            <a:chOff x="7086600" y="2895480"/>
            <a:chExt cx="1828800" cy="360"/>
          </a:xfrm>
        </p:grpSpPr>
        <p:sp>
          <p:nvSpPr>
            <p:cNvPr id="162" name="Line 20"/>
            <p:cNvSpPr/>
            <p:nvPr/>
          </p:nvSpPr>
          <p:spPr>
            <a:xfrm>
              <a:off x="7086600" y="2895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7086600" y="28954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Text Box 21"/>
          <p:cNvSpPr/>
          <p:nvPr/>
        </p:nvSpPr>
        <p:spPr>
          <a:xfrm>
            <a:off x="723888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铺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7238880" y="20574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2590920" y="43434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24"/>
          <p:cNvSpPr/>
          <p:nvPr/>
        </p:nvSpPr>
        <p:spPr>
          <a:xfrm>
            <a:off x="3352680" y="38862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3124080" y="50292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952880" y="4343400"/>
            <a:ext cx="1828800" cy="360"/>
            <a:chOff x="4952880" y="4343400"/>
            <a:chExt cx="1828800" cy="360"/>
          </a:xfrm>
        </p:grpSpPr>
        <p:sp>
          <p:nvSpPr>
            <p:cNvPr id="170" name="Line 26"/>
            <p:cNvSpPr/>
            <p:nvPr/>
          </p:nvSpPr>
          <p:spPr>
            <a:xfrm>
              <a:off x="4952880" y="43434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4952880" y="43434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952880" y="5638680"/>
            <a:ext cx="1828800" cy="360"/>
            <a:chOff x="4952880" y="5638680"/>
            <a:chExt cx="1828800" cy="360"/>
          </a:xfrm>
        </p:grpSpPr>
        <p:sp>
          <p:nvSpPr>
            <p:cNvPr id="173" name="Line 27"/>
            <p:cNvSpPr/>
            <p:nvPr/>
          </p:nvSpPr>
          <p:spPr>
            <a:xfrm>
              <a:off x="4952880" y="56386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952880" y="56386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28"/>
          <p:cNvSpPr/>
          <p:nvPr/>
        </p:nvSpPr>
        <p:spPr>
          <a:xfrm>
            <a:off x="3657600" y="36576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hu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3657600" y="49528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hu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5105520" y="35193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划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1"/>
          <p:cNvSpPr/>
          <p:nvPr/>
        </p:nvSpPr>
        <p:spPr>
          <a:xfrm>
            <a:off x="5105520" y="48150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2" descr="button106"/>
          <p:cNvPicPr/>
          <p:nvPr/>
        </p:nvPicPr>
        <p:blipFill>
          <a:blip r:embed="rId2"/>
          <a:stretch/>
        </p:blipFill>
        <p:spPr>
          <a:xfrm>
            <a:off x="80773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8200"/>
          <p:cNvSpPr/>
          <p:nvPr/>
        </p:nvSpPr>
        <p:spPr>
          <a:xfrm>
            <a:off x="900000" y="587700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533520" y="835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它是那么粗壮、结实、挺拔，就像草原的哨兵一样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33520" y="3473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是对那棵高高的橡树的描写，橡树就像忠诚的哨兵一样守卫着这片土地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5800" y="1339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工人们也沉重地叹着气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33210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人们和工程师一样，内心十分矛盾。橡树阻碍了修路的进程，但如果砍掉这么好的一棵橡树，又令人不舍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85800" y="1339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现在谁也不会责备我们了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33210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程师想出了解决问题的办法，可以既不用修改筑路计划，又可以留下橡树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5:15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6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