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00B-36FB-4205-8AD2-7A13FA19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FCA-B918-4E1A-82B8-4E49F65D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A0A-9089-450A-89CE-85A86647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2EB-FF73-421E-8112-8083F207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DF48-9DF9-4531-9B86-01A0857E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4BF9-05F0-4CE2-AD48-AA27A803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2867-BC8C-4A4E-825C-0D46C47E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CD06-9CE1-412D-A14C-2F908D5A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1245-A402-4F38-A2D6-96A925B1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39E9-2B62-4F6C-A70A-06BEF44B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1751-530B-4925-A846-8024CCB2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6332-3880-430A-83E3-0E80A70A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5F5C-8441-497E-90EA-60B2ACEF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8C5A-C069-469F-81B3-4854CF8A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955C-92A0-495F-8496-DE1A58E1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4798-327F-4D5F-BB79-DE755201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0E7E-B157-47EA-A08C-9AD086EB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A6F-4458-4CC6-99F9-02714379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A1B-15FB-44B3-90C0-57B6FBAC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6FC-73AA-477C-A7CF-5C179964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6E8-0FE7-4C99-B66B-8A56164B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4B4-CA0C-4CE8-9B02-9783C007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E39A-145E-4270-AE4C-528F22B8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2F4-F306-44B5-BBCB-6BA6C0DA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9340-48B2-42E3-BE8B-C037051FE5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1177-3077-460F-8EB2-B2300064B06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95EF-401B-4D79-96EC-E8484A46C7B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1ppt.com/powerpoint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1ppt.com/powerpoint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1ppt.com/word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1ppt.com/word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1ppt.com/excel/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0"/>
          <p:cNvSpPr/>
          <p:nvPr/>
        </p:nvSpPr>
        <p:spPr>
          <a:xfrm>
            <a:off x="1908000" y="630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1"/>
          <a:srcRect l="0" t="0" r="14619" b="49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6760" y="14126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牧场之国语文</a:t>
            </a:r>
            <a:r>
              <a:rPr b="1" lang="en-US" sz="40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158494720060719011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596880" y="-299880"/>
            <a:ext cx="10282320" cy="7711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这就是真正的荷兰：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碧绿色的低地镶嵌在一条条运河之间，成群的骏马，匹匹膘肥体壮。除了深深的野草遮掩着的运河，没有什么能够阻挡它们飞驰到远方。辽阔无垠的原野似乎归它们所有，它们是这个自由王国的主人和公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20041123145465"/>
          <p:cNvPicPr/>
          <p:nvPr/>
        </p:nvPicPr>
        <p:blipFill>
          <a:blip r:embed="rId1"/>
          <a:stretch/>
        </p:blipFill>
        <p:spPr>
          <a:xfrm>
            <a:off x="-307800" y="0"/>
            <a:ext cx="94518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3821400" y="5270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碧绿色的低地镶嵌在一条条运河之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8200"/>
          <p:cNvSpPr/>
          <p:nvPr/>
        </p:nvSpPr>
        <p:spPr>
          <a:xfrm>
            <a:off x="250920" y="2349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20572217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5294520" y="6922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Times New Roman"/>
                <a:ea typeface="隶书"/>
              </a:rPr>
              <a:t>匹匹膘肥体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0070817215256787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89080" y="-212760"/>
            <a:ext cx="9738000" cy="7299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-76320" y="-114480"/>
            <a:ext cx="70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除了深深的野草遮掩着的运河，没有什么 能够阻挡它们飞驰到远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2007627_408b876019823c4d2ed7f190da9c0be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53960" y="-84240"/>
            <a:ext cx="9594720" cy="71931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250920" y="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辽阔无垠的原野似乎归它们所有，它们是这个自由王国的主人和公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27280" y="551664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这就是真正的荷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200711131638150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977040" y="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这就是真正的荷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6600" y="1484280"/>
            <a:ext cx="127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隶书"/>
              </a:rPr>
              <a:t>的骏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隶书"/>
              </a:rPr>
              <a:t>的原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隶书"/>
              </a:rPr>
              <a:t>的低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987640" y="1484280"/>
            <a:ext cx="263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膘肥体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辽阔无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碧绿色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728960" y="4770360"/>
            <a:ext cx="289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骏马飞驰任自由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100_4558"/>
          <p:cNvPicPr/>
          <p:nvPr/>
        </p:nvPicPr>
        <p:blipFill>
          <a:blip r:embed="rId1"/>
          <a:stretch/>
        </p:blipFill>
        <p:spPr>
          <a:xfrm>
            <a:off x="252360" y="0"/>
            <a:ext cx="8567640" cy="6337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611280" y="2620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真正的荷兰：在绿色的草地上，绵羊悠然自得，猪群不停地呼噜，小鸡、长毛山羊安闲自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080240" y="47260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这就是真正的荷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ximaoy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989640" y="3333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这就是真正的荷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170680" y="1459080"/>
            <a:ext cx="2009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隶书"/>
              </a:rPr>
              <a:t>的白色绵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隶书"/>
              </a:rPr>
              <a:t>的小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隶书"/>
              </a:rPr>
              <a:t>的长毛山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619280" y="1557360"/>
            <a:ext cx="2903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悠闲自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成千上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成群结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995640" y="4941720"/>
            <a:ext cx="475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羊闲猪乐鸡安闲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33078937149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525600" y="0"/>
            <a:ext cx="104616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金色的晚霞铺在西天，远处偶尔传来汽笛声，接着又是一片寂静。在这里，谁都不叫喊吆喝，牛脖子上的铃铛也没有响声，挤奶的人更是默默无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20071012134013897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0" y="26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后一抹晚霞也渐渐消失了，整个天地都暗了下来。狗不叫了，圈里的牛也不再发出哞哞声，马也忘记了踢马房的挡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3504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要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33520" y="1219320"/>
            <a:ext cx="86104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读课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想课文的第一自然段有什么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读课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牧场之国荷兰给你留下了怎样的印象？你是从课文的哪些地方感受到的？请把相关的语句划出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带着你的感受读一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读课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想作者为什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次讲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这就是真正的荷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200412618719105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72309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0" y="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沉睡的牲畜，无声的低地，漆黑的夜晚，远处的几座灯塔在闪烁着微弱的光芒。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64000" y="5851440"/>
            <a:ext cx="64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这就是真正的荷兰</a:t>
            </a:r>
            <a:r>
              <a:rPr b="0" lang="zh-CN" sz="6000" spc="-1" strike="noStrike">
                <a:solidFill>
                  <a:srgbClr val="cc0099"/>
                </a:solidFill>
                <a:latin typeface="Times New Roman"/>
                <a:ea typeface="隶书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文本框 8200"/>
          <p:cNvSpPr/>
          <p:nvPr/>
        </p:nvSpPr>
        <p:spPr>
          <a:xfrm>
            <a:off x="684360" y="2205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1240560" y="26028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这就是真正的荷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551920" y="1386000"/>
            <a:ext cx="164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Times New Roman"/>
                <a:ea typeface="隶书"/>
              </a:rPr>
              <a:t>的挤奶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Times New Roman"/>
                <a:ea typeface="隶书"/>
              </a:rPr>
              <a:t>的牲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Times New Roman"/>
                <a:ea typeface="隶书"/>
              </a:rPr>
              <a:t>的夜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160640" y="1484280"/>
            <a:ext cx="3984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默默无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    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沉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    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寂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892400" y="5300640"/>
            <a:ext cx="289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牲畜归圈夜寂静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你觉得此时、此刻荷兰是一个什么样地方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美丽， 寂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从哪些地方体会到的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沉默安详”，“一片寂静”，“没有响声”，“默默无语”，“平静”，“万籁俱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F108-08FA-4691-930D-847470C2A2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四次写“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这就是真正的荷兰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牛              －－悠闲漫步   思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马              －－膘肥体壮   自由王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猪、鸡、羊 －－悠然自得   成群结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呼噜        欣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夜晚的牧场－－  幽静、 美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826920" y="11970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879480" y="1268280"/>
            <a:ext cx="75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620640"/>
            <a:ext cx="9144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9999"/>
                </a:solidFill>
                <a:latin typeface="Times New Roman"/>
                <a:ea typeface="楷体_GB2312"/>
              </a:rPr>
              <a:t>     </a:t>
            </a:r>
            <a:r>
              <a:rPr b="1" i="1" lang="zh-CN" sz="60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镶嵌    骏马  牛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 </a:t>
            </a:r>
            <a:r>
              <a:rPr b="1" i="1" lang="zh-CN" sz="60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无垠   公爵   牲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毛毡  呼噜  吆喝  丝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悠然自得   </a:t>
            </a:r>
            <a:r>
              <a:rPr b="1" i="1" lang="zh-CN" sz="6000" spc="-1" strike="noStrike">
                <a:solidFill>
                  <a:srgbClr val="ff9999"/>
                </a:solidFill>
                <a:latin typeface="Times New Roman"/>
                <a:ea typeface="楷体_GB2312"/>
              </a:rPr>
              <a:t>膘肥体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119700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0"/>
            <a:ext cx="914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   </a:t>
            </a:r>
            <a:r>
              <a:rPr b="1" lang="zh-CN" sz="7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羊圈         模样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68360" y="400536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99ff"/>
                </a:solidFill>
                <a:latin typeface="Times New Roman"/>
              </a:rPr>
              <a:t>羊圈</a:t>
            </a:r>
            <a:r>
              <a:rPr b="1" lang="zh-CN" sz="6600" spc="-1" strike="noStrike">
                <a:solidFill>
                  <a:srgbClr val="3399ff"/>
                </a:solidFill>
                <a:latin typeface="Times New Roman"/>
              </a:rPr>
              <a:t>(ju</a:t>
            </a:r>
            <a:r>
              <a:rPr b="1" lang="en-US" sz="6600" spc="-1" strike="noStrike">
                <a:solidFill>
                  <a:srgbClr val="3399ff"/>
                </a:solidFill>
                <a:latin typeface="Times New Roman"/>
              </a:rPr>
              <a:t>à</a:t>
            </a:r>
            <a:r>
              <a:rPr b="1" lang="zh-CN" sz="6600" spc="-1" strike="noStrike">
                <a:solidFill>
                  <a:srgbClr val="3399ff"/>
                </a:solidFill>
                <a:latin typeface="Times New Roman"/>
              </a:rPr>
              <a:t>n) </a:t>
            </a:r>
            <a:r>
              <a:rPr b="1" lang="zh-CN" sz="6600" spc="-1" strike="noStrike">
                <a:solidFill>
                  <a:srgbClr val="3399ff"/>
                </a:solidFill>
                <a:latin typeface="Times New Roman"/>
              </a:rPr>
              <a:t>模</a:t>
            </a:r>
            <a:r>
              <a:rPr b="1" lang="zh-CN" sz="6600" spc="-1" strike="noStrike">
                <a:solidFill>
                  <a:srgbClr val="3399ff"/>
                </a:solidFill>
                <a:latin typeface="Times New Roman"/>
              </a:rPr>
              <a:t>(mú)</a:t>
            </a:r>
            <a:r>
              <a:rPr b="1" lang="zh-CN" sz="6600" spc="-1" strike="noStrike">
                <a:solidFill>
                  <a:srgbClr val="3399ff"/>
                </a:solidFill>
                <a:latin typeface="Times New Roman"/>
              </a:rPr>
              <a:t>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毛毡  牛犊  无垠  仪态端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1219320"/>
            <a:ext cx="85341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镶 嵌    骏 马    膘肥体壮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辽阔无垠（   ）   公 爵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悠然自得    牲畜（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429000" y="22860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í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791320" y="342900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ch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80880" y="50292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1143000" y="480060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547640" y="450864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mú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</a:rPr>
              <a:t>模样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547640" y="5805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mó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</a:rPr>
              <a:t>模型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648320" y="510552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5410080" y="487692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867280" y="44956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juàn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</a:rPr>
              <a:t>羊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867280" y="579132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quān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</a:rPr>
              <a:t>圆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temp_9be7a86c-1f6f-4821-8c97-f9ee9e1a94e92"/>
          <p:cNvPicPr/>
          <p:nvPr/>
        </p:nvPicPr>
        <p:blipFill>
          <a:blip r:embed="rId1"/>
          <a:stretch/>
        </p:blipFill>
        <p:spPr>
          <a:xfrm>
            <a:off x="0" y="0"/>
            <a:ext cx="982836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663480" y="496800"/>
            <a:ext cx="8480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阅读要求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作者写了几次“这就是真正的荷兰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cc0099"/>
                </a:solidFill>
                <a:latin typeface="Times New Roman"/>
                <a:ea typeface="隶书"/>
              </a:rPr>
              <a:t>，为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20071113163239549_2"/>
          <p:cNvPicPr/>
          <p:nvPr/>
        </p:nvPicPr>
        <p:blipFill>
          <a:blip r:embed="rId1"/>
          <a:srcRect l="0" t="6294" r="0" b="0"/>
          <a:stretch/>
        </p:blipFill>
        <p:spPr>
          <a:xfrm>
            <a:off x="-236520" y="0"/>
            <a:ext cx="97376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0" y="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牛群吃草时非常专注，有时站立不动，仿佛正在思考着什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687480" y="1197000"/>
            <a:ext cx="4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牛犊的模样像贵妇人，仪态端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老牛好似牛群的家长，无比尊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极目远眺，碧绿如丝绒般的草原上，是一头头黑白两色的奶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就是真正的荷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2008122152005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24000" y="260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极目远眺，四周全是丝绒般的碧绿草原和黑白两色的花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121640" y="49417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这就是真正的荷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200710142330565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820800" y="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这就是真正的荷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924360" y="1197000"/>
            <a:ext cx="4537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ffcc66"/>
                </a:solidFill>
                <a:latin typeface="隶书"/>
                <a:ea typeface="隶书"/>
              </a:rPr>
              <a:t>的碧绿草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ffcc66"/>
                </a:solidFill>
                <a:latin typeface="隶书"/>
                <a:ea typeface="隶书"/>
              </a:rPr>
              <a:t>的奶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ffcc66"/>
                </a:solidFill>
                <a:latin typeface="隶书"/>
                <a:ea typeface="隶书"/>
              </a:rPr>
              <a:t>的牛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ffcc66"/>
                </a:solidFill>
                <a:latin typeface="隶书"/>
                <a:ea typeface="隶书"/>
              </a:rPr>
              <a:t>的老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403720" y="1268280"/>
            <a:ext cx="164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如丝绒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神情专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仪态端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无比尊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914360" y="5059440"/>
            <a:ext cx="2741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碧绿草原牛成群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2:5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34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