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ding.wav" ContentType="audio/x-wav"/>
  <Override PartName="/ppt/media/click.wav" ContentType="audio/x-wav"/>
  <Override PartName="/ppt/media/image11.png" ContentType="image/png"/>
  <Override PartName="/ppt/media/image6.wmf" ContentType="image/x-wmf"/>
  <Override PartName="/ppt/media/image7.gif" ContentType="image/gif"/>
  <Override PartName="/ppt/media/image12.jpeg" ContentType="image/jpe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695-D6AE-4484-903A-48A565A8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094-3EBC-4918-BC1D-66D774B7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1CC-062B-4A6C-9C29-90A0310D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453-D25F-43DD-AB7E-2C7E5C7D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76F1-982F-417A-9CBA-2B533652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6074-105C-45FA-9C69-AE7AD877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4AA6-96E7-4057-8F39-059214E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A89-470E-4EDE-B89D-3ACA4F36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469-85CF-4A31-BEF7-4EBC313A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16B7-FCDE-4642-B697-2E93AC6A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F83A-C399-4BA2-B9F3-27C0589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A1A-1443-448D-A48B-2F0C7E2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2B0C-8254-4D23-89D5-FBA7FCE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BC36-1BAE-4A3A-B753-0E62B83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F2D6-79F7-4EAC-9828-79BF8CF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EF1F-F02A-4EC5-90C5-6F26BBA3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DDA-46BB-4648-A8E1-959761A1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887-BA41-46F5-8F33-0FF4BE52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5BD-9D71-4107-B425-1738A19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4A1-AAB3-4E4C-8852-1037188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DA9-65CC-42D6-B423-6CC2E35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AD4-F26C-4EB0-99E4-C6E8D66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42B-80F0-4735-95B0-B671DEA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C01-15D8-4521-8931-BFCC410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442B-06B7-46AD-AE71-B94296BD26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E9CB-DB2D-4C1C-8DCF-0F30906B9F9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661-4EE8-44C3-9AFF-3F1B3CB1E3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image" Target="../media/image8.wmf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755640" y="907920"/>
            <a:ext cx="754056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蜜蜂引路语文课件</a:t>
            </a:r>
            <a:r>
              <a:rPr b="1" lang="en-US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PPT</a:t>
            </a:r>
            <a:r>
              <a:rPr b="1" lang="zh-CN" sz="1800" spc="1" strike="noStrike">
                <a:ln w="19080">
                  <a:solidFill>
                    <a:srgbClr val="fefefe"/>
                  </a:solidFill>
                  <a:round/>
                </a:ln>
                <a:solidFill>
                  <a:srgbClr val="ff0000"/>
                </a:solidFill>
                <a:effectLst>
                  <a:outerShdw dist="50933" dir="7495540" blurRad="0" rotWithShape="0">
                    <a:srgbClr val="000000">
                      <a:alpha val="35000"/>
                    </a:srgbClr>
                  </a:outerShdw>
                </a:effectLst>
                <a:latin typeface="华文隶书"/>
              </a:rPr>
              <a:t>模板下载</a:t>
            </a:r>
            <a:endParaRPr b="1" lang="en-US" sz="1800" spc="1" strike="noStrike">
              <a:ln w="19080">
                <a:solidFill>
                  <a:srgbClr val="fefefe"/>
                </a:solidFill>
                <a:round/>
              </a:ln>
              <a:solidFill>
                <a:srgbClr val="ff0000"/>
              </a:solidFill>
              <a:effectLst>
                <a:outerShdw dist="50933" dir="7495540" blurRad="0" rotWithShape="0">
                  <a:srgbClr val="000000">
                    <a:alpha val="35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61b2c4ef7ab0e2092cf534dc"/>
          <p:cNvPicPr/>
          <p:nvPr/>
        </p:nvPicPr>
        <p:blipFill>
          <a:blip r:embed="rId1"/>
          <a:stretch/>
        </p:blipFill>
        <p:spPr>
          <a:xfrm>
            <a:off x="0" y="0"/>
            <a:ext cx="4859280" cy="7416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88000" y="630360"/>
            <a:ext cx="435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　　列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1870-1924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 世界无产阶级及其它劳动人民的领袖和导师、殖民地半殖民地被压迫民族的朋友。创建了俄国布尔什维克党，并缔造了世界上第一个社会主义国家苏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179280" y="10764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列宁住在莫斯科附近的一座小山上。当地有个养蜂的人，列宁常常派人去请他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谈天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987640" y="3645000"/>
            <a:ext cx="4537080" cy="576000"/>
          </a:xfrm>
          <a:prstGeom prst="wedgeRoundRectCallout">
            <a:avLst>
              <a:gd name="adj1" fmla="val 25611"/>
              <a:gd name="adj2" fmla="val -1800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会谈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612160" y="966960"/>
            <a:ext cx="2923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读第二自然段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09960" y="247824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为什么这一次亲自去找养蜂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061000" y="3701880"/>
            <a:ext cx="334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（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因为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句式说一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8199"/>
          <p:cNvSpPr/>
          <p:nvPr/>
        </p:nvSpPr>
        <p:spPr>
          <a:xfrm>
            <a:off x="682560" y="4726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179280" y="62064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列宁想找那个人谈谈怎样养蜂。可是往常派去找他的人到莫斯科去了，别人都不知道他住在哪里，列宁就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835280" y="3500280"/>
            <a:ext cx="5473440" cy="649440"/>
          </a:xfrm>
          <a:prstGeom prst="wedgeRoundRectCallout">
            <a:avLst>
              <a:gd name="adj1" fmla="val 21722"/>
              <a:gd name="adj2" fmla="val -107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列宁为什么要亲自去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989360" y="4797360"/>
            <a:ext cx="3345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（用</a:t>
            </a:r>
            <a:r>
              <a:rPr b="1" lang="zh-CN" sz="2800" spc="-1" strike="noStrike">
                <a:solidFill>
                  <a:srgbClr val="06521e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因为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所以</a:t>
            </a:r>
            <a:r>
              <a:rPr b="1" lang="en-US" sz="2800" spc="-1" strike="noStrike">
                <a:solidFill>
                  <a:srgbClr val="06521e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6521e"/>
                </a:solidFill>
                <a:latin typeface="黑体"/>
                <a:ea typeface="黑体"/>
              </a:rPr>
              <a:t>句式说一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393840" y="27241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列宁想找那个人谈谈怎样养蜂。可是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去找他的人到莫斯科去了，别人都不知道他住在哪里，列宁就亲自去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50920" y="70812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列宁住在莫斯科附近的一座小山上。当地有个养蜂的人，列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人去请他来谈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qccwj20080602q53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1447920"/>
            <a:ext cx="1295280" cy="2666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485360" y="496800"/>
            <a:ext cx="3433680" cy="6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红色的词意思一样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32000" y="1916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养蜂人来谈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往常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去找他的人不在，列宁只好亲自去找。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103760" y="408312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往常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76840" y="2840040"/>
            <a:ext cx="100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常常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182120" y="4083120"/>
            <a:ext cx="108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过去的，一般的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649960" y="28591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经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1476360" y="981000"/>
            <a:ext cx="4753080" cy="863640"/>
          </a:xfrm>
          <a:custGeom>
            <a:avLst/>
            <a:gdLst>
              <a:gd name="textAreaLeft" fmla="*/ 1188360 w 4753080"/>
              <a:gd name="textAreaRight" fmla="*/ 3565080 w 4753080"/>
              <a:gd name="textAreaTop" fmla="*/ 2556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ff"/>
          </a:solidFill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区别词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1187280" y="1052640"/>
            <a:ext cx="38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      往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68360" y="220500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班的语文课       都是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上的，今天却换了一个老师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班       获得文明班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586400" y="2781360"/>
            <a:ext cx="1498320" cy="1440"/>
            <a:chOff x="4586400" y="2781360"/>
            <a:chExt cx="1498320" cy="1440"/>
          </a:xfrm>
        </p:grpSpPr>
        <p:sp>
          <p:nvSpPr>
            <p:cNvPr id="155" name="Line 4"/>
            <p:cNvSpPr/>
            <p:nvPr/>
          </p:nvSpPr>
          <p:spPr>
            <a:xfrm>
              <a:off x="4586400" y="2781360"/>
              <a:ext cx="1498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586400" y="2781360"/>
              <a:ext cx="149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10000" y="4506840"/>
            <a:ext cx="1674720" cy="1800"/>
            <a:chOff x="2610000" y="4506840"/>
            <a:chExt cx="1674720" cy="1800"/>
          </a:xfrm>
        </p:grpSpPr>
        <p:sp>
          <p:nvSpPr>
            <p:cNvPr id="158" name="Line 5"/>
            <p:cNvSpPr/>
            <p:nvPr/>
          </p:nvSpPr>
          <p:spPr>
            <a:xfrm>
              <a:off x="2610000" y="4506840"/>
              <a:ext cx="167472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10000" y="4506840"/>
              <a:ext cx="1674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"/>
          <p:cNvSpPr/>
          <p:nvPr/>
        </p:nvSpPr>
        <p:spPr>
          <a:xfrm>
            <a:off x="4761000" y="21398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往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962440" y="37958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2504160" y="170820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读第三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64200" y="3363840"/>
            <a:ext cx="4021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列宁是怎样找到养蜂人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539640" y="765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95280" y="1557360"/>
            <a:ext cx="7912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楷体_GB231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一边走一边看，在路边发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么想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5280" y="3006720"/>
            <a:ext cx="799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仔细地观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是怎样观察的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4432320"/>
            <a:ext cx="8074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列宁继续观察，又发现了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475000" y="4046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谜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69800" y="1341360"/>
            <a:ext cx="2375280" cy="31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嗡嗡嗡，嗡嗡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成群飞进百花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传播花粉又采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个个都是爱劳动的小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68800" y="5081760"/>
            <a:ext cx="91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谜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40360" y="5589720"/>
            <a:ext cx="1368360" cy="360"/>
            <a:chOff x="4140360" y="5589720"/>
            <a:chExt cx="1368360" cy="360"/>
          </a:xfrm>
        </p:grpSpPr>
        <p:sp>
          <p:nvSpPr>
            <p:cNvPr id="91" name="Line 5"/>
            <p:cNvSpPr/>
            <p:nvPr/>
          </p:nvSpPr>
          <p:spPr>
            <a:xfrm>
              <a:off x="4140360" y="558972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140360" y="558972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6"/>
          <p:cNvSpPr/>
          <p:nvPr/>
        </p:nvSpPr>
        <p:spPr>
          <a:xfrm>
            <a:off x="4501080" y="501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252360" y="1531800"/>
            <a:ext cx="842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一边走一边看，     路边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有         。他        ，只见那些蜜蜂采了蜜就飞进附近的一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，园子旁边有一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164360" y="2060640"/>
            <a:ext cx="1203480" cy="1440"/>
            <a:chOff x="7164360" y="2060640"/>
            <a:chExt cx="1203480" cy="1440"/>
          </a:xfrm>
        </p:grpSpPr>
        <p:sp>
          <p:nvSpPr>
            <p:cNvPr id="173" name="Line 4"/>
            <p:cNvSpPr/>
            <p:nvPr/>
          </p:nvSpPr>
          <p:spPr>
            <a:xfrm>
              <a:off x="7164360" y="2060640"/>
              <a:ext cx="12034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164360" y="2060640"/>
              <a:ext cx="1203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82520" y="2565360"/>
            <a:ext cx="1976760" cy="1800"/>
            <a:chOff x="1082520" y="2565360"/>
            <a:chExt cx="1976760" cy="1800"/>
          </a:xfrm>
        </p:grpSpPr>
        <p:sp>
          <p:nvSpPr>
            <p:cNvPr id="176" name="Line 5"/>
            <p:cNvSpPr/>
            <p:nvPr/>
          </p:nvSpPr>
          <p:spPr>
            <a:xfrm>
              <a:off x="1082520" y="2565360"/>
              <a:ext cx="197676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082520" y="2565360"/>
              <a:ext cx="1976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762360" y="2565360"/>
            <a:ext cx="1889280" cy="1800"/>
            <a:chOff x="3762360" y="2565360"/>
            <a:chExt cx="1889280" cy="1800"/>
          </a:xfrm>
        </p:grpSpPr>
        <p:sp>
          <p:nvSpPr>
            <p:cNvPr id="179" name="Line 6"/>
            <p:cNvSpPr/>
            <p:nvPr/>
          </p:nvSpPr>
          <p:spPr>
            <a:xfrm>
              <a:off x="3762360" y="2565360"/>
              <a:ext cx="1889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762360" y="2565360"/>
              <a:ext cx="1889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873080" y="3548160"/>
            <a:ext cx="1546560" cy="1440"/>
            <a:chOff x="1873080" y="3548160"/>
            <a:chExt cx="1546560" cy="1440"/>
          </a:xfrm>
        </p:grpSpPr>
        <p:sp>
          <p:nvSpPr>
            <p:cNvPr id="182" name="Line 7"/>
            <p:cNvSpPr/>
            <p:nvPr/>
          </p:nvSpPr>
          <p:spPr>
            <a:xfrm flipV="1">
              <a:off x="1873080" y="3548160"/>
              <a:ext cx="15465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1873080" y="3548160"/>
              <a:ext cx="1546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54520" y="3068640"/>
            <a:ext cx="1546200" cy="1440"/>
            <a:chOff x="4754520" y="3068640"/>
            <a:chExt cx="1546200" cy="1440"/>
          </a:xfrm>
        </p:grpSpPr>
        <p:sp>
          <p:nvSpPr>
            <p:cNvPr id="185" name="Line 8"/>
            <p:cNvSpPr/>
            <p:nvPr/>
          </p:nvSpPr>
          <p:spPr>
            <a:xfrm>
              <a:off x="4754520" y="3068640"/>
              <a:ext cx="15462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754520" y="3068640"/>
              <a:ext cx="1546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9"/>
          <p:cNvSpPr/>
          <p:nvPr/>
        </p:nvSpPr>
        <p:spPr>
          <a:xfrm>
            <a:off x="4765680" y="1484280"/>
            <a:ext cx="10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164360" y="148428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042920" y="1989000"/>
            <a:ext cx="26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许多蜜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780000" y="19890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仔细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932360" y="2492280"/>
            <a:ext cx="11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908000" y="299412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664160" y="2060640"/>
            <a:ext cx="1203120" cy="1440"/>
            <a:chOff x="4664160" y="2060640"/>
            <a:chExt cx="1203120" cy="1440"/>
          </a:xfrm>
        </p:grpSpPr>
        <p:sp>
          <p:nvSpPr>
            <p:cNvPr id="194" name="Line 16"/>
            <p:cNvSpPr/>
            <p:nvPr/>
          </p:nvSpPr>
          <p:spPr>
            <a:xfrm>
              <a:off x="4664160" y="2060640"/>
              <a:ext cx="1203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664160" y="2060640"/>
              <a:ext cx="1203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"/>
          <p:cNvGrpSpPr/>
          <p:nvPr/>
        </p:nvGrpSpPr>
        <p:grpSpPr>
          <a:xfrm>
            <a:off x="685800" y="914400"/>
            <a:ext cx="7543440" cy="4571640"/>
            <a:chOff x="685800" y="914400"/>
            <a:chExt cx="7543440" cy="4571640"/>
          </a:xfrm>
        </p:grpSpPr>
        <p:sp>
          <p:nvSpPr>
            <p:cNvPr id="198" name="Rectangle 4"/>
            <p:cNvSpPr/>
            <p:nvPr/>
          </p:nvSpPr>
          <p:spPr>
            <a:xfrm>
              <a:off x="685800" y="914400"/>
              <a:ext cx="7543440" cy="4571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2671200" y="1154520"/>
              <a:ext cx="3512520" cy="393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列宁一边走一边看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发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路边的花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丛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许多蜜蜂。他仔细观察，只见那些蜜蜂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采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蜜，飞进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附近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一个园子里，园子旁边有一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房子。列宁走到那所房子跟前，敲了敲门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开门的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果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那个养蜂的人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0" y="1676520"/>
            <a:ext cx="685800" cy="360"/>
            <a:chOff x="6858000" y="1676520"/>
            <a:chExt cx="685800" cy="360"/>
          </a:xfrm>
        </p:grpSpPr>
        <p:sp>
          <p:nvSpPr>
            <p:cNvPr id="201" name="Line 7"/>
            <p:cNvSpPr/>
            <p:nvPr/>
          </p:nvSpPr>
          <p:spPr>
            <a:xfrm>
              <a:off x="6858000" y="167652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6858000" y="16765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1640" y="1752480"/>
            <a:ext cx="2438640" cy="1219320"/>
            <a:chOff x="4571640" y="1752480"/>
            <a:chExt cx="2438640" cy="1219320"/>
          </a:xfrm>
        </p:grpSpPr>
        <p:sp>
          <p:nvSpPr>
            <p:cNvPr id="204" name="Line 8"/>
            <p:cNvSpPr/>
            <p:nvPr/>
          </p:nvSpPr>
          <p:spPr>
            <a:xfrm flipH="1">
              <a:off x="4571640" y="1752480"/>
              <a:ext cx="2438280" cy="121932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4572000" y="1752480"/>
              <a:ext cx="24382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80720" y="3276720"/>
            <a:ext cx="2057760" cy="685800"/>
            <a:chOff x="1980720" y="3276720"/>
            <a:chExt cx="2057760" cy="685800"/>
          </a:xfrm>
        </p:grpSpPr>
        <p:sp>
          <p:nvSpPr>
            <p:cNvPr id="207" name="Line 9"/>
            <p:cNvSpPr/>
            <p:nvPr/>
          </p:nvSpPr>
          <p:spPr>
            <a:xfrm flipH="1">
              <a:off x="1980720" y="3276720"/>
              <a:ext cx="2057400" cy="6858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981080" y="3276720"/>
              <a:ext cx="20574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114800" y="3352680"/>
            <a:ext cx="685800" cy="360"/>
            <a:chOff x="4114800" y="3352680"/>
            <a:chExt cx="685800" cy="360"/>
          </a:xfrm>
        </p:grpSpPr>
        <p:sp>
          <p:nvSpPr>
            <p:cNvPr id="210" name="Line 10"/>
            <p:cNvSpPr/>
            <p:nvPr/>
          </p:nvSpPr>
          <p:spPr>
            <a:xfrm>
              <a:off x="4114800" y="3352680"/>
              <a:ext cx="6858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4114800" y="3352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14400" y="4267080"/>
            <a:ext cx="914400" cy="360"/>
            <a:chOff x="914400" y="4267080"/>
            <a:chExt cx="914400" cy="360"/>
          </a:xfrm>
        </p:grpSpPr>
        <p:sp>
          <p:nvSpPr>
            <p:cNvPr id="213" name="Line 11"/>
            <p:cNvSpPr/>
            <p:nvPr/>
          </p:nvSpPr>
          <p:spPr>
            <a:xfrm>
              <a:off x="914400" y="4267080"/>
              <a:ext cx="91440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914400" y="42670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PM_047"/>
          <p:cNvPicPr/>
          <p:nvPr/>
        </p:nvPicPr>
        <p:blipFill>
          <a:blip r:embed="rId1"/>
          <a:srcRect l="4750" t="0" r="33594" b="13339"/>
          <a:stretch/>
        </p:blipFill>
        <p:spPr>
          <a:xfrm>
            <a:off x="6551640" y="3168720"/>
            <a:ext cx="1936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3"/>
          <p:cNvGrpSpPr/>
          <p:nvPr/>
        </p:nvGrpSpPr>
        <p:grpSpPr>
          <a:xfrm>
            <a:off x="7272360" y="2592360"/>
            <a:ext cx="1828800" cy="2239920"/>
            <a:chOff x="7272360" y="2592360"/>
            <a:chExt cx="1828800" cy="2239920"/>
          </a:xfrm>
        </p:grpSpPr>
        <p:pic>
          <p:nvPicPr>
            <p:cNvPr id="217" name="Picture 4" descr="HOUSE6"/>
            <p:cNvPicPr/>
            <p:nvPr/>
          </p:nvPicPr>
          <p:blipFill>
            <a:blip r:embed="rId2"/>
            <a:stretch/>
          </p:blipFill>
          <p:spPr>
            <a:xfrm>
              <a:off x="7272360" y="3430440"/>
              <a:ext cx="1828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5"/>
            <p:cNvSpPr/>
            <p:nvPr/>
          </p:nvSpPr>
          <p:spPr>
            <a:xfrm>
              <a:off x="7729560" y="2592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养蜂人的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6"/>
          <p:cNvGrpSpPr/>
          <p:nvPr/>
        </p:nvGrpSpPr>
        <p:grpSpPr>
          <a:xfrm>
            <a:off x="266760" y="1268280"/>
            <a:ext cx="4952880" cy="3962520"/>
            <a:chOff x="266760" y="1268280"/>
            <a:chExt cx="4952880" cy="3962520"/>
          </a:xfrm>
        </p:grpSpPr>
        <p:pic>
          <p:nvPicPr>
            <p:cNvPr id="220" name="Picture 7" descr="Bee_fl1"/>
            <p:cNvPicPr/>
            <p:nvPr/>
          </p:nvPicPr>
          <p:blipFill>
            <a:blip r:embed="rId3"/>
            <a:stretch/>
          </p:blipFill>
          <p:spPr>
            <a:xfrm>
              <a:off x="2552760" y="36306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Bee_fl1"/>
            <p:cNvPicPr/>
            <p:nvPr/>
          </p:nvPicPr>
          <p:blipFill>
            <a:blip r:embed="rId4"/>
            <a:stretch/>
          </p:blipFill>
          <p:spPr>
            <a:xfrm>
              <a:off x="2095560" y="39351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9"/>
            <p:cNvGrpSpPr/>
            <p:nvPr/>
          </p:nvGrpSpPr>
          <p:grpSpPr>
            <a:xfrm>
              <a:off x="2247840" y="2868480"/>
              <a:ext cx="2743200" cy="2057400"/>
              <a:chOff x="2247840" y="2868480"/>
              <a:chExt cx="2743200" cy="2057400"/>
            </a:xfrm>
          </p:grpSpPr>
          <p:pic>
            <p:nvPicPr>
              <p:cNvPr id="223" name="Picture 10" descr="Bee_fl1"/>
              <p:cNvPicPr/>
              <p:nvPr/>
            </p:nvPicPr>
            <p:blipFill>
              <a:blip r:embed="rId5"/>
              <a:stretch/>
            </p:blipFill>
            <p:spPr>
              <a:xfrm>
                <a:off x="2705040" y="28684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1" descr="Bee_fl1"/>
              <p:cNvPicPr/>
              <p:nvPr/>
            </p:nvPicPr>
            <p:blipFill>
              <a:blip r:embed="rId6"/>
              <a:stretch/>
            </p:blipFill>
            <p:spPr>
              <a:xfrm>
                <a:off x="2247840" y="31730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12" descr="Bee_fl1"/>
              <p:cNvPicPr/>
              <p:nvPr/>
            </p:nvPicPr>
            <p:blipFill>
              <a:blip r:embed="rId7"/>
              <a:stretch/>
            </p:blipFill>
            <p:spPr>
              <a:xfrm>
                <a:off x="2628720" y="31730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13" descr="Bee_fl1"/>
              <p:cNvPicPr/>
              <p:nvPr/>
            </p:nvPicPr>
            <p:blipFill>
              <a:blip r:embed="rId8"/>
              <a:stretch/>
            </p:blipFill>
            <p:spPr>
              <a:xfrm>
                <a:off x="4076640" y="37828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Group 14"/>
            <p:cNvGrpSpPr/>
            <p:nvPr/>
          </p:nvGrpSpPr>
          <p:grpSpPr>
            <a:xfrm>
              <a:off x="266760" y="1268280"/>
              <a:ext cx="2743200" cy="2057400"/>
              <a:chOff x="266760" y="1268280"/>
              <a:chExt cx="2743200" cy="2057400"/>
            </a:xfrm>
          </p:grpSpPr>
          <p:pic>
            <p:nvPicPr>
              <p:cNvPr id="228" name="Picture 15" descr="Bee_fl1"/>
              <p:cNvPicPr/>
              <p:nvPr/>
            </p:nvPicPr>
            <p:blipFill>
              <a:blip r:embed="rId9"/>
              <a:stretch/>
            </p:blipFill>
            <p:spPr>
              <a:xfrm>
                <a:off x="723960" y="12682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16" descr="Bee_fl1"/>
              <p:cNvPicPr/>
              <p:nvPr/>
            </p:nvPicPr>
            <p:blipFill>
              <a:blip r:embed="rId10"/>
              <a:stretch/>
            </p:blipFill>
            <p:spPr>
              <a:xfrm>
                <a:off x="266760" y="15728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7" descr="Bee_fl1"/>
              <p:cNvPicPr/>
              <p:nvPr/>
            </p:nvPicPr>
            <p:blipFill>
              <a:blip r:embed="rId11"/>
              <a:stretch/>
            </p:blipFill>
            <p:spPr>
              <a:xfrm>
                <a:off x="647640" y="15728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8" descr="Bee_fl1"/>
              <p:cNvPicPr/>
              <p:nvPr/>
            </p:nvPicPr>
            <p:blipFill>
              <a:blip r:embed="rId12"/>
              <a:stretch/>
            </p:blipFill>
            <p:spPr>
              <a:xfrm>
                <a:off x="2095560" y="21826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" name="Group 19"/>
            <p:cNvGrpSpPr/>
            <p:nvPr/>
          </p:nvGrpSpPr>
          <p:grpSpPr>
            <a:xfrm>
              <a:off x="1181160" y="1496880"/>
              <a:ext cx="2743200" cy="2057400"/>
              <a:chOff x="1181160" y="1496880"/>
              <a:chExt cx="2743200" cy="2057400"/>
            </a:xfrm>
          </p:grpSpPr>
          <p:pic>
            <p:nvPicPr>
              <p:cNvPr id="233" name="Picture 20" descr="Bee_fl1"/>
              <p:cNvPicPr/>
              <p:nvPr/>
            </p:nvPicPr>
            <p:blipFill>
              <a:blip r:embed="rId13"/>
              <a:stretch/>
            </p:blipFill>
            <p:spPr>
              <a:xfrm>
                <a:off x="1638360" y="14968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Picture 21" descr="Bee_fl1"/>
              <p:cNvPicPr/>
              <p:nvPr/>
            </p:nvPicPr>
            <p:blipFill>
              <a:blip r:embed="rId14"/>
              <a:stretch/>
            </p:blipFill>
            <p:spPr>
              <a:xfrm>
                <a:off x="1181160" y="18014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Picture 22" descr="Bee_fl1"/>
              <p:cNvPicPr/>
              <p:nvPr/>
            </p:nvPicPr>
            <p:blipFill>
              <a:blip r:embed="rId15"/>
              <a:stretch/>
            </p:blipFill>
            <p:spPr>
              <a:xfrm>
                <a:off x="1562040" y="180144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23" descr="Bee_fl1"/>
              <p:cNvPicPr/>
              <p:nvPr/>
            </p:nvPicPr>
            <p:blipFill>
              <a:blip r:embed="rId16"/>
              <a:stretch/>
            </p:blipFill>
            <p:spPr>
              <a:xfrm>
                <a:off x="3009960" y="2411280"/>
                <a:ext cx="9144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7" name="Picture 24" descr="Bee_fl1"/>
            <p:cNvPicPr/>
            <p:nvPr/>
          </p:nvPicPr>
          <p:blipFill>
            <a:blip r:embed="rId17"/>
            <a:stretch/>
          </p:blipFill>
          <p:spPr>
            <a:xfrm>
              <a:off x="2933640" y="31734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5" descr="Bee_fl1"/>
            <p:cNvPicPr/>
            <p:nvPr/>
          </p:nvPicPr>
          <p:blipFill>
            <a:blip r:embed="rId18"/>
            <a:stretch/>
          </p:blipFill>
          <p:spPr>
            <a:xfrm>
              <a:off x="2476440" y="34779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6" descr="Bee_fl1"/>
            <p:cNvPicPr/>
            <p:nvPr/>
          </p:nvPicPr>
          <p:blipFill>
            <a:blip r:embed="rId19"/>
            <a:stretch/>
          </p:blipFill>
          <p:spPr>
            <a:xfrm>
              <a:off x="2857680" y="347796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7" descr="Bee_fl1"/>
            <p:cNvPicPr/>
            <p:nvPr/>
          </p:nvPicPr>
          <p:blipFill>
            <a:blip r:embed="rId20"/>
            <a:stretch/>
          </p:blipFill>
          <p:spPr>
            <a:xfrm>
              <a:off x="4305240" y="4087800"/>
              <a:ext cx="9144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28"/>
            <p:cNvSpPr/>
            <p:nvPr/>
          </p:nvSpPr>
          <p:spPr>
            <a:xfrm>
              <a:off x="3314880" y="4316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花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9"/>
          <p:cNvGrpSpPr/>
          <p:nvPr/>
        </p:nvGrpSpPr>
        <p:grpSpPr>
          <a:xfrm>
            <a:off x="4103640" y="0"/>
            <a:ext cx="4191120" cy="1378080"/>
            <a:chOff x="4103640" y="0"/>
            <a:chExt cx="4191120" cy="1378080"/>
          </a:xfrm>
        </p:grpSpPr>
        <p:pic>
          <p:nvPicPr>
            <p:cNvPr id="243" name="Picture 30" descr="HOUSE4"/>
            <p:cNvPicPr/>
            <p:nvPr/>
          </p:nvPicPr>
          <p:blipFill>
            <a:blip r:embed="rId21"/>
            <a:stretch/>
          </p:blipFill>
          <p:spPr>
            <a:xfrm>
              <a:off x="4103640" y="0"/>
              <a:ext cx="22100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31"/>
            <p:cNvSpPr/>
            <p:nvPr/>
          </p:nvSpPr>
          <p:spPr>
            <a:xfrm>
              <a:off x="6542280" y="8384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列宁的住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52360" y="1440000"/>
            <a:ext cx="1080000" cy="1584360"/>
            <a:chOff x="3852360" y="1440000"/>
            <a:chExt cx="1080000" cy="1584360"/>
          </a:xfrm>
        </p:grpSpPr>
        <p:sp>
          <p:nvSpPr>
            <p:cNvPr id="246" name="Line 32"/>
            <p:cNvSpPr/>
            <p:nvPr/>
          </p:nvSpPr>
          <p:spPr>
            <a:xfrm flipH="1">
              <a:off x="3852360" y="1440000"/>
              <a:ext cx="1079640" cy="1584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852720" y="1440000"/>
              <a:ext cx="107964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33"/>
          <p:cNvSpPr/>
          <p:nvPr/>
        </p:nvSpPr>
        <p:spPr>
          <a:xfrm>
            <a:off x="3672000" y="172728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032360" y="3600360"/>
            <a:ext cx="2447640" cy="863640"/>
            <a:chOff x="4032360" y="3600360"/>
            <a:chExt cx="2447640" cy="863640"/>
          </a:xfrm>
        </p:grpSpPr>
        <p:sp>
          <p:nvSpPr>
            <p:cNvPr id="250" name="Line 34"/>
            <p:cNvSpPr/>
            <p:nvPr/>
          </p:nvSpPr>
          <p:spPr>
            <a:xfrm>
              <a:off x="4032360" y="3600360"/>
              <a:ext cx="2447640" cy="863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4032360" y="3600360"/>
              <a:ext cx="24476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35"/>
          <p:cNvSpPr/>
          <p:nvPr/>
        </p:nvSpPr>
        <p:spPr>
          <a:xfrm>
            <a:off x="5327640" y="33116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252360" y="551664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列宁一边走一边看，他发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仔细观察，又发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0920" y="1700280"/>
            <a:ext cx="74898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为什么认为跟着蜜蜂走就能找到养蜂人？列宁是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8199"/>
          <p:cNvSpPr/>
          <p:nvPr/>
        </p:nvSpPr>
        <p:spPr>
          <a:xfrm>
            <a:off x="826920" y="44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38200" y="1197000"/>
            <a:ext cx="7273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终于找到养蜂人，他们见面后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122560" y="3519360"/>
            <a:ext cx="4581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黑体"/>
                <a:ea typeface="黑体"/>
              </a:rPr>
              <a:t>读课文第四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pic_6304[1]"/>
          <p:cNvPicPr/>
          <p:nvPr/>
        </p:nvPicPr>
        <p:blipFill>
          <a:blip r:embed="rId1"/>
          <a:srcRect l="7394" t="19234" r="10150" b="365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5865120" y="615636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上画的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2"/>
          <p:cNvGrpSpPr/>
          <p:nvPr/>
        </p:nvGrpSpPr>
        <p:grpSpPr>
          <a:xfrm>
            <a:off x="730080" y="898560"/>
            <a:ext cx="7010640" cy="4114440"/>
            <a:chOff x="730080" y="898560"/>
            <a:chExt cx="7010640" cy="4114440"/>
          </a:xfrm>
        </p:grpSpPr>
        <p:sp>
          <p:nvSpPr>
            <p:cNvPr id="264" name="Rectangle 3"/>
            <p:cNvSpPr/>
            <p:nvPr/>
          </p:nvSpPr>
          <p:spPr>
            <a:xfrm>
              <a:off x="730080" y="898560"/>
              <a:ext cx="701064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"/>
            <p:cNvSpPr/>
            <p:nvPr/>
          </p:nvSpPr>
          <p:spPr>
            <a:xfrm>
              <a:off x="1954080" y="1037160"/>
              <a:ext cx="45090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养蜂的人看见列宁，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惊讶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说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您好，列宁同志。是谁把您领到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儿来的？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宁笑着说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有向导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您的蜜蜂把我领到这儿来的。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"/>
          <p:cNvGrpSpPr/>
          <p:nvPr/>
        </p:nvGrpSpPr>
        <p:grpSpPr>
          <a:xfrm>
            <a:off x="539640" y="1628640"/>
            <a:ext cx="7010640" cy="4114440"/>
            <a:chOff x="539640" y="1628640"/>
            <a:chExt cx="7010640" cy="4114440"/>
          </a:xfrm>
        </p:grpSpPr>
        <p:sp>
          <p:nvSpPr>
            <p:cNvPr id="268" name="Rectangle 3"/>
            <p:cNvSpPr/>
            <p:nvPr/>
          </p:nvSpPr>
          <p:spPr>
            <a:xfrm>
              <a:off x="539640" y="1628640"/>
              <a:ext cx="701064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"/>
            <p:cNvSpPr/>
            <p:nvPr/>
          </p:nvSpPr>
          <p:spPr>
            <a:xfrm>
              <a:off x="613080" y="176724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5"/>
          <p:cNvGrpSpPr/>
          <p:nvPr/>
        </p:nvGrpSpPr>
        <p:grpSpPr>
          <a:xfrm>
            <a:off x="576360" y="765000"/>
            <a:ext cx="7010280" cy="4114440"/>
            <a:chOff x="576360" y="765000"/>
            <a:chExt cx="7010280" cy="4114440"/>
          </a:xfrm>
        </p:grpSpPr>
        <p:sp>
          <p:nvSpPr>
            <p:cNvPr id="271" name="Rectangle 6"/>
            <p:cNvSpPr/>
            <p:nvPr/>
          </p:nvSpPr>
          <p:spPr>
            <a:xfrm>
              <a:off x="576360" y="765000"/>
              <a:ext cx="701028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1942920" y="850320"/>
              <a:ext cx="49356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	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养蜂的人看见列宁，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惊讶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地说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您好，列宁同志。是谁把您领到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儿来的？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宁笑着说：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我有向导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是您的蜜蜂把我领到这儿来的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468360" y="1916280"/>
            <a:ext cx="7632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列宁说的</a:t>
            </a: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向导</a:t>
            </a:r>
            <a:r>
              <a:rPr b="1" lang="zh-CN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指谁？为什么说是蜜蜂引的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1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395280" y="14842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列宁笑着说：“我有向导，是您的蜜蜂把我领到这儿来的。”这句话里“向导”指的是（          ），“您”指的是（                 ）。列宁跟着采了蜜的（               ）走，果然（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776320" y="628560"/>
            <a:ext cx="12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读课文最后一段，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284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43280" y="2708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476360" y="3357720"/>
            <a:ext cx="14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606760" y="32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养蜂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2556000" y="3933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蜜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042920" y="4508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找到了养蜂人的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263680" y="1413000"/>
            <a:ext cx="4143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看了题目，你有什么疑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81640" y="3068640"/>
            <a:ext cx="2375280" cy="175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是谁让蜜蜂引路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宋体"/>
              </a:rPr>
              <a:t>蜜蜂是怎样引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2"/>
          <p:cNvSpPr/>
          <p:nvPr/>
        </p:nvSpPr>
        <p:spPr>
          <a:xfrm>
            <a:off x="826920" y="112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夸一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1916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养蜂的人，听到列宁这么说，你会情不自禁的对列宁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同志，你真是一个             的人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916360" y="4869000"/>
            <a:ext cx="3456000" cy="360"/>
            <a:chOff x="2916360" y="4869000"/>
            <a:chExt cx="3456000" cy="360"/>
          </a:xfrm>
        </p:grpSpPr>
        <p:sp>
          <p:nvSpPr>
            <p:cNvPr id="288" name="Line 4"/>
            <p:cNvSpPr/>
            <p:nvPr/>
          </p:nvSpPr>
          <p:spPr>
            <a:xfrm>
              <a:off x="2916360" y="486900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2916360" y="486900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"/>
          <p:cNvSpPr/>
          <p:nvPr/>
        </p:nvSpPr>
        <p:spPr>
          <a:xfrm>
            <a:off x="2085840" y="52560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宋体"/>
              </a:rPr>
              <a:t>学习了这课，你懂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50920" y="1751040"/>
            <a:ext cx="806616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521e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列宁遇事细心观察，认真思考，作出判断，解决问题，特别值得我们学习。以后我们遇事也要多思考，多分析，多动脑，想办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7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363960" y="198900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仔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980080" y="198900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认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惊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284720" y="1916280"/>
            <a:ext cx="360" cy="4608360"/>
            <a:chOff x="4284720" y="1916280"/>
            <a:chExt cx="360" cy="4608360"/>
          </a:xfrm>
        </p:grpSpPr>
        <p:sp>
          <p:nvSpPr>
            <p:cNvPr id="297" name="Line 6"/>
            <p:cNvSpPr/>
            <p:nvPr/>
          </p:nvSpPr>
          <p:spPr>
            <a:xfrm>
              <a:off x="4284720" y="1916280"/>
              <a:ext cx="0" cy="460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4284720" y="1916280"/>
              <a:ext cx="360" cy="46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7"/>
          <p:cNvSpPr/>
          <p:nvPr/>
        </p:nvSpPr>
        <p:spPr>
          <a:xfrm>
            <a:off x="4899240" y="206208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引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常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8093520" y="2062080"/>
            <a:ext cx="729360" cy="305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带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经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发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UpRibbonSharp"/>
          <p:cNvSpPr/>
          <p:nvPr/>
        </p:nvSpPr>
        <p:spPr>
          <a:xfrm>
            <a:off x="179280" y="189000"/>
            <a:ext cx="8748720" cy="718920"/>
          </a:xfrm>
          <a:prstGeom prst="pie">
            <a:avLst/>
          </a:prstGeom>
          <a:solidFill>
            <a:srgbClr val="d8ebb3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连线近意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155600" y="2708280"/>
            <a:ext cx="1656000" cy="1944720"/>
            <a:chOff x="1155600" y="2708280"/>
            <a:chExt cx="1656000" cy="1944720"/>
          </a:xfrm>
        </p:grpSpPr>
        <p:sp>
          <p:nvSpPr>
            <p:cNvPr id="303" name="Line 10"/>
            <p:cNvSpPr/>
            <p:nvPr/>
          </p:nvSpPr>
          <p:spPr>
            <a:xfrm>
              <a:off x="1155600" y="2708280"/>
              <a:ext cx="1656000" cy="1944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155600" y="2708280"/>
              <a:ext cx="165600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155600" y="2781000"/>
            <a:ext cx="1727280" cy="1942920"/>
            <a:chOff x="1155600" y="2781000"/>
            <a:chExt cx="1727280" cy="1942920"/>
          </a:xfrm>
        </p:grpSpPr>
        <p:sp>
          <p:nvSpPr>
            <p:cNvPr id="306" name="Line 11"/>
            <p:cNvSpPr/>
            <p:nvPr/>
          </p:nvSpPr>
          <p:spPr>
            <a:xfrm flipV="1">
              <a:off x="1155600" y="2781000"/>
              <a:ext cx="1727280" cy="194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10800000">
              <a:off x="1155600" y="2781000"/>
              <a:ext cx="172728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27240" y="3716280"/>
            <a:ext cx="1655640" cy="360"/>
            <a:chOff x="1227240" y="3716280"/>
            <a:chExt cx="1655640" cy="360"/>
          </a:xfrm>
        </p:grpSpPr>
        <p:sp>
          <p:nvSpPr>
            <p:cNvPr id="309" name="Line 12"/>
            <p:cNvSpPr/>
            <p:nvPr/>
          </p:nvSpPr>
          <p:spPr>
            <a:xfrm>
              <a:off x="1227240" y="37162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227240" y="371628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691240" y="2781360"/>
            <a:ext cx="2305080" cy="2016000"/>
            <a:chOff x="5691240" y="2781360"/>
            <a:chExt cx="2305080" cy="2016000"/>
          </a:xfrm>
        </p:grpSpPr>
        <p:sp>
          <p:nvSpPr>
            <p:cNvPr id="312" name="Line 13"/>
            <p:cNvSpPr/>
            <p:nvPr/>
          </p:nvSpPr>
          <p:spPr>
            <a:xfrm>
              <a:off x="5691240" y="2781360"/>
              <a:ext cx="2305080" cy="2016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691240" y="2781360"/>
              <a:ext cx="230508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764320" y="3789360"/>
            <a:ext cx="2232000" cy="1008000"/>
            <a:chOff x="5764320" y="3789360"/>
            <a:chExt cx="2232000" cy="1008000"/>
          </a:xfrm>
        </p:grpSpPr>
        <p:sp>
          <p:nvSpPr>
            <p:cNvPr id="315" name="Line 14"/>
            <p:cNvSpPr/>
            <p:nvPr/>
          </p:nvSpPr>
          <p:spPr>
            <a:xfrm flipV="1">
              <a:off x="5764320" y="3789360"/>
              <a:ext cx="2232000" cy="100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10800000">
              <a:off x="5764320" y="3789360"/>
              <a:ext cx="223200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690880" y="2852280"/>
            <a:ext cx="2305440" cy="863640"/>
            <a:chOff x="5690880" y="2852280"/>
            <a:chExt cx="2305440" cy="863640"/>
          </a:xfrm>
        </p:grpSpPr>
        <p:sp>
          <p:nvSpPr>
            <p:cNvPr id="318" name="Line 15"/>
            <p:cNvSpPr/>
            <p:nvPr/>
          </p:nvSpPr>
          <p:spPr>
            <a:xfrm flipV="1">
              <a:off x="5691240" y="2852280"/>
              <a:ext cx="2305080" cy="863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 rot="10800000">
              <a:off x="5690880" y="2852280"/>
              <a:ext cx="2305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3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5506920" y="1327320"/>
            <a:ext cx="1008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y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4016520" y="1327320"/>
            <a:ext cx="9144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p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482920" y="1339920"/>
            <a:ext cx="86364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t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627280" y="3932280"/>
            <a:ext cx="1584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q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114560" y="836640"/>
            <a:ext cx="76176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宋体"/>
              </a:rPr>
              <a:t>y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114560" y="3932280"/>
            <a:ext cx="1008000" cy="23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f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210200" y="3932280"/>
            <a:ext cx="936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7091280" y="1268280"/>
            <a:ext cx="115272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l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5291280" y="3932280"/>
            <a:ext cx="15843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jì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宋体"/>
                <a:ea typeface="宋体"/>
              </a:rPr>
              <a:t>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"/>
          <p:cNvSpPr/>
          <p:nvPr/>
        </p:nvSpPr>
        <p:spPr>
          <a:xfrm>
            <a:off x="1476360" y="4649760"/>
            <a:ext cx="646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讶   引   谈   列   蜂   敲   派   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32000" y="1628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   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  yǐn   fēng   qiāo   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l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907640" y="2276280"/>
            <a:ext cx="5040720" cy="2376360"/>
            <a:chOff x="1907640" y="2276280"/>
            <a:chExt cx="5040720" cy="2376360"/>
          </a:xfrm>
        </p:grpSpPr>
        <p:sp>
          <p:nvSpPr>
            <p:cNvPr id="334" name="Line 4"/>
            <p:cNvSpPr/>
            <p:nvPr/>
          </p:nvSpPr>
          <p:spPr>
            <a:xfrm flipV="1">
              <a:off x="1908000" y="2276280"/>
              <a:ext cx="5040360" cy="237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1907640" y="2275920"/>
              <a:ext cx="5040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84360" y="2205000"/>
            <a:ext cx="1146240" cy="2448000"/>
            <a:chOff x="2484360" y="2205000"/>
            <a:chExt cx="1146240" cy="2448000"/>
          </a:xfrm>
        </p:grpSpPr>
        <p:sp>
          <p:nvSpPr>
            <p:cNvPr id="337" name="Line 5"/>
            <p:cNvSpPr/>
            <p:nvPr/>
          </p:nvSpPr>
          <p:spPr>
            <a:xfrm flipV="1">
              <a:off x="2484360" y="2205000"/>
              <a:ext cx="114624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2484360" y="2205000"/>
              <a:ext cx="114624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5280" y="2205000"/>
            <a:ext cx="1557360" cy="2519280"/>
            <a:chOff x="1835280" y="2205000"/>
            <a:chExt cx="1557360" cy="2519280"/>
          </a:xfrm>
        </p:grpSpPr>
        <p:sp>
          <p:nvSpPr>
            <p:cNvPr id="340" name="Line 6"/>
            <p:cNvSpPr/>
            <p:nvPr/>
          </p:nvSpPr>
          <p:spPr>
            <a:xfrm flipH="1" flipV="1">
              <a:off x="1835280" y="2205000"/>
              <a:ext cx="1557360" cy="2519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 rot="10800000">
              <a:off x="1835280" y="2205000"/>
              <a:ext cx="1557360" cy="25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284720" y="2133720"/>
            <a:ext cx="409680" cy="2590560"/>
            <a:chOff x="4284720" y="2133720"/>
            <a:chExt cx="409680" cy="2590560"/>
          </a:xfrm>
        </p:grpSpPr>
        <p:sp>
          <p:nvSpPr>
            <p:cNvPr id="343" name="Line 7"/>
            <p:cNvSpPr/>
            <p:nvPr/>
          </p:nvSpPr>
          <p:spPr>
            <a:xfrm>
              <a:off x="4284720" y="2133720"/>
              <a:ext cx="409680" cy="2590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4284720" y="2133720"/>
              <a:ext cx="409680" cy="259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292720" y="2205000"/>
            <a:ext cx="216000" cy="2448000"/>
            <a:chOff x="5292720" y="2205000"/>
            <a:chExt cx="216000" cy="2448000"/>
          </a:xfrm>
        </p:grpSpPr>
        <p:sp>
          <p:nvSpPr>
            <p:cNvPr id="346" name="Line 8"/>
            <p:cNvSpPr/>
            <p:nvPr/>
          </p:nvSpPr>
          <p:spPr>
            <a:xfrm flipV="1">
              <a:off x="5292720" y="2205000"/>
              <a:ext cx="21600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 rot="10800000">
              <a:off x="5292720" y="2205000"/>
              <a:ext cx="21600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700000" y="2205000"/>
            <a:ext cx="3684600" cy="2448000"/>
            <a:chOff x="2700000" y="2205000"/>
            <a:chExt cx="3684600" cy="2448000"/>
          </a:xfrm>
        </p:grpSpPr>
        <p:sp>
          <p:nvSpPr>
            <p:cNvPr id="349" name="Line 9"/>
            <p:cNvSpPr/>
            <p:nvPr/>
          </p:nvSpPr>
          <p:spPr>
            <a:xfrm flipH="1" flipV="1">
              <a:off x="2700000" y="2205000"/>
              <a:ext cx="368460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2700000" y="2204640"/>
              <a:ext cx="368460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443640" y="2205000"/>
            <a:ext cx="246240" cy="2448000"/>
            <a:chOff x="6443640" y="2205000"/>
            <a:chExt cx="246240" cy="2448000"/>
          </a:xfrm>
        </p:grpSpPr>
        <p:sp>
          <p:nvSpPr>
            <p:cNvPr id="352" name="Line 10"/>
            <p:cNvSpPr/>
            <p:nvPr/>
          </p:nvSpPr>
          <p:spPr>
            <a:xfrm flipH="1" flipV="1">
              <a:off x="6443640" y="2205000"/>
              <a:ext cx="24624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 rot="10800000">
              <a:off x="6443640" y="2205000"/>
              <a:ext cx="24624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924000" y="2205000"/>
            <a:ext cx="4032720" cy="2448000"/>
            <a:chOff x="3924000" y="2205000"/>
            <a:chExt cx="4032720" cy="2448000"/>
          </a:xfrm>
        </p:grpSpPr>
        <p:sp>
          <p:nvSpPr>
            <p:cNvPr id="355" name="Line 11"/>
            <p:cNvSpPr/>
            <p:nvPr/>
          </p:nvSpPr>
          <p:spPr>
            <a:xfrm flipV="1">
              <a:off x="3924360" y="2205000"/>
              <a:ext cx="4032360" cy="24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 rot="10800000">
              <a:off x="3924000" y="2204640"/>
              <a:ext cx="4032360" cy="24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60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63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6"/>
          <p:cNvSpPr/>
          <p:nvPr/>
        </p:nvSpPr>
        <p:spPr>
          <a:xfrm>
            <a:off x="1770840" y="21528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讶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711440" y="139680"/>
            <a:ext cx="196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y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68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惊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72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75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6"/>
          <p:cNvSpPr/>
          <p:nvPr/>
        </p:nvSpPr>
        <p:spPr>
          <a:xfrm>
            <a:off x="155484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谈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194480" y="387360"/>
            <a:ext cx="2764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tá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80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谈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84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87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6"/>
          <p:cNvSpPr/>
          <p:nvPr/>
        </p:nvSpPr>
        <p:spPr>
          <a:xfrm>
            <a:off x="177552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派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1341360" y="260280"/>
            <a:ext cx="253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pà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392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派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396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399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6"/>
          <p:cNvSpPr/>
          <p:nvPr/>
        </p:nvSpPr>
        <p:spPr>
          <a:xfrm>
            <a:off x="1775520" y="206064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319760" y="333360"/>
            <a:ext cx="251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yǐ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04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指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8199"/>
          <p:cNvSpPr/>
          <p:nvPr/>
        </p:nvSpPr>
        <p:spPr>
          <a:xfrm>
            <a:off x="1835280" y="623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09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12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6"/>
          <p:cNvSpPr/>
          <p:nvPr/>
        </p:nvSpPr>
        <p:spPr>
          <a:xfrm>
            <a:off x="1775520" y="207972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列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571040" y="476280"/>
            <a:ext cx="201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li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17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列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00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mòsī      fù     pà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莫斯科    附近   派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án       yà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谈天    惊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21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24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6"/>
          <p:cNvSpPr/>
          <p:nvPr/>
        </p:nvSpPr>
        <p:spPr>
          <a:xfrm>
            <a:off x="1775520" y="220680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蜂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710280" y="355680"/>
            <a:ext cx="363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fē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29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蜜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EB36-6917-48D7-8F05-FD6376189C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1116000" y="2278080"/>
            <a:ext cx="3095640" cy="36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00000" y="4149360"/>
            <a:ext cx="3718080" cy="17640"/>
            <a:chOff x="900000" y="4149360"/>
            <a:chExt cx="3718080" cy="17640"/>
          </a:xfrm>
        </p:grpSpPr>
        <p:sp>
          <p:nvSpPr>
            <p:cNvPr id="437" name="Line 4"/>
            <p:cNvSpPr/>
            <p:nvPr/>
          </p:nvSpPr>
          <p:spPr>
            <a:xfrm flipV="1">
              <a:off x="900000" y="4149360"/>
              <a:ext cx="3718080" cy="176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10800000">
              <a:off x="900000" y="4149360"/>
              <a:ext cx="3718080" cy="1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700360" y="2131920"/>
            <a:ext cx="360" cy="3813120"/>
            <a:chOff x="2700360" y="2131920"/>
            <a:chExt cx="360" cy="3813120"/>
          </a:xfrm>
        </p:grpSpPr>
        <p:sp>
          <p:nvSpPr>
            <p:cNvPr id="440" name="Line 5"/>
            <p:cNvSpPr/>
            <p:nvPr/>
          </p:nvSpPr>
          <p:spPr>
            <a:xfrm flipV="1">
              <a:off x="2700360" y="2131920"/>
              <a:ext cx="0" cy="38131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6200000">
              <a:off x="793800" y="4038120"/>
              <a:ext cx="3813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6"/>
          <p:cNvSpPr/>
          <p:nvPr/>
        </p:nvSpPr>
        <p:spPr>
          <a:xfrm>
            <a:off x="1702440" y="2224080"/>
            <a:ext cx="192564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Times New Roman"/>
              </a:rPr>
              <a:t>敲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846000" y="355680"/>
            <a:ext cx="347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宋体"/>
                <a:ea typeface="宋体"/>
              </a:rPr>
              <a:t>qiāo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8" descr="N_178"/>
          <p:cNvPicPr/>
          <p:nvPr/>
        </p:nvPicPr>
        <p:blipFill>
          <a:blip r:embed="rId2"/>
          <a:stretch/>
        </p:blipFill>
        <p:spPr>
          <a:xfrm>
            <a:off x="3780000" y="1125360"/>
            <a:ext cx="1323720" cy="1447920"/>
          </a:xfrm>
          <a:prstGeom prst="rect">
            <a:avLst/>
          </a:prstGeom>
          <a:ln w="0">
            <a:noFill/>
          </a:ln>
        </p:spPr>
      </p:pic>
      <p:sp>
        <p:nvSpPr>
          <p:cNvPr id="445" name="Oval 9"/>
          <p:cNvSpPr/>
          <p:nvPr/>
        </p:nvSpPr>
        <p:spPr>
          <a:xfrm>
            <a:off x="5003640" y="3286080"/>
            <a:ext cx="3240360" cy="22352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ff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敲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莫斯科    附近   派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谈天    惊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401120" y="981000"/>
            <a:ext cx="2314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55640" y="2349360"/>
            <a:ext cx="684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自读课文，边读边标出自然段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思考：课文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-396720" y="2349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通过       找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55640" y="2924280"/>
            <a:ext cx="1297080" cy="360"/>
            <a:chOff x="755640" y="2924280"/>
            <a:chExt cx="1297080" cy="360"/>
          </a:xfrm>
        </p:grpSpPr>
        <p:sp>
          <p:nvSpPr>
            <p:cNvPr id="107" name="Line 3"/>
            <p:cNvSpPr/>
            <p:nvPr/>
          </p:nvSpPr>
          <p:spPr>
            <a:xfrm>
              <a:off x="755640" y="292428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55640" y="292428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492360" y="2923920"/>
            <a:ext cx="1224000" cy="360"/>
            <a:chOff x="3492360" y="2923920"/>
            <a:chExt cx="1224000" cy="360"/>
          </a:xfrm>
        </p:grpSpPr>
        <p:sp>
          <p:nvSpPr>
            <p:cNvPr id="110" name="Line 4"/>
            <p:cNvSpPr/>
            <p:nvPr/>
          </p:nvSpPr>
          <p:spPr>
            <a:xfrm>
              <a:off x="3492360" y="292428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 rot="10800000">
              <a:off x="3492360" y="292392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27640" y="2924280"/>
            <a:ext cx="1944720" cy="360"/>
            <a:chOff x="6227640" y="2924280"/>
            <a:chExt cx="1944720" cy="360"/>
          </a:xfrm>
        </p:grpSpPr>
        <p:sp>
          <p:nvSpPr>
            <p:cNvPr id="113" name="Line 5"/>
            <p:cNvSpPr/>
            <p:nvPr/>
          </p:nvSpPr>
          <p:spPr>
            <a:xfrm>
              <a:off x="6227640" y="292428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227640" y="2924280"/>
              <a:ext cx="194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6"/>
          <p:cNvSpPr/>
          <p:nvPr/>
        </p:nvSpPr>
        <p:spPr>
          <a:xfrm>
            <a:off x="900000" y="234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列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564000" y="234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蜜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154560" y="228276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养蜂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96720" y="909720"/>
            <a:ext cx="74901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件事发生在时间？什么地点呢？课文的哪个自然段告诉了我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92360" y="4221000"/>
            <a:ext cx="587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读课文第一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200"/>
                            </p:stCondLst>
                            <p:childTnLst>
                              <p:par>
                                <p:cTn id="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8117951998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22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，列宁住在莫斯科附近的一座小山上。当地有个养蜂的人，列宁常常派人去请他来谈天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505320" y="6172200"/>
            <a:ext cx="15238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9:2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25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