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2.wmf" ContentType="image/x-wmf"/>
  <Override PartName="/ppt/media/image4.png" ContentType="image/png"/>
  <Override PartName="/ppt/media/chimes.wav" ContentType="audio/x-wav"/>
  <Override PartName="/ppt/media/image16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13.wmf" ContentType="image/x-wmf"/>
  <Override PartName="/ppt/media/image5.jpeg" ContentType="image/jpeg"/>
  <Override PartName="/ppt/media/image26.jpeg" ContentType="image/jpe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18.png" ContentType="image/png"/>
  <Override PartName="/ppt/media/image15.gif" ContentType="image/gif"/>
  <Override PartName="/ppt/media/image24.jpeg" ContentType="image/jpeg"/>
  <Override PartName="/ppt/media/image3.jpeg" ContentType="image/jpe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02B-FDDB-4B42-A8B5-5B1108DD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9BA-A377-4140-BB9F-13F0941C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8A6-6034-41F4-9C39-BEB0E0A4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76C1-84A4-4B2F-9D3E-C34EE5DD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4E42-E8C8-4E48-BC9B-904342C5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62C3-58CD-4336-864A-57EBAC1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2494-4F6A-497E-8D7D-980DFAA4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6E1CF-6076-4604-82E5-E6B921E9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D106-03E0-4CF0-90C1-E1D84C3B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3E87-D1FD-4520-9EBA-4A3E3D0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B7BF-601A-4353-AE00-ACCEB35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94EF-2441-4745-8EB6-81981440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E940-C574-43C2-82DC-CEB56442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DF25-A584-4C23-9D94-17467990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8D4E-6B3E-45D0-8C90-FF806CC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EB36-D736-4B14-8B7C-81BDA87C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82C8-7B0F-4A94-A5F4-77B6C256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75BCF-FAC9-4620-AEDD-CE227551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AC400-0131-42C7-92E5-F0FB0657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76467-A182-4737-B41F-10A43FE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BEED-B5A9-411C-8BCE-C5EFBF70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AFE9-D209-4FCB-AF8A-E3D8B4D5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732-0EBA-403B-B4D2-988003DA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C69CC-8D9D-4F94-9094-607C94D4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3A98-A9CF-4E3A-A409-5C97F16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2F69-CD0E-4146-812D-35C5805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B91CC-58AC-4882-937B-6B62135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54EAE-1E6E-43C9-9BE1-1CB32E83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4652-2F0C-4781-94D1-9A40600A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9D32-1E50-4A71-8874-DE3DF653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2D34-DE7B-49DE-9499-81BC3C50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36E0A-D1F5-4D7A-AB73-A4C00991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66A1-A94F-4E0C-BE3D-FED99EAA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FE6-3A4A-4664-ACCD-D31DA02C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6D3A5-5623-4E08-946B-664B3FF8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7DC5B-791B-4C1D-8245-F181A76A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69D1-D98B-4798-9211-68C4E127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FC72-59D0-4A20-B261-98BB511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0DEF4-D039-432B-B0C2-7622B863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7559-B1F2-4E11-B1D4-6EAF52C5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5ABF-CD7A-480A-A12B-F5403B6C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1DFB8-CCF8-4264-8D6B-219B49C1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D4CC6-92E0-4E44-9804-B7EE1689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1277-047D-4BAC-988B-4D2802970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C80-08CF-4164-86BC-628B9A37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3FF8-2A89-42EC-899F-BF206A1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3DE17-29D1-4B60-B5D6-C33C1C97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33F8A-5D5F-4D30-B949-67FDA70C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FBBF-B9A9-468D-97FB-AA33E10F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D2912-5E56-4A2E-BF1B-70D960BC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ED0E-842A-44C5-813C-A8F57F8C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424FA-FBB2-41B2-88AB-A7E8B0DA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02426-C9E6-4728-8C2D-4C5CFFC2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DA037-87DB-4023-8148-65F5296C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9B1F-027E-4DA7-9E76-244EC010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C18-0AF7-4939-94BB-B50FC8C2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7797D-68A0-442C-84C1-3DA07DBD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F1A6-DD12-4F14-9870-94BF78AB3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C048E-68F8-49F6-9074-8111DBE3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A3D67-AFAF-49E6-B627-A9298C0A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ACC56-5EC9-4902-B219-237DA739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C05CD-6C16-422D-AD43-EDD3AAB3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994E-1FCE-493A-9226-32EF8B3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2D13E-7BA6-4F7C-AA58-66D20D0F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183AB-A179-4369-A584-9684013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8F7C9-D8BF-4C4B-8CF0-CC4543C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C29-9298-44E3-B243-630B3814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E8FB2-16BA-4D4F-83AD-864BAA0E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60CA2-0C28-4470-8C8F-9EE28E1A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B14B0-C0DD-44FB-B2A4-D81A3915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690-9FD5-4849-9B8E-2FF9CEB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5B0-E2CF-4D42-A55C-9FA0A4B4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C833-865E-4D07-9B62-33CDE0891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383A-4D24-4F72-AA8A-91A6EBC6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D101-1D86-4A04-862C-FAD8ED253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D77-A9E5-420F-8AE6-3DD5836FB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C03D-320F-46B2-B58C-85588E8D6D8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43EC-828B-4F72-90D6-6976F05C81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565F-A94E-40D6-ADB4-85022B30E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7" descr="图片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6"/>
          <p:cNvSpPr txBox="1"/>
          <p:nvPr/>
        </p:nvSpPr>
        <p:spPr>
          <a:xfrm>
            <a:off x="1547640" y="189000"/>
            <a:ext cx="616284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隶书"/>
              </a:rPr>
              <a:t>矛和盾的集合语文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隶书"/>
              </a:rPr>
              <a:t>PPT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隶书"/>
              </a:rPr>
              <a:t>课件下载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4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250920" y="1106640"/>
            <a:ext cx="87138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宋体"/>
              </a:rPr>
              <a:t>左抵右挡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左（ ）右（ ）    左（ ）右（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（ ）张（ ）望   （ ）腔（ ）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用上合适的四字词语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乒乓球的国手们在奥运会（            ）。对方队员面对强有力的进攻，虽然（             ），但最终（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败下阵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当猎狗这个（             ）出现在受伤的小鸟面前时，小鸟吓坏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900000" y="227664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大显神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4356000" y="285264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左抵右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619280" y="357336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难以招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4643280" y="4365720"/>
            <a:ext cx="21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庞然大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图片1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4570920" y="475560"/>
            <a:ext cx="74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Arial Black"/>
                <a:ea typeface="黑体"/>
              </a:rPr>
              <a:t>课文主要写了一件什么事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971640" y="25758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发明家把盾的自卫、矛的进攻合二为一发明了坦克，在战场上大显神威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6" descr="0422"/>
          <p:cNvPicPr/>
          <p:nvPr/>
        </p:nvPicPr>
        <p:blipFill>
          <a:blip r:embed="rId1"/>
          <a:stretch/>
        </p:blipFill>
        <p:spPr>
          <a:xfrm>
            <a:off x="179280" y="549360"/>
            <a:ext cx="2087640" cy="372744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7"/>
          <p:cNvSpPr/>
          <p:nvPr/>
        </p:nvSpPr>
        <p:spPr>
          <a:xfrm>
            <a:off x="2195640" y="1268280"/>
            <a:ext cx="6480000" cy="453708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484360" y="2349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发明家是怎样把矛和盾的优点集合在一起发明坦克的？这样做有什么好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835280" y="549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3F"/>
          <p:cNvPicPr/>
          <p:nvPr/>
        </p:nvPicPr>
        <p:blipFill>
          <a:blip r:embed="rId1"/>
          <a:stretch/>
        </p:blipFill>
        <p:spPr>
          <a:xfrm>
            <a:off x="395280" y="1268280"/>
            <a:ext cx="8280360" cy="52563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1479240" y="332640"/>
            <a:ext cx="6189840" cy="70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先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再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然后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最后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……”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0422"/>
          <p:cNvPicPr/>
          <p:nvPr/>
        </p:nvPicPr>
        <p:blipFill>
          <a:blip r:embed="rId1"/>
          <a:stretch/>
        </p:blipFill>
        <p:spPr>
          <a:xfrm>
            <a:off x="179280" y="549360"/>
            <a:ext cx="2087640" cy="372744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3"/>
          <p:cNvSpPr/>
          <p:nvPr/>
        </p:nvSpPr>
        <p:spPr>
          <a:xfrm>
            <a:off x="2195640" y="1268280"/>
            <a:ext cx="6480000" cy="4537080"/>
          </a:xfrm>
          <a:prstGeom prst="flowChartPunchedTap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484360" y="2349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发明家是怎样把矛和盾的优点集合在一起发明坦克的？这样做有什么好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835280" y="54936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黑体"/>
              </a:rPr>
              <a:t>小组合作学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20059160265117"/>
          <p:cNvPicPr/>
          <p:nvPr/>
        </p:nvPicPr>
        <p:blipFill>
          <a:blip r:embed="rId1"/>
          <a:stretch/>
        </p:blipFill>
        <p:spPr>
          <a:xfrm>
            <a:off x="324000" y="522360"/>
            <a:ext cx="3313080" cy="5643360"/>
          </a:xfrm>
          <a:prstGeom prst="rect">
            <a:avLst/>
          </a:prstGeom>
          <a:ln w="0">
            <a:noFill/>
          </a:ln>
        </p:spPr>
      </p:pic>
      <p:sp>
        <p:nvSpPr>
          <p:cNvPr id="305" name="WordArt 7"/>
          <p:cNvSpPr txBox="1"/>
          <p:nvPr/>
        </p:nvSpPr>
        <p:spPr>
          <a:xfrm rot="307200">
            <a:off x="4788000" y="189000"/>
            <a:ext cx="33112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3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大显神威 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3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555440" y="1772640"/>
            <a:ext cx="3514680" cy="3750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1916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年，英军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坦克首次冲上战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德国兵头一回见到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庞然大物，吓得哇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直叫，乱成一团，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下子退了十公里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547280" y="1772280"/>
            <a:ext cx="5865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谁善于把别人的长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集于一身，谁就会是胜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者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704880" y="44280"/>
            <a:ext cx="753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3"/>
          <p:cNvSpPr txBox="1"/>
          <p:nvPr/>
        </p:nvSpPr>
        <p:spPr>
          <a:xfrm>
            <a:off x="2124000" y="2708280"/>
            <a:ext cx="403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动动脑</a:t>
            </a:r>
            <a:r>
              <a:rPr b="1" lang="en-US" sz="44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1" lang="en-US" sz="44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10" name="Picture 4" descr="3"/>
          <p:cNvPicPr/>
          <p:nvPr/>
        </p:nvPicPr>
        <p:blipFill>
          <a:blip r:embed="rId1"/>
          <a:stretch/>
        </p:blipFill>
        <p:spPr>
          <a:xfrm>
            <a:off x="1619280" y="476280"/>
            <a:ext cx="361800" cy="28702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2340720" y="1123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6" descr="图片2"/>
          <p:cNvPicPr/>
          <p:nvPr/>
        </p:nvPicPr>
        <p:blipFill>
          <a:blip r:embed="rId2"/>
          <a:stretch/>
        </p:blipFill>
        <p:spPr>
          <a:xfrm>
            <a:off x="3203640" y="692280"/>
            <a:ext cx="1520640" cy="216216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7"/>
          <p:cNvSpPr/>
          <p:nvPr/>
        </p:nvSpPr>
        <p:spPr>
          <a:xfrm>
            <a:off x="4861080" y="1052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1028303872"/>
          <p:cNvPicPr/>
          <p:nvPr/>
        </p:nvPicPr>
        <p:blipFill>
          <a:blip r:embed="rId3"/>
          <a:stretch/>
        </p:blipFill>
        <p:spPr>
          <a:xfrm>
            <a:off x="5219640" y="549360"/>
            <a:ext cx="3378240" cy="20876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4"/>
          <p:cNvPicPr/>
          <p:nvPr/>
        </p:nvPicPr>
        <p:blipFill>
          <a:blip r:embed="rId4"/>
          <a:stretch/>
        </p:blipFill>
        <p:spPr>
          <a:xfrm>
            <a:off x="250920" y="4508640"/>
            <a:ext cx="2089080" cy="180468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10"/>
          <p:cNvSpPr/>
          <p:nvPr/>
        </p:nvSpPr>
        <p:spPr>
          <a:xfrm>
            <a:off x="2556720" y="51577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149800" y="5084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2" descr="1"/>
          <p:cNvPicPr/>
          <p:nvPr/>
        </p:nvPicPr>
        <p:blipFill>
          <a:blip r:embed="rId5"/>
          <a:stretch/>
        </p:blipFill>
        <p:spPr>
          <a:xfrm>
            <a:off x="3492360" y="4654440"/>
            <a:ext cx="1295640" cy="1511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3" descr="6"/>
          <p:cNvPicPr/>
          <p:nvPr/>
        </p:nvPicPr>
        <p:blipFill>
          <a:blip r:embed="rId6"/>
          <a:stretch/>
        </p:blipFill>
        <p:spPr>
          <a:xfrm>
            <a:off x="6083280" y="3860640"/>
            <a:ext cx="2274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3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6"/>
          <p:cNvSpPr/>
          <p:nvPr/>
        </p:nvSpPr>
        <p:spPr>
          <a:xfrm>
            <a:off x="2195640" y="1844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"/>
          <p:cNvPicPr/>
          <p:nvPr/>
        </p:nvPicPr>
        <p:blipFill>
          <a:blip r:embed="rId1"/>
          <a:stretch/>
        </p:blipFill>
        <p:spPr>
          <a:xfrm>
            <a:off x="-252360" y="4149720"/>
            <a:ext cx="9396360" cy="2492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200541823235772043"/>
          <p:cNvPicPr/>
          <p:nvPr/>
        </p:nvPicPr>
        <p:blipFill>
          <a:blip r:embed="rId2"/>
          <a:stretch/>
        </p:blipFill>
        <p:spPr>
          <a:xfrm>
            <a:off x="395280" y="47628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252" name="WordArt 9"/>
          <p:cNvSpPr txBox="1"/>
          <p:nvPr/>
        </p:nvSpPr>
        <p:spPr>
          <a:xfrm>
            <a:off x="6516720" y="3860640"/>
            <a:ext cx="1528560" cy="136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矛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53" name="WordArt 10"/>
          <p:cNvSpPr txBox="1"/>
          <p:nvPr/>
        </p:nvSpPr>
        <p:spPr>
          <a:xfrm>
            <a:off x="4067280" y="907920"/>
            <a:ext cx="144144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盾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755640" y="1268280"/>
            <a:ext cx="7709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宋体"/>
              </a:rPr>
              <a:t>同学们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:</a:t>
            </a: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宋体"/>
              </a:rPr>
              <a:t>在日常生活中还有什么类似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宋体"/>
              </a:rPr>
              <a:t>矛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"+"</a:t>
            </a: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宋体"/>
              </a:rPr>
              <a:t>盾</a:t>
            </a:r>
            <a:r>
              <a:rPr b="1" lang="en-US" sz="7200" spc="-1" strike="noStrike">
                <a:solidFill>
                  <a:srgbClr val="ff00ff"/>
                </a:solidFill>
                <a:latin typeface="Arial"/>
              </a:rPr>
              <a:t>"</a:t>
            </a: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宋体"/>
              </a:rPr>
              <a:t>的发明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2052720" y="4581360"/>
            <a:ext cx="1224000" cy="10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72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9A46-6EC0-4830-9241-849FE09DE5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轮船＋大炮＝军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雨伞＋伸缩杆＝折叠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炮弹＋火箭＝导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楼房＋汽车＝双层汽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垃圾桶＋清扫工具＝吸尘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20040721174127893"/>
          <p:cNvPicPr/>
          <p:nvPr/>
        </p:nvPicPr>
        <p:blipFill>
          <a:blip r:embed="rId1"/>
          <a:stretch/>
        </p:blipFill>
        <p:spPr>
          <a:xfrm>
            <a:off x="395280" y="260280"/>
            <a:ext cx="3889440" cy="64087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4716360" y="1989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矛：古代一种兵器。长形，尖头，安上木质的长柄，作战时用于直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8200"/>
          <p:cNvSpPr/>
          <p:nvPr/>
        </p:nvSpPr>
        <p:spPr>
          <a:xfrm>
            <a:off x="3132000" y="7650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5292720" y="170028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盾：盾牌，古代作战时挡御刀箭等的武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15"/>
          <p:cNvPicPr/>
          <p:nvPr/>
        </p:nvPicPr>
        <p:blipFill>
          <a:blip r:embed="rId1"/>
          <a:stretch/>
        </p:blipFill>
        <p:spPr>
          <a:xfrm>
            <a:off x="900000" y="476280"/>
            <a:ext cx="39499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7222 -0.027778 L -0.231222 0.104222 L -0.216222 -0.027778 L -0.200222 0.104222 L -0.184222 -0.027778 L -0.169222 0.104222 L -0.153222 -0.027778 L -0.138222 0.104222 L -0.122222 -0.027778 L -0.106222 0.104222 L -0.091222 -0.027778 L -0.075222 0.104222 L -0.060222 -0.027778 L -0.044222 0.104222 L -0.028222 -0.027778 L -0.013222 0.104222 L 0.002778 -0.027778 E">
                                      <p:cBhvr>
                                        <p:cTn id="72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小女孩2"/>
          <p:cNvPicPr/>
          <p:nvPr/>
        </p:nvPicPr>
        <p:blipFill>
          <a:blip r:embed="rId1"/>
          <a:stretch/>
        </p:blipFill>
        <p:spPr>
          <a:xfrm>
            <a:off x="900000" y="404640"/>
            <a:ext cx="976320" cy="1143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"/>
          <p:cNvSpPr/>
          <p:nvPr/>
        </p:nvSpPr>
        <p:spPr>
          <a:xfrm>
            <a:off x="2131920" y="406440"/>
            <a:ext cx="323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我会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684360" y="2274840"/>
            <a:ext cx="3456000" cy="3416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5076720" y="2276640"/>
            <a:ext cx="352116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755640" y="1916280"/>
            <a:ext cx="36720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矛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5257800" y="1916280"/>
            <a:ext cx="3562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Arial"/>
                <a:ea typeface="楷体_GB2312"/>
              </a:rPr>
              <a:t>盾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75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r2028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79185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3"/>
          <p:cNvSpPr/>
          <p:nvPr/>
        </p:nvSpPr>
        <p:spPr>
          <a:xfrm>
            <a:off x="3657600" y="3051000"/>
            <a:ext cx="415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读准字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348000" y="1700280"/>
            <a:ext cx="405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60093"/>
                </a:solidFill>
                <a:latin typeface="Arial"/>
                <a:ea typeface="楷体_GB2312"/>
              </a:rPr>
              <a:t>坐姿端正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5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933480" cy="100620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6" descr=""/>
          <p:cNvPicPr/>
          <p:nvPr/>
        </p:nvPicPr>
        <p:blipFill>
          <a:blip r:embed="rId3"/>
          <a:stretch/>
        </p:blipFill>
        <p:spPr>
          <a:xfrm>
            <a:off x="2484360" y="3213000"/>
            <a:ext cx="920880" cy="100656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7" descr=""/>
          <p:cNvPicPr/>
          <p:nvPr/>
        </p:nvPicPr>
        <p:blipFill>
          <a:blip r:embed="rId4"/>
          <a:stretch/>
        </p:blipFill>
        <p:spPr>
          <a:xfrm>
            <a:off x="3132000" y="4653000"/>
            <a:ext cx="909720" cy="10317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211640" y="449100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楷体_GB2312"/>
              </a:rPr>
              <a:t>读通句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9" descr="04"/>
          <p:cNvPicPr/>
          <p:nvPr/>
        </p:nvPicPr>
        <p:blipFill>
          <a:blip r:embed="rId5"/>
          <a:stretch/>
        </p:blipFill>
        <p:spPr>
          <a:xfrm>
            <a:off x="3962520" y="-304920"/>
            <a:ext cx="1923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31040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我会读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21"/>
          <p:cNvPicPr/>
          <p:nvPr/>
        </p:nvPicPr>
        <p:blipFill>
          <a:blip r:embed="rId1"/>
          <a:stretch/>
        </p:blipFill>
        <p:spPr>
          <a:xfrm>
            <a:off x="0" y="1890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4"/>
          <p:cNvSpPr/>
          <p:nvPr/>
        </p:nvSpPr>
        <p:spPr>
          <a:xfrm>
            <a:off x="684360" y="10526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华文楷体"/>
                <a:ea typeface="华文楷体"/>
              </a:rPr>
              <a:t>集合  招架  紧张  固然蜗牛  乌龟  自卫  进攻炮口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</a:t>
            </a:r>
            <a:r>
              <a:rPr b="1" lang="zh-CN" sz="5400" spc="-1" strike="noStrike">
                <a:solidFill>
                  <a:srgbClr val="009900"/>
                </a:solidFill>
                <a:latin typeface="华文楷体"/>
                <a:ea typeface="华文楷体"/>
              </a:rPr>
              <a:t>坦克  战场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首次</a:t>
            </a:r>
            <a:r>
              <a:rPr b="1" lang="zh-CN" sz="5400" spc="-1" strike="noStrike">
                <a:solidFill>
                  <a:srgbClr val="3333ff"/>
                </a:solidFill>
                <a:latin typeface="华文楷体"/>
                <a:ea typeface="华文楷体"/>
              </a:rPr>
              <a:t>左抵右挡   难以招架  紧张危急   合二为一  大显神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5050800" y="5157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楷体"/>
                <a:ea typeface="华文楷体"/>
              </a:rPr>
              <a:t>庞然大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9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坦克（1）"/>
          <p:cNvPicPr/>
          <p:nvPr/>
        </p:nvPicPr>
        <p:blipFill>
          <a:blip r:embed="rId1"/>
          <a:stretch/>
        </p:blipFill>
        <p:spPr>
          <a:xfrm>
            <a:off x="395280" y="26028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31040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我会读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华文琥珀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21"/>
          <p:cNvPicPr/>
          <p:nvPr/>
        </p:nvPicPr>
        <p:blipFill>
          <a:blip r:embed="rId1"/>
          <a:stretch/>
        </p:blipFill>
        <p:spPr>
          <a:xfrm>
            <a:off x="0" y="1890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684360" y="105264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华文楷体"/>
                <a:ea typeface="华文楷体"/>
              </a:rPr>
              <a:t>集合  招架  紧张  固然蜗牛  乌龟  自卫  进攻炮口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</a:t>
            </a:r>
            <a:r>
              <a:rPr b="1" lang="zh-CN" sz="5400" spc="-1" strike="noStrike">
                <a:solidFill>
                  <a:srgbClr val="009900"/>
                </a:solidFill>
                <a:latin typeface="华文楷体"/>
                <a:ea typeface="华文楷体"/>
              </a:rPr>
              <a:t>坦克  战场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首次</a:t>
            </a:r>
            <a:r>
              <a:rPr b="1" lang="zh-CN" sz="5400" spc="-1" strike="noStrike">
                <a:solidFill>
                  <a:srgbClr val="3333ff"/>
                </a:solidFill>
                <a:latin typeface="华文楷体"/>
                <a:ea typeface="华文楷体"/>
              </a:rPr>
              <a:t>左抵右挡   难以招架  紧张危急   合二为一  大显神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050800" y="515772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华文楷体"/>
                <a:ea typeface="华文楷体"/>
              </a:rPr>
              <a:t>庞然大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4114080" y="189000"/>
            <a:ext cx="1826640" cy="9169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楷体"/>
                <a:ea typeface="华文楷体"/>
              </a:rPr>
              <a:t>左抵右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57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