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364-DA12-4AAE-A444-19455347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CBC-111F-4039-B086-1A082B7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B6A-CF3F-45AB-9539-EB66EC8F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04E-2A5D-4B4F-8F25-CE6B316B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4B8D-7D5F-4168-8BEF-358AE570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9F8-5AA4-4E13-8BD5-CF0D00D7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1F0-1D4A-4B9E-8176-E96E3E4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5E3-FA69-41DF-BD80-C93D43D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E14-1066-4BBC-A6AF-89F64A7C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FD5-A1B2-46C0-8116-9B67AE9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598-8F28-4AD7-8DB2-322F640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B04-11B9-4302-BDE5-7D02ABF5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60CF-617A-4ADD-9418-CBDAFB6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4086-B1F6-4CF7-AE51-DEB30B6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74DA-E5C5-43C7-94E6-D0877C2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126-AC48-4121-B6DE-3D839F4E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50D-7915-48EA-B961-AA70D0CC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968-AC05-4CAA-AE0D-8800C53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F9B-C433-4E62-A4EC-D434536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876-C350-4A66-8995-656DAA7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560-F359-4887-85AD-E5EACE9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26C-46B0-4583-A096-D1208C2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9F9-5060-4A11-8A47-D04228F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15F-B030-4C59-BB9D-A14442A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E94E-65B3-4F76-8871-EB909EFB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0FB-8434-4E92-96CC-D2296A87ED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258-3D7F-4A20-B00C-F9DA7E2DAC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900000" y="693720"/>
            <a:ext cx="764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梅花魂人教版课件</a:t>
            </a:r>
            <a:r>
              <a:rPr b="1" lang="en-US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PPT</a:t>
            </a:r>
            <a:r>
              <a:rPr b="1" lang="zh-CN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模板下载</a:t>
            </a:r>
            <a:endParaRPr b="1" lang="en-US" sz="4400" spc="1" strike="noStrike">
              <a:ln w="17640">
                <a:solidFill>
                  <a:srgbClr val="ffffff"/>
                </a:solidFill>
                <a:miter/>
              </a:ln>
              <a:solidFill>
                <a:srgbClr val="ff3399"/>
              </a:solidFill>
              <a:effectLst>
                <a:outerShdw dist="0" dir="0" blurRad="0" rotWithShape="0">
                  <a:srgbClr val="00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1"/>
          <a:srcRect l="0" t="5778" r="0" b="0"/>
          <a:stretch/>
        </p:blipFill>
        <p:spPr>
          <a:xfrm>
            <a:off x="1403280" y="2421000"/>
            <a:ext cx="6365880" cy="397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00000" y="981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8360" y="485640"/>
            <a:ext cx="7991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文化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梅花原产我国，在我国栽培已有三仟多年的历史了，与人民在生活、文学、艺术、风俗习惯等有传统的多方关联，人们对梅花已有深厚的民族感情。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书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说命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记述：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若作和羮，尔惟盐梅。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说明早在公元前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0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世纪的商代，已将梅子作为调味品使用了。在公元前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世纪左右的古民歌集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诗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召南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有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摽有梅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，记述当时青年男女抛梅定情的风俗，从情歌中反映出当时，梅树与梅子的存在都相当普遍。梅花的栽培欣赏，最早的记载在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西京杂记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：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汉上林苑与侯梅、同心梅、紫蒂梅、丽友梅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魏晋南北朝时，还流传着一些关于梅的典故。</a:t>
            </a:r>
            <a:r>
              <a:rPr b="0" lang="en-US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世说新语</a:t>
            </a:r>
            <a:r>
              <a:rPr b="0" lang="en-US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写道：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魏武帝行失道，三军皆渴帝令曰前有梅林，饶子甘酸，可以解渴，士卒闻之，口皆水出。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望梅止渴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的成语便由此而来。唐代诗人李白写有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郎骑竹马来，绕床弄青梅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，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青梅竹马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便由此而得名。北宋诗人林瀑隐居杭州西湖，放鹤艺梅，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妻梅鹤子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的典故，至今仍传为佳话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古人赏花的文化习俗，当让宋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林逋的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疏影横斜水清浅，暗香浮动月黄昏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明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王圻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三才图会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也认为：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梅有四贵，贵稀不贵繁，贵老不贵嫩，贵瘦不贵肥，贵含不贵开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宋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张功甫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梅品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系统阐述了赏梅的美 学观点和文化内涵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花宜称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凡二十六条：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淡阴、晓日、薄寒、细雨、轻烟、佳月、夕阳、微雪、晚霞、珍禽、孤鹤、清溪、小桥、竹边、松下、明窗、疏篱、苍崖、绿台、铜瓶、纸帐、林间吹笛、膝上横琴、石枰下棋、扫雪煎茶、美人淡妆簪戴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 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1413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卜算子 咏梅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毛泽东　　　　　　　　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风雨送春归，飞雪迎春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已是悬崖百丈冰，犹有花枝俏。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　　 俏也不争春，只把春来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待到山花烂漫时，她在丛中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88000" y="1413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白梅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王冕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0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　冰雪林中著此身，不同桃李混芳尘。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0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　忽然一夜清香发，散作乾坤万里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26920" y="3213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忆梅 李商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定定住天涯， 依依向物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寒梅最堪恨， 常作去年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84720" y="3213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早 梅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张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树寒梅白玉条，回临村路傍溪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知近水花先发，疑是经冬雪未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2268360" y="404640"/>
            <a:ext cx="381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☆☆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词句欣赏☆☆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Picture 10" descr="fd3bc454e5eadee770b2e23b1d1d2404"/>
          <p:cNvPicPr/>
          <p:nvPr/>
        </p:nvPicPr>
        <p:blipFill>
          <a:blip r:embed="rId1"/>
          <a:stretch/>
        </p:blipFill>
        <p:spPr>
          <a:xfrm>
            <a:off x="4932360" y="4437000"/>
            <a:ext cx="3595680" cy="2157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3"/>
          <p:cNvSpPr/>
          <p:nvPr/>
        </p:nvSpPr>
        <p:spPr>
          <a:xfrm>
            <a:off x="755640" y="43657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古往今来咏花的诗词歌赋，以梅为题者最多，或咏其风韵独胜，或吟其神形俱清，或赞其标格秀雅，或颂其节操凝重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350-AFD5-4A19-906E-781E24B26E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619280" y="620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990033"/>
                </a:solidFill>
                <a:latin typeface="隶书"/>
                <a:ea typeface="隶书"/>
              </a:rPr>
              <a:t>梅花是原产我国的传统名花 ，是我国的国花，他有着坚韧不拔，不怕严寒酷暑的精神，我们今后也要向梅花学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763640" y="213372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同学们，我们今天就游览到这，你们对梅花已经有所了解，希望你们以后要留心观察周围的事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x3"/>
          <p:cNvPicPr/>
          <p:nvPr/>
        </p:nvPicPr>
        <p:blipFill>
          <a:blip r:embed="rId1"/>
          <a:stretch/>
        </p:blipFill>
        <p:spPr>
          <a:xfrm>
            <a:off x="6156360" y="3429000"/>
            <a:ext cx="2239920" cy="150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5"/>
          <p:cNvPicPr/>
          <p:nvPr/>
        </p:nvPicPr>
        <p:blipFill>
          <a:blip r:embed="rId2"/>
          <a:stretch/>
        </p:blipFill>
        <p:spPr>
          <a:xfrm>
            <a:off x="468360" y="3429000"/>
            <a:ext cx="2374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72960" y="595440"/>
            <a:ext cx="8520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梅花是原产我国的传统名花，她以韵胜，以格高，色、香、韵、态俱佳，且凌寒先与百花之前独放而倍受人们的喜爱。她开花特早，且花期较长，树姿苍劲，花香沁人，品种繁多，且类型丰富，神、态、色、香俱居上乘，在枝姿、花色、花型、萼色等方面均富于变化，易于栽培管理，又易形成花芽。除配植于园林或大片栽植为梅园 、梅岭、梅溪外，又适盆栽、切花、盆景及桩景等用，此外，果梅还有药用，加工食用以及烹调等其它用途。</a:t>
            </a:r>
            <a:br>
              <a:rPr sz="2000"/>
            </a:br>
            <a:r>
              <a:rPr b="0" lang="zh-CN" sz="2000" spc="-1" strike="noStrike">
                <a:solidFill>
                  <a:srgbClr val="3399ff"/>
                </a:solidFill>
                <a:latin typeface="Arial"/>
                <a:ea typeface="隶书"/>
              </a:rPr>
              <a:t>      </a:t>
            </a:r>
            <a:r>
              <a:rPr b="0" lang="zh-CN" sz="2000" spc="-1" strike="noStrike">
                <a:solidFill>
                  <a:srgbClr val="3399ff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梅花属蔷薇科，李属多年生乔木，可高达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米，树干褐色，多纵驳纹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小枝青绿，多刺枝，叶广卵型至阔卵圆形，长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4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宽⒉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先端渐尖，边缘具细锯齿，基部阔楔型或近圆型，幼时两面具短绒毛，后渐脱落，长成之叶仅在反面叶脉处有少量绒毛，柄长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⒈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花多一芽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朵，多着生在当年新枝上，具短梗，多呈淡粉红至白色，直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一⒊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清香或芳香，于冬末春初先叶而发，核果近球型，侧面扁圆，直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黄色或绿色，密被短绒毛、味酸、粘核、核近卵圆形，表面见蜂窝状圆点，花期从广州的元月至北京的四月，都可欣赏到她的丰姿，果热期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7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月。</a:t>
            </a:r>
            <a:br>
              <a:rPr sz="2000"/>
            </a:b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      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 蜡梅和梅同属蔷薇目，但梅花属蔷薇科，蜡梅属蜡梅科。李时珍在本草纲目中记载：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腊梅释名黄梅花，此物非梅也，因其与梅同时，香又相近，色似蜂蜡，故得此名。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5" descr=""/>
          <p:cNvPicPr/>
          <p:nvPr/>
        </p:nvPicPr>
        <p:blipFill>
          <a:blip r:embed="rId1"/>
          <a:stretch/>
        </p:blipFill>
        <p:spPr>
          <a:xfrm>
            <a:off x="3332160" y="361800"/>
            <a:ext cx="1859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150920" y="79056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梅具有的铮铮铁骨、浩然正气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傲雪凌霜、独步早春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下面，我们就一起去欣赏她的雄姿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 rot="5400000">
            <a:off x="-1284120" y="2877840"/>
            <a:ext cx="367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☆☆☆☆☆☆☆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8"/>
          <p:cNvSpPr txBox="1"/>
          <p:nvPr/>
        </p:nvSpPr>
        <p:spPr>
          <a:xfrm rot="5400000">
            <a:off x="6298920" y="285408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☆☆☆☆☆☆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Picture 9" descr="fd3bc454e5eadee770b2e23b1d1d2404"/>
          <p:cNvPicPr/>
          <p:nvPr/>
        </p:nvPicPr>
        <p:blipFill>
          <a:blip r:embed="rId1"/>
          <a:stretch/>
        </p:blipFill>
        <p:spPr>
          <a:xfrm>
            <a:off x="1909800" y="3235320"/>
            <a:ext cx="5324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8"/>
          <p:cNvSpPr txBox="1"/>
          <p:nvPr/>
        </p:nvSpPr>
        <p:spPr>
          <a:xfrm>
            <a:off x="6156360" y="1341360"/>
            <a:ext cx="1419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5940360" y="3284640"/>
            <a:ext cx="18288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粉垂枝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rcRect l="0" t="0" r="0" b="3992"/>
          <a:stretch/>
        </p:blipFill>
        <p:spPr>
          <a:xfrm>
            <a:off x="179280" y="260280"/>
            <a:ext cx="48974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6588000" y="836640"/>
            <a:ext cx="141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340000" y="4797360"/>
            <a:ext cx="1778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丰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3"/>
          <a:stretch/>
        </p:blipFill>
        <p:spPr>
          <a:xfrm>
            <a:off x="0" y="549360"/>
            <a:ext cx="5187960" cy="3456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4"/>
          <a:srcRect l="8775" t="0" r="6428" b="3540"/>
          <a:stretch/>
        </p:blipFill>
        <p:spPr>
          <a:xfrm>
            <a:off x="4708440" y="2565360"/>
            <a:ext cx="4410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"/>
          <p:cNvPicPr/>
          <p:nvPr/>
        </p:nvPicPr>
        <p:blipFill>
          <a:blip r:embed="rId1"/>
          <a:stretch/>
        </p:blipFill>
        <p:spPr>
          <a:xfrm>
            <a:off x="3276720" y="1052640"/>
            <a:ext cx="4371840" cy="3004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 rot="5400000">
            <a:off x="403560" y="2045520"/>
            <a:ext cx="18496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2916360" y="5300640"/>
            <a:ext cx="41767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瓣条枝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文本框 8194"/>
          <p:cNvSpPr/>
          <p:nvPr/>
        </p:nvSpPr>
        <p:spPr>
          <a:xfrm>
            <a:off x="1332000" y="46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5"/>
          <p:cNvPicPr/>
          <p:nvPr/>
        </p:nvPicPr>
        <p:blipFill>
          <a:blip r:embed="rId1"/>
          <a:stretch/>
        </p:blipFill>
        <p:spPr>
          <a:xfrm>
            <a:off x="1258920" y="2708280"/>
            <a:ext cx="4537080" cy="290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692360" y="105264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梅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23240" y="2349360"/>
            <a:ext cx="8506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华文彩云"/>
              </a:rPr>
              <a:t>江南朱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x"/>
          <p:cNvPicPr/>
          <p:nvPr/>
        </p:nvPicPr>
        <p:blipFill>
          <a:blip r:embed="rId1"/>
          <a:stretch/>
        </p:blipFill>
        <p:spPr>
          <a:xfrm>
            <a:off x="468360" y="2421000"/>
            <a:ext cx="2716200" cy="410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x1"/>
          <p:cNvPicPr/>
          <p:nvPr/>
        </p:nvPicPr>
        <p:blipFill>
          <a:blip r:embed="rId2"/>
          <a:stretch/>
        </p:blipFill>
        <p:spPr>
          <a:xfrm>
            <a:off x="6300720" y="4797360"/>
            <a:ext cx="2519280" cy="17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x2"/>
          <p:cNvPicPr/>
          <p:nvPr/>
        </p:nvPicPr>
        <p:blipFill>
          <a:blip r:embed="rId3"/>
          <a:stretch/>
        </p:blipFill>
        <p:spPr>
          <a:xfrm>
            <a:off x="3492360" y="4797360"/>
            <a:ext cx="2519640" cy="171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x3"/>
          <p:cNvPicPr/>
          <p:nvPr/>
        </p:nvPicPr>
        <p:blipFill>
          <a:blip r:embed="rId4"/>
          <a:stretch/>
        </p:blipFill>
        <p:spPr>
          <a:xfrm>
            <a:off x="539640" y="404640"/>
            <a:ext cx="2600280" cy="174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0"/>
          <p:cNvPicPr/>
          <p:nvPr/>
        </p:nvPicPr>
        <p:blipFill>
          <a:blip r:embed="rId5"/>
          <a:stretch/>
        </p:blipFill>
        <p:spPr>
          <a:xfrm>
            <a:off x="3851280" y="1700280"/>
            <a:ext cx="4697280" cy="28130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0"/>
          <p:cNvSpPr txBox="1"/>
          <p:nvPr/>
        </p:nvSpPr>
        <p:spPr>
          <a:xfrm>
            <a:off x="4356000" y="620640"/>
            <a:ext cx="32403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梅园雪景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547640" y="476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华文新魏"/>
              </a:rPr>
              <a:t>大家能猜出这几珠梅花的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1"/>
          <p:cNvPicPr/>
          <p:nvPr/>
        </p:nvPicPr>
        <p:blipFill>
          <a:blip r:embed="rId1"/>
          <a:stretch/>
        </p:blipFill>
        <p:spPr>
          <a:xfrm>
            <a:off x="1403280" y="1197000"/>
            <a:ext cx="1973160" cy="2495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2"/>
          <a:stretch/>
        </p:blipFill>
        <p:spPr>
          <a:xfrm>
            <a:off x="5219640" y="1916280"/>
            <a:ext cx="2578320" cy="17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15"/>
          <p:cNvPicPr/>
          <p:nvPr/>
        </p:nvPicPr>
        <p:blipFill>
          <a:blip r:embed="rId3"/>
          <a:stretch/>
        </p:blipFill>
        <p:spPr>
          <a:xfrm>
            <a:off x="1116000" y="4456080"/>
            <a:ext cx="2735280" cy="17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16"/>
          <p:cNvPicPr/>
          <p:nvPr/>
        </p:nvPicPr>
        <p:blipFill>
          <a:blip r:embed="rId4"/>
          <a:stretch/>
        </p:blipFill>
        <p:spPr>
          <a:xfrm>
            <a:off x="5292720" y="4489560"/>
            <a:ext cx="2519280" cy="171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1547640" y="386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送春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79600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南宁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692360" y="623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皱瓣朱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6012000" y="616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雪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194"/>
          <p:cNvSpPr/>
          <p:nvPr/>
        </p:nvSpPr>
        <p:spPr>
          <a:xfrm>
            <a:off x="1835280" y="83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5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2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