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C20F-BAA7-430C-BDD5-24E6566A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D375-9113-42BD-9974-69E3524B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E31F-EC02-47A3-A277-E77D4B8ED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7E80-FC73-443D-8CA5-BE446AD2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5E1A-5055-4221-B137-C8B5C2F9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2326-EB9F-4DA0-836F-EED789CD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07B7-BF55-4613-A28A-0463A5CF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006A-6555-4D68-BD26-9D2861E2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99A5-FF28-4BD5-B756-03AF1F29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8486-2F09-4577-918D-90C3EA1F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F795-739E-4B26-9A75-9368D900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BA20-B4C3-4A3B-B5D0-CD42E808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3B95-4B60-4147-8F09-6964F072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EB52-2B1A-4E85-B710-CE1D328E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F822-5BF0-476C-8B64-58A83A05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44E8-3816-4D43-8887-11B97B1B9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50F8-9505-45CC-BA9E-EAF1C69D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C1CD9-D25E-40C9-B337-919EB3D9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E7775-D48C-4177-936E-0F8AE934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D2FF5-7E53-4BAE-8E38-A1CBEB4E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1075F-2A10-46B9-8CB9-1B3C47D5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17C01-4FC9-4EFA-8E95-52C09145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781A-0236-40AC-A793-1E317D16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A9568-0901-4962-AFB2-FC19A6C6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438E6-4A92-4065-892A-67C9BD15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158CE-762B-4875-B587-82663980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BD650-F912-4F6A-A04E-9998F423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2D8C6-7436-4349-B07B-8875AA18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93282-45AB-4852-ADC5-B9E375583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973BD-9050-400A-84AE-0E5AB2E3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62D2-60F0-45B9-9196-A65F0D90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BF74-9EBC-4F44-AD89-819831D8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B841-16DD-4C46-AD57-2B616307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0087-24FD-4A17-B11D-6483F8D0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5D2B-8367-4FE2-9ECB-7B62A10C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D449-0E2C-4386-A570-BC994024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F7F2-3843-47EA-8681-B54D3D117BDD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B1E0-920B-487C-B71E-4F09EAD73DC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1372-C140-44D4-8A8F-A775FF5C16B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87A5-E9ED-4A2B-A6DD-C8034FE5AF1F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A%DA%C8%CB+%D1%C0%B3%DD+%BB%AD%CF%F1&amp;in=22933&amp;cl=2&amp;cm=1&amp;sc=0&amp;lm=-1&amp;pn=79&amp;rn=1&amp;di=30679010550&amp;ln=2000&amp;fr=&amp;ic=0&amp;s=0&amp;se=1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A%DA%C8%CB+%D1%C0%B3%DD+%BB%AD%CF%F1&amp;in=22933&amp;cl=2&amp;cm=1&amp;sc=0&amp;lm=-1&amp;pn=79&amp;rn=1&amp;di=30679010550&amp;ln=2000&amp;fr=&amp;ic=0&amp;s=0&amp;se=1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A%DA%C8%CB+%D1%C0%B3%DD+%BB%AD%CF%F1&amp;in=22933&amp;cl=2&amp;cm=1&amp;sc=0&amp;lm=-1&amp;pn=79&amp;rn=1&amp;di=30679010550&amp;ln=2000&amp;fr=&amp;ic=0&amp;s=0&amp;se=1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1_1-1-21-312_20030828173758"/>
          <p:cNvPicPr/>
          <p:nvPr/>
        </p:nvPicPr>
        <p:blipFill>
          <a:blip r:embed="rId1"/>
          <a:stretch/>
        </p:blipFill>
        <p:spPr>
          <a:xfrm>
            <a:off x="2209680" y="210960"/>
            <a:ext cx="6629400" cy="59738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609480" y="990720"/>
            <a:ext cx="1436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卖木雕的少年语文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4" descr="教师援助"/>
          <p:cNvPicPr/>
          <p:nvPr/>
        </p:nvPicPr>
        <p:blipFill>
          <a:blip r:embed="rId1"/>
          <a:stretch/>
        </p:blipFill>
        <p:spPr>
          <a:xfrm>
            <a:off x="0" y="0"/>
            <a:ext cx="9144000" cy="61070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0" y="6095880"/>
            <a:ext cx="1021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国教师正在耐心地为非洲学生讲解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6" descr="教师"/>
          <p:cNvPicPr/>
          <p:nvPr/>
        </p:nvPicPr>
        <p:blipFill>
          <a:blip r:embed="rId2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 advTm="5000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6" descr="发放物资"/>
          <p:cNvPicPr/>
          <p:nvPr/>
        </p:nvPicPr>
        <p:blipFill>
          <a:blip r:embed="rId1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457200" y="6095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国人给非洲人民发放物资。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文本框 8200"/>
          <p:cNvSpPr/>
          <p:nvPr/>
        </p:nvSpPr>
        <p:spPr>
          <a:xfrm>
            <a:off x="304920" y="5943600"/>
            <a:ext cx="4419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66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5000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533520" y="403848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了帮助非洲修筑坦赞铁路，中国派出了大批工程技术人员，其中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为之献出了宝贵的生命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8" descr="援建铁路"/>
          <p:cNvPicPr/>
          <p:nvPr/>
        </p:nvPicPr>
        <p:blipFill>
          <a:blip r:embed="rId1"/>
          <a:stretch/>
        </p:blipFill>
        <p:spPr>
          <a:xfrm>
            <a:off x="304920" y="304920"/>
            <a:ext cx="4190760" cy="3562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坦赞铁路"/>
          <p:cNvPicPr/>
          <p:nvPr/>
        </p:nvPicPr>
        <p:blipFill>
          <a:blip r:embed="rId2"/>
          <a:stretch/>
        </p:blipFill>
        <p:spPr>
          <a:xfrm>
            <a:off x="4648320" y="304920"/>
            <a:ext cx="4190760" cy="35049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33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你从文中哪些句子体会到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我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的遗憾？边读边作个记号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0" y="6172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odcarv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352680" y="6095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6248520" y="6172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83059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23968" y="10800"/>
                </a:lnTo>
                <a:lnTo>
                  <a:pt x="9955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说是坐凳，其实是一个卷鼻大耳象，象背上驮着一块寸把厚的树桩。这些坐凳构思新奇，大象雕得栩栩如生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说是坐凳，其实是一个卷鼻大耳象，象背上驮着一块寸把厚的树桩。这些坐凳构思新奇，大象雕得栩栩如生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象墩"/>
          <p:cNvPicPr/>
          <p:nvPr/>
        </p:nvPicPr>
        <p:blipFill>
          <a:blip r:embed="rId1"/>
          <a:stretch/>
        </p:blipFill>
        <p:spPr>
          <a:xfrm>
            <a:off x="2666880" y="2743200"/>
            <a:ext cx="3353040" cy="25779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304920" y="68580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是坐凳，其实是一个卷鼻大耳象，象背上驮着一块寸把厚的树桩。这些坐凳构思新奇，大象雕得栩栩如生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33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啊，不，路太远，这个太重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……”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我有些语无伦次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33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啊，不，路太远，这个太重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……”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我有些语无伦次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7543800" y="586728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380880" y="53352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我捧着象墩，仔细观赏，爱不释手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218960" y="533520"/>
            <a:ext cx="6553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不虚传      游人如织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分壮观      清晰可辨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琳琅满目      各式各样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构思新奇      栩栩如生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观赏      爱不释手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官端正      语无伦次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380880" y="53352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我捧着象墩，仔细观赏，爱不释手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7543800" y="586728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86104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您是中国人吧？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那少年望着我，猜测到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我点了点头。少年的眼睛里流露出一丝遗憾的神情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6104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少年的眼睛里流露出一丝遗憾的神情。我也为不能把这件精美的工艺品带回国而感到遗憾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86104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您是中国人吧？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那少年望着我，猜测到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我点了点头。少年的眼睛里流露出一丝遗憾的神情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文本框 8200"/>
          <p:cNvSpPr/>
          <p:nvPr/>
        </p:nvSpPr>
        <p:spPr>
          <a:xfrm>
            <a:off x="228600" y="5486400"/>
            <a:ext cx="4419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66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默读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5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自然段，画出描写少年言行的句子，并想象他当时是怎样想的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143000" y="685800"/>
            <a:ext cx="6400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他听到谈话声，来到我们面前，原来是白天卖木雕的那个少年。看样子，他是专门在这里等候我的。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143000" y="685800"/>
            <a:ext cx="6400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他听到谈话声，来到我们面前，原来是白天卖木雕的那个少年。看样子，他是专门在这里等候我的。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143000" y="685800"/>
            <a:ext cx="6400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AutoShape 3"/>
          <p:cNvSpPr/>
          <p:nvPr/>
        </p:nvSpPr>
        <p:spPr>
          <a:xfrm>
            <a:off x="5257800" y="2362320"/>
            <a:ext cx="3886200" cy="2209680"/>
          </a:xfrm>
          <a:prstGeom prst="cloudCallout">
            <a:avLst>
              <a:gd name="adj1" fmla="val -99263"/>
              <a:gd name="adj2" fmla="val 56754"/>
            </a:avLst>
          </a:prstGeom>
          <a:solidFill>
            <a:srgbClr val="a3b2c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5105520" y="304920"/>
            <a:ext cx="2590560" cy="1828800"/>
          </a:xfrm>
          <a:prstGeom prst="cloudCallout">
            <a:avLst>
              <a:gd name="adj1" fmla="val -134129"/>
              <a:gd name="adj2" fmla="val 165972"/>
            </a:avLst>
          </a:prstGeom>
          <a:solidFill>
            <a:srgbClr val="a3b2c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990720" y="380880"/>
            <a:ext cx="2286000" cy="1905120"/>
          </a:xfrm>
          <a:prstGeom prst="cloudCallout">
            <a:avLst>
              <a:gd name="adj1" fmla="val -9999"/>
              <a:gd name="adj2" fmla="val 153750"/>
            </a:avLst>
          </a:prstGeom>
          <a:solidFill>
            <a:srgbClr val="a3b2c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1295280" y="9144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过去，中国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5410080" y="8380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白天，那位中国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5638680" y="29718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会儿我把木雕送给她，她可能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10" descr="u=2017381569,3983531226&amp;fm=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21160"/>
            <a:ext cx="312408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自读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5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自然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233208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提示语：标点藏感情，表情会说话，用心去感受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28240" y="533520"/>
            <a:ext cx="8381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啊！原来是一个木雕小象墩，和白天见到的一模一样，却只有拳头大小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533520" y="1371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我们是朋友！”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初雪钢琴曲.mp3" descr=""/>
          <p:cNvPicPr/>
          <p:nvPr/>
        </p:nvPicPr>
        <p:blipFill>
          <a:blip r:embed="rId1"/>
          <a:stretch/>
        </p:blipFill>
        <p:spPr>
          <a:xfrm>
            <a:off x="80010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5.0)">
                                      <p:cBhvr>
                                        <p:cTn id="6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这个小，可以带上飞机。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太好了！（给你钱）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不，不要钱。中国人是我们的朋友。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我们是朋友！我们是朋友！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ff0000"/>
                </a:solidFill>
                <a:latin typeface="Verdana"/>
              </a:rPr>
              <a:t>我们是朋友！</a:t>
            </a:r>
            <a:endParaRPr b="0" lang="en-US" sz="7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要写几句话夸夸那个黑人少年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可爱的黑人少年，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7" descr="u=2017381569,3983531226&amp;fm=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628640"/>
            <a:ext cx="4105440" cy="320040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8200"/>
          <p:cNvSpPr/>
          <p:nvPr/>
        </p:nvSpPr>
        <p:spPr>
          <a:xfrm>
            <a:off x="380880" y="5791320"/>
            <a:ext cx="4419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6699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5" descr="瀑布2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4" descr="非洲木雕"/>
          <p:cNvPicPr/>
          <p:nvPr/>
        </p:nvPicPr>
        <p:blipFill>
          <a:blip r:embed="rId1"/>
          <a:stretch/>
        </p:blipFill>
        <p:spPr>
          <a:xfrm>
            <a:off x="-228600" y="-65160"/>
            <a:ext cx="9601200" cy="698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881E-480A-44B1-819D-012FC48432D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5" descr="u=2017381569,3983531226&amp;fm=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609480"/>
            <a:ext cx="4105440" cy="32004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1219320" y="4038480"/>
            <a:ext cx="739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中国人是我们的朋友！”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5"/>
          <p:cNvSpPr/>
          <p:nvPr/>
        </p:nvSpPr>
        <p:spPr>
          <a:xfrm>
            <a:off x="1676520" y="9144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4" descr="17404631153073677603"/>
          <p:cNvPicPr/>
          <p:nvPr/>
        </p:nvPicPr>
        <p:blipFill>
          <a:blip r:embed="rId1"/>
          <a:stretch/>
        </p:blipFill>
        <p:spPr>
          <a:xfrm>
            <a:off x="0" y="0"/>
            <a:ext cx="9144000" cy="59943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1447920" y="60958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穷困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liáo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倒   无家可归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5" descr="1"/>
          <p:cNvPicPr/>
          <p:nvPr/>
        </p:nvPicPr>
        <p:blipFill>
          <a:blip r:embed="rId1"/>
          <a:stretch/>
        </p:blipFill>
        <p:spPr>
          <a:xfrm>
            <a:off x="2666880" y="0"/>
            <a:ext cx="6429600" cy="6095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20071123_44bd9cb3b81c23d21452fQL29XTQ4bvB"/>
          <p:cNvPicPr/>
          <p:nvPr/>
        </p:nvPicPr>
        <p:blipFill>
          <a:blip r:embed="rId2"/>
          <a:stretch/>
        </p:blipFill>
        <p:spPr>
          <a:xfrm>
            <a:off x="0" y="0"/>
            <a:ext cx="4267080" cy="60958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2819520" y="6278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衣不蔽体   食不果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4" descr="衣不蔽体食不果腹"/>
          <p:cNvPicPr/>
          <p:nvPr/>
        </p:nvPicPr>
        <p:blipFill>
          <a:blip r:embed="rId1"/>
          <a:stretch/>
        </p:blipFill>
        <p:spPr>
          <a:xfrm>
            <a:off x="0" y="0"/>
            <a:ext cx="9144000" cy="61516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2362320" y="62784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缺衣少食   四肢乏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4" descr="骨瘦如柴瘦骨嶙峋"/>
          <p:cNvPicPr/>
          <p:nvPr/>
        </p:nvPicPr>
        <p:blipFill>
          <a:blip r:embed="rId1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2209680" y="6095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骨瘦如柴   瘦骨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lín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xú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4" descr="疾病肆虐病魔缠身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2438280" y="60958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疾病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sì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ǜe)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病魔缠身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4" descr="医生援助"/>
          <p:cNvPicPr/>
          <p:nvPr/>
        </p:nvPicPr>
        <p:blipFill>
          <a:blip r:embed="rId1"/>
          <a:stretch/>
        </p:blipFill>
        <p:spPr>
          <a:xfrm>
            <a:off x="0" y="0"/>
            <a:ext cx="9144000" cy="60706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533520" y="6095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国医生在细心地为非洲病人治病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5000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0T08:05:2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9:13Z</dcterms:modified>
  <cp:revision>5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  <property fmtid="{D5CDD505-2E9C-101B-9397-08002B2CF9AE}" pid="3" name="NXTAG2">
    <vt:lpwstr>0008006a0f000000000001024120</vt:lpwstr>
  </property>
  <property fmtid="{D5CDD505-2E9C-101B-9397-08002B2CF9AE}" pid="4" name="Version">
    <vt:r8>1</vt:r8>
  </property>
</Properties>
</file>