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laser.wav" ContentType="audio/x-wav"/>
  <Override PartName="/ppt/media/image4.jpeg" ContentType="image/jpeg"/>
  <Override PartName="/ppt/media/chimes.wav" ContentType="audio/x-wav"/>
  <Override PartName="/ppt/media/applause.wav" ContentType="audio/x-wav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3CD-8224-4EC0-A9D9-1C8BDB5C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38B-D68D-4F58-91C4-28AA6A2F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99ADC-761D-432A-A46F-3CCCB7A0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CAAD5-3619-44CF-B76C-0B8263AB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0362F-349E-4C59-8C07-B149098B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45E85-5E91-4788-9873-703A505A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36CD1-D423-4CA9-8D97-8671107F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59BA5-656E-4FAD-A478-C6DEEBA6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4FB53-8673-42ED-BA8F-AEE4D651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80440-E1F2-4244-9B45-0FF31C4E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0AE85-CA31-49A7-989B-7432B43A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48258-16B3-4763-87CD-46CC7CE2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1DE-179F-400C-856E-C448C2BB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B2E71-77F5-4250-AD61-83DE623B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F487C-46D0-4E38-BABA-2536B7EC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8D4C3-12EB-49C4-9BD1-54146729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589DF-9B36-4705-9A4C-7EF046D3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8DF18-71AE-4D8A-9305-6E758838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AB4B0-7F63-42AE-A739-3D2FC2C0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95BAF-0675-4609-B508-71C301A8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B7194-7F1B-4DD2-BA00-881E9660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E7F07-45AC-4C1A-A520-00B0131A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32BBC-37B3-4463-9E88-D65E5D09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1AC-2C76-4BF6-AB23-FC8BE2E7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524E1-A66F-4A3A-998A-EBEB9F28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696B3-BE01-4913-AE0E-DA587E51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E1EB1-B3B4-4502-9045-7E27BEBF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29B6D-AA17-4C0F-8008-1F9E7CBC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A7CD1-BEB5-47EF-B88E-281AF1A9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ADF2D-8C60-4537-B3C7-6788D7B1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0FADF-3161-4F72-B97F-9B932AB5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9B2C7-BB04-41DC-98B5-A2626E38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C8049-A0EC-43B8-A435-56F36B51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0F949-691C-4944-B9F3-3FC50EE5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76F1-C5FF-49ED-B79D-2EFB6DAB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96153-8EEE-43BD-8F24-1E5D5677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39E3F-9A11-463F-A472-0B1F9556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5FFEB-DC93-47E6-B31F-6ADDC9EE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FF912-3CE6-4DE5-934D-9504133F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2973D-D4F8-40DE-B031-53B32D6C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7E21A-F037-446A-8484-6350911E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17A7A-3297-4069-9EF4-1157FC7A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4936D-B33D-4633-AFD0-86EFBFBB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46B0F-0A91-41A4-8B1D-521112FB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16483-6337-4D3E-86CD-45D34664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2BDD-A11F-4DAA-AD6D-6BABEFB5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3BAE2-9D90-4AE7-9F02-6E0B71B3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1D3D4-A0FD-4DD9-8AFF-A54F6905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BCBA1-D640-49F2-AF81-17411B0D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C10CE-CF5D-46B0-9F14-102C9F57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2658F-5238-4A12-A673-4F150228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75F79-D279-4B79-B325-DFDDD640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C6EC8-D773-426A-8684-DF0A8532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DCD67-A687-4747-B1D0-8339BB44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1F6D9-443A-49D9-BCFB-69F0BE85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9E1A7-A410-47CF-A196-C1A2E881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0F30-F98E-4D6D-85FA-38701F49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F1CBF-7125-4EFE-92E1-6CB9441A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40224-F021-4AF6-8565-C0A855E1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108D1-93DC-4EE0-B945-116A2A52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1BBEF-D302-4296-85B7-1BC231B4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E0FBF-3AA4-4BFF-BBA4-4A7D3F63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61380-FD2D-40CF-884C-560DDE63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081F0-5BED-4236-9546-490D681E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2E9C80-5B6B-43EE-8417-FD4E34E6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B2889-AE7C-4823-96AE-D65FCCA2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1C790-F4E8-42EF-8AF6-F2B4E04E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61F4-6801-4F0C-A6EE-5864FF30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8F67E-EBD7-48F2-9C40-3A9AEE51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0A44B-CA6D-4045-AC33-68172C75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B3C34-2D1D-43F2-B9AC-F4E6D954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10D66-1845-47A0-8746-984C404C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4F0FF-5D3A-4BB0-8C06-F8B377F1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DC668-4591-464B-B22A-3C6A75E8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38F1B-38E3-4F3A-8C85-4E1C2C31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6DFD0-F401-400E-A8F3-60A27B0E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F9830-32BB-4A95-A8C8-7AA3FEC8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DCD8C-41C6-413B-B3A5-83BD54A7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465B-0A3F-401F-9801-476E6CCD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9DCFE3-B026-4688-B3AC-2428EB21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EF851-5C92-40C1-91E1-205B4D5D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A0654-B876-441F-8265-9AC17702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1EB24-338F-42D8-8335-7228FBEB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28DF37-FA9B-41C0-AC9A-3317B486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56B56-437C-4BDC-8AC5-A86DDDAC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EE625-A87F-4B79-A424-8532C65E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4CB3D-0A7B-4AC3-AE84-D0B1D0AC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8CEFAE-99CF-4CA1-812C-9E0B7732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399242-E288-4148-82F0-1C4218FF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1F67-3486-423C-914B-234B18EA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0369F-5B2C-4E9E-B77D-9AA7DB5C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0D665C-F606-4E18-A685-9075AC53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405B44-5B3E-4788-9E1B-246828AD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1E3EE5-9A61-4147-B0C6-A775C20F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BD076F-F346-4A99-81C9-2BF18258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59345-331E-4FBB-9D15-8FAEF0AC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9E17A-AD25-48F6-82A4-68CF391B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E01038-D442-4BC1-A416-4426FFE6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EE932D-DCDE-409E-8F7F-4F235DC7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C13A21-3660-4FED-A1D2-5975ED55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9AB1-0686-47C4-8A3D-70BF7C6E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D33245-2EE6-4357-8D47-0B4C8B4F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CD40C-AB2A-44B1-82F5-106EC7EA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A7EE52-3834-4C65-B562-9A6E3C9E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DD8EEA-2964-4334-A7FB-E350C518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48D56-70A4-456A-8F55-B40E2239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E767A-7AD5-4E8E-81A6-3794D776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A1641-C725-40D3-8B9B-0955B290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599385-F100-4267-8B41-2786CDD7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CF21CF-0AEA-419A-88BA-03C61966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E191C7-7C13-43C5-8FB3-41F7BEB7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26F-A3EA-44C1-8576-35DAA233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8997-DE6F-4A30-8DD1-E209AA2C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98640-573C-4343-AA86-9C1C4AE8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28F83-6C6D-42AF-B9A1-C8A579D7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968AAC-8C02-44BF-850A-646F6049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5A4FF6-E1B2-46FC-8D24-D9227781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06E636-0B34-420B-BDF6-7D1C1BF0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6D69FE-5E39-4BE2-8D99-4121D1E2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54AF06-AC67-410A-9A4C-195844A9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6ADB94-50B9-430F-9792-251B9C49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FECC92-68FE-4E66-924E-2019F9F8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CF4957-1843-4421-8639-4CEBE5CD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0F83-87F1-44AB-A180-DBD3812E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733BFB-FC0E-4E1D-8D7F-AA88B4B8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7D291F-C24E-448C-95CB-0C286E3B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DC425F-00F6-4E85-BCA5-DF9EACD7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8A25F-A702-481B-9021-F5322DD1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C362B6-D16C-4B82-82AB-F36D1B3A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918238-BAA4-4B04-BA91-C0143DB6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6444E5-9991-4A62-8306-A7BAF3C3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460C06-53EC-4B15-BA33-E414D959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4950B5-2367-427B-B0B6-7D59CFEE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996070-CD3E-4B79-AAB0-8A2A5823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49AF-5791-4BF2-98C5-31D17D58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5FE659-CE89-4D35-94E3-37C9639D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1EC8EA-A45C-4B57-9C5B-49BBEA9C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4F0070-044C-4764-9C6C-BBA8DBBF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D00F1C-EED8-4135-A894-121F1A98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5F2463-F1B0-4DEB-9BC7-B2A2AEB4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3374A3-1FC2-427A-B6F3-4F494E38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3B8CCC-080A-469F-91E8-28689A80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D9D33B-E9E6-44EF-9597-AB53E44B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579A45-AB95-4428-A2AC-C241B107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279C86-B18B-473C-B95A-0F686978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D7DD-0A6D-421F-996A-087C6A93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970ABD-FEFC-4AAC-97E3-85999359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7ECB65-D455-4BD8-BC96-B48EBEEC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80869-34A7-4111-9896-3393AD2E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4061FF-96B0-4DDD-A8FF-5D4B3A0F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2298BC-8355-48DD-9188-7E73D48A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334F26-C4FB-4F2D-A284-2C08B0DB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311FC2-26F3-4A2E-9CD9-E7536E80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6D6EBF-40B6-4F1D-A370-6C9F4CCD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418014-1B8C-4569-B4DB-1C9BE7CC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314C95-4811-43BC-95A5-9ECFC5E8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6178-795E-4566-9201-A9BE1402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F492B3-0C28-45EE-85D1-C2E5B1E2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4869B0-D3CD-43E4-A3CB-22363505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302AC1-5BC4-47BD-A62E-47807CF6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C18998-AE10-4690-AB58-57AD50F3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B66BDB-5528-46D2-AFC8-65AA5A23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6EE387-65C1-44FA-9D2A-D8E8C255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3D1B77-3BA5-43F2-8EED-898EE87A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26503F-70B5-4499-9FD0-17AD82F4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6FA44D-3F69-4DC7-B60B-7F60CDF8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837684-48DD-4BC9-AE63-2C30C368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F3DD-629F-4AE5-B5D7-F17C7F31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36FB24-09D1-4B1D-B2F2-5DFF4001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90814D-6074-4C88-AEC0-310664D4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5682E5-1324-41A7-97D3-A37038E5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5FD5C7-1CEB-414A-BBE1-6ADA92CC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8898D1-9BF5-4614-9AE1-D0A8D610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D1F460-A258-4600-A9E6-D3AFE71B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94D3F4-D864-49F9-B221-608FC783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3DA97C-BBDD-46C0-BCCC-872519A7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73B436-FC67-4BB5-9AE4-837869FD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400427-C0DA-4DFB-BE22-831684C2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EBB8-768C-42ED-8335-B892ADA4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E88BB1-AFC2-4358-AE80-DF0E8A86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9E8ED7-2F2D-483A-9636-B31B6213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BA7D94-136C-4DEE-A878-EDB974BC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120606-2B29-45AC-BA2E-EF818FA3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0F3CB7-C9FB-4B76-B9B4-BD18BDDB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5460D7-C143-42A8-B2DA-17700AA2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5BFB78-E65D-4FF3-9B7A-D540ACFD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1B5319-6E1A-485E-BCFA-75655EB5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8CB1B7-B152-42F0-A58C-DB0CAE63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278E80-20B9-4FEF-A24A-B8573B4A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17145-3EF2-40D5-840D-4FE87B2C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6401F4-C6E7-4B70-B2BD-DD6C0B94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6A1096-CDDD-4DA0-B6F9-FAC1BD16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8D35A3-80F0-4D96-BB32-418E450C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6A54F5-F897-479F-94AD-E3C8C644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3A6FF4-6BFF-4D3C-BEB9-5A7C67CA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586725-D873-4A11-A6F7-338C52EE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66496C-2A7C-4050-B2F0-802F7A04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F652AE-BE81-4677-988E-A8DE6AC3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C569EF-EE1A-46AA-809D-FA7B0EC2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C93F96-6B7C-44D1-A853-421908A2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CCD12-2F32-463F-A92E-B6066AA1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E6FA4B-572F-46D4-8103-0DC1AA0B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D3A68D-7C31-4013-A8F3-4E824AD5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958A1E-9D76-4E01-B545-85A292EB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34C3F1-CD3B-4293-82F3-C009A27A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A4D27B-F04B-4197-900C-0ED0361E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524B37-2FE7-42E2-A92F-1CF177E4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37573C-8A77-4115-98CC-B1CDD6A8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E3021D-6844-495A-AE8F-44D6DAB8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998627-F4EF-4D30-82BE-ADDCB0A7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33E2AC-D4D2-4A13-B1E6-45F4A469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43FC8-28FE-4289-A042-14836304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973F4B-9A5C-4249-A660-C70A1D16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63A87B-AE15-4299-86F6-9400A3B1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CB8682-5521-4428-A324-9D974655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03AACC-F747-45C4-85AE-3C41844E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915E04-2658-472F-AB67-E24ED6A1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01EE33-5E94-414E-8581-9B4BF3E0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737405-049D-497E-B8AE-CE50DE0E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DE2D3F-4691-4187-AD02-D745D4D2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023E12-BD8E-4D38-A5F8-7848E03D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7E5F4D-DE76-4594-BCE0-AE3028C6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AC8C-E11C-4073-9167-EC995751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B2FBD-AD7E-41E4-9433-D2EFC8AA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CA019F-C6CF-49A7-AB77-8EEF0C36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DD5F-10BA-40DB-9F06-558FD96F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E7251-CE97-42CC-A753-C6AA4CD5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C152D-C3C6-4C16-ADA7-5E66AC07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7F09F-E267-400A-9B72-709913E6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6AC9-F361-4DDB-9568-1CE07243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D7B9E-F9C6-41B8-A245-67A87465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9363-1AED-4466-8EE7-3A65A4DE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3C869-BDA9-497E-A7C2-A3746B21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F330D-8D45-428F-B78F-CAB21AE5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F6CB-6820-4252-B143-3D44BD25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1C63A-48CE-4E38-A923-63A888DB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9F11D-8635-47C1-9AA6-953733D0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0D15B-77B8-4D20-8F85-2409D700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22929-A807-4B70-B3BF-8A4A0B26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CF6F1-449B-4EC8-8349-F98DDE5C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41D4-19EF-4A9E-A70D-C4D24B5B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5AE18-3731-4EA4-8DFA-2EB5BCE9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794C5-4B1E-4C40-8E06-777BCE22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910A5-0FF3-4561-BA17-48DEB73D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72992-FC21-4C18-8651-C53A4E91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B10-ED8C-4687-A62D-D3F4ED69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81A50-03B7-47A5-8C0D-33E5C489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4D630-C2D3-47E2-B23D-DECBABA2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33D2C-1023-4828-A5A0-87500628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D4284-05B4-4A47-A99F-E712742D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7949A-62AD-412E-84E6-571D1D5B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29DEA-61A1-438F-9EAA-6F4AEA40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8D1C0-BBA9-40F0-ABF5-DD87DDB5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27709-934D-4635-B14B-0D44B613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C62DD-3BDB-4C13-B1B5-00C6E1AE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F35D4-6B5D-4648-8B05-D6D946C2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EB7-762B-47DB-B859-5C41D822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C5E5E-D758-46BD-8C72-4DADFDF7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4417A-C36C-4E4B-86C7-2666D6C7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6DA63-0275-4E75-8EEA-92C882A1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91E5F-017B-4B36-A632-B89F4423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7A918-F644-4BFA-A689-3DA5A169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94A03-D4DA-4977-B88B-C58437D8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3B8BE-DEAE-4762-BDA9-3BB1472C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33F94-B5D9-4B19-BFEA-E5D2F687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713C7-60C1-4D30-BD15-76156B26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35B7C-3938-4E09-8413-004DFCEE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C8C-7BF3-4DBE-BBE8-BFA7E627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6D9A3-D5DD-45AA-AFDB-2F6190D4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CB4CA-A448-4E5E-9D78-5ADA0897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71E23-B7E0-4FE1-80AE-7681FC15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872E1-086A-4A90-8D18-BE29F617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8F090-49C8-43E0-972A-61A4D70D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CF933-0638-41AE-A5BB-3EFD2EA2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3E375-9741-403A-B093-8DB7A3E5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CE85C-B096-42D7-A56D-51B3F793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22D1D-E32D-4A55-82B1-45F02E44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6A8A8-451A-441F-8AA1-47DB850F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9A6-F6E5-4495-89BE-AE3E86EE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04CD6-2543-4764-9083-D6738B5F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FDC02-DA13-4D0E-9965-CB79E1B6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4EA01-E743-4FF4-8950-372B5D04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4E67C-8C77-4C9C-86A3-A38CA898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D7F88-7A23-46C7-87F0-C212D8D3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AAB50-9ABD-448D-9423-7977E58F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D7471-4EE0-4389-951E-DA43A65F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3AE45-4FED-4C31-A734-61AA2A1B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20F25-DD2C-40D2-B33E-0E55CC31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2A4CC-D96B-4F63-ADC0-8E602E64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B18-A8E8-49D5-8977-D4A68E30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BFB0D-2CA7-4815-B002-D616CFFB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379E1-FD10-4184-86A1-E4CE2658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C3668-E48F-4DAB-9492-6DA41335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7DD3D-311B-4711-AC4E-126E6530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94646-FEBB-4187-B2BC-D9EE2265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358F5-1946-4033-A741-77C0127E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69FE8-1F99-465B-8E9C-BB5385A2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61ADC-0EB2-43F3-AC8E-24E4D1A8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F3E78-6A8B-49DA-9E5F-D2818DD6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AD05A-BFE5-4B69-AEB9-52CDB8F2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DB6E-73C0-4B20-B7C6-A00E175FC6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30" descr="strtegic1"/>
          <p:cNvPicPr/>
          <p:nvPr/>
        </p:nvPicPr>
        <p:blipFill>
          <a:blip r:embed="rId3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509C-CF24-46F4-80F0-8D880AD77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277B-D2AF-4B06-AB71-3C0011040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EAE0-7F71-415F-8DD4-F7C838869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C3A4-9838-446E-A78F-2CD0B314C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0DCC-B6FC-41F8-81CA-BE14B8A45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5D80-9D6B-4FA0-8B26-96FA5593FDC8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6986-B86A-4474-838F-515631F37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520B-1D3F-41E1-8036-834F8101E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9863-11B9-4391-A3A6-B12F1A907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E88C-3D1C-46AB-BB7A-C085400D3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DF2A-E979-4AB1-A7D8-7905512C5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0" descr="strtegic1"/>
          <p:cNvPicPr/>
          <p:nvPr/>
        </p:nvPicPr>
        <p:blipFill>
          <a:blip r:embed="rId3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A1AD-0EDA-476B-BC4D-23BB56861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AB85-BA08-45EC-AD56-B899D4851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E04F-8955-4349-BD96-6276F662F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00AA-8052-44C1-9E39-ECECC0EBF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010D-84E9-4683-9607-BE42A59B9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73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74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75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1C04-6AEF-4186-B7E9-4CE9B7D76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1F52-6223-49F0-94D3-67B225BB7CA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DFFF-D316-4620-BD6F-CA75ACDC2E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6DAE-5223-47C0-895A-115AFEEE3EDA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F970-B035-48DE-9674-C7FBD3549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1FDF-A2F2-47E7-910A-12D114086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03F0-6912-4822-8E7E-837A4A930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E832-EE9B-41B4-9B3B-C8EDAC6B8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83B9-846E-40B7-8191-95E06AAD7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67,3,&#24187;&#28783;&#29255; 3" TargetMode="External"/><Relationship Id="rId2" Type="http://schemas.openxmlformats.org/officeDocument/2006/relationships/hyperlink" Target="268,4,&#24187;&#28783;&#29255; 4" TargetMode="External"/><Relationship Id="rId3" Type="http://schemas.openxmlformats.org/officeDocument/2006/relationships/hyperlink" Target="269,5,&#24187;&#28783;&#29255; 5" TargetMode="External"/><Relationship Id="rId4" Type="http://schemas.openxmlformats.org/officeDocument/2006/relationships/hyperlink" Target="270,6,&#24187;&#28783;&#29255; 6" TargetMode="External"/><Relationship Id="rId5" Type="http://schemas.openxmlformats.org/officeDocument/2006/relationships/hyperlink" Target="271,7,&#24187;&#28783;&#29255; 7" TargetMode="External"/><Relationship Id="rId6" Type="http://schemas.openxmlformats.org/officeDocument/2006/relationships/hyperlink" Target="272,8,&#24187;&#28783;&#29255; 8" TargetMode="External"/><Relationship Id="rId7" Type="http://schemas.openxmlformats.org/officeDocument/2006/relationships/hyperlink" Target="273,9,&#24187;&#28783;&#29255; 9" TargetMode="External"/><Relationship Id="rId8" Type="http://schemas.openxmlformats.org/officeDocument/2006/relationships/hyperlink" Target="275,10,&#24187;&#28783;&#29255; 10" TargetMode="External"/><Relationship Id="rId9" Type="http://schemas.openxmlformats.org/officeDocument/2006/relationships/hyperlink" Target="276,11,&#24187;&#28783;&#29255; 11" TargetMode="External"/><Relationship Id="rId10" Type="http://schemas.openxmlformats.org/officeDocument/2006/relationships/hyperlink" Target="277,12,&#24187;&#28783;&#29255; 12" TargetMode="External"/><Relationship Id="rId11" Type="http://schemas.openxmlformats.org/officeDocument/2006/relationships/hyperlink" Target="278,13,&#24187;&#28783;&#29255; 13" TargetMode="External"/><Relationship Id="rId12" Type="http://schemas.openxmlformats.org/officeDocument/2006/relationships/hyperlink" Target="279,14,&#24187;&#28783;&#29255; 14" TargetMode="External"/><Relationship Id="rId13" Type="http://schemas.openxmlformats.org/officeDocument/2006/relationships/hyperlink" Target="280,15,&#24187;&#28783;&#29255; 15" TargetMode="External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Text Box 3"/>
          <p:cNvSpPr/>
          <p:nvPr/>
        </p:nvSpPr>
        <p:spPr>
          <a:xfrm>
            <a:off x="2056680" y="134136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棉鞋里的阳光语文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AutoShape 7"/>
          <p:cNvSpPr/>
          <p:nvPr/>
        </p:nvSpPr>
        <p:spPr>
          <a:xfrm>
            <a:off x="3962520" y="320040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字认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8"/>
          <p:cNvSpPr/>
          <p:nvPr/>
        </p:nvSpPr>
        <p:spPr>
          <a:xfrm>
            <a:off x="6324480" y="3200400"/>
            <a:ext cx="1524240" cy="609480"/>
          </a:xfrm>
          <a:custGeom>
            <a:avLst/>
            <a:gdLst>
              <a:gd name="textAreaLeft" fmla="*/ 39240 w 1524240"/>
              <a:gd name="textAreaRight" fmla="*/ 1485000 w 15242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课文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10"/>
          <p:cNvSpPr/>
          <p:nvPr/>
        </p:nvSpPr>
        <p:spPr>
          <a:xfrm>
            <a:off x="3962520" y="41911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11"/>
          <p:cNvSpPr/>
          <p:nvPr/>
        </p:nvSpPr>
        <p:spPr>
          <a:xfrm>
            <a:off x="6324480" y="4191120"/>
            <a:ext cx="1524240" cy="609480"/>
          </a:xfrm>
          <a:custGeom>
            <a:avLst/>
            <a:gdLst>
              <a:gd name="textAreaLeft" fmla="*/ 39240 w 1524240"/>
              <a:gd name="textAreaRight" fmla="*/ 1485000 w 15242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字书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AutoShape 2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3"/>
          <p:cNvSpPr/>
          <p:nvPr/>
        </p:nvSpPr>
        <p:spPr>
          <a:xfrm>
            <a:off x="2800440" y="177336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宋体"/>
              </a:rPr>
              <a:t>脱下  脱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宋体"/>
              </a:rPr>
              <a:t>脱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AutoShape 2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3"/>
          <p:cNvSpPr/>
          <p:nvPr/>
        </p:nvSpPr>
        <p:spPr>
          <a:xfrm>
            <a:off x="3030480" y="1828800"/>
            <a:ext cx="314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宋体"/>
              </a:rPr>
              <a:t>躺下  躺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AutoShape 2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3"/>
          <p:cNvSpPr/>
          <p:nvPr/>
        </p:nvSpPr>
        <p:spPr>
          <a:xfrm>
            <a:off x="2584440" y="1484280"/>
            <a:ext cx="3146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宋体"/>
              </a:rPr>
              <a:t>合作  合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宋体"/>
              </a:rPr>
              <a:t>合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AutoShape 2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3"/>
          <p:cNvSpPr/>
          <p:nvPr/>
        </p:nvSpPr>
        <p:spPr>
          <a:xfrm>
            <a:off x="2584440" y="1413000"/>
            <a:ext cx="3146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宋体"/>
              </a:rPr>
              <a:t>眼睛  眼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宋体"/>
              </a:rPr>
              <a:t>字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AutoShape 2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3"/>
          <p:cNvSpPr/>
          <p:nvPr/>
        </p:nvSpPr>
        <p:spPr>
          <a:xfrm>
            <a:off x="2606400" y="1600200"/>
            <a:ext cx="43657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宋体"/>
              </a:rPr>
              <a:t>眼睛  目不转睛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AutoShape 2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Rectangle 3"/>
          <p:cNvSpPr/>
          <p:nvPr/>
        </p:nvSpPr>
        <p:spPr>
          <a:xfrm>
            <a:off x="2800440" y="170028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宋体"/>
              </a:rPr>
              <a:t>摆动  摆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宋体"/>
              </a:rPr>
              <a:t>摆脱  摆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文本框 1"/>
          <p:cNvSpPr/>
          <p:nvPr/>
        </p:nvSpPr>
        <p:spPr>
          <a:xfrm>
            <a:off x="1337760" y="5086440"/>
            <a:ext cx="3894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2000" spc="-1" strike="noStrike" u="sng">
                <a:solidFill>
                  <a:srgbClr val="0080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Text Box 3"/>
          <p:cNvSpPr/>
          <p:nvPr/>
        </p:nvSpPr>
        <p:spPr>
          <a:xfrm>
            <a:off x="1476360" y="1413000"/>
            <a:ext cx="6759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小组合作学习、讨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小峰做了一件什么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AutoShape 4">
            <a:hlinkClick r:id="" action="ppaction://hlinkshowjump?jump=firstslide"/>
          </p:cNvPr>
          <p:cNvSpPr/>
          <p:nvPr/>
        </p:nvSpPr>
        <p:spPr>
          <a:xfrm>
            <a:off x="6705720" y="4800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7301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5456" y="3801"/>
                </a:lnTo>
                <a:lnTo>
                  <a:pt x="5456" y="17814"/>
                </a:lnTo>
                <a:lnTo>
                  <a:pt x="3794" y="17814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078" name="AutoShape 3"/>
          <p:cNvSpPr/>
          <p:nvPr/>
        </p:nvSpPr>
        <p:spPr>
          <a:xfrm>
            <a:off x="380880" y="533520"/>
            <a:ext cx="5562720" cy="1752480"/>
          </a:xfrm>
          <a:prstGeom prst="wedgeRectCallout">
            <a:avLst>
              <a:gd name="adj1" fmla="val 60018"/>
              <a:gd name="adj2" fmla="val 45018"/>
            </a:avLst>
          </a:prstGeom>
          <a:solidFill>
            <a:srgbClr val="939be7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棉被晒过了，奶奶盖上会更暖和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AutoShape 4"/>
          <p:cNvSpPr/>
          <p:nvPr/>
        </p:nvSpPr>
        <p:spPr>
          <a:xfrm>
            <a:off x="1600200" y="3657600"/>
            <a:ext cx="5334120" cy="2438280"/>
          </a:xfrm>
          <a:prstGeom prst="wedgeRectCallout">
            <a:avLst>
              <a:gd name="adj1" fmla="val 61162"/>
              <a:gd name="adj2" fmla="val -69203"/>
            </a:avLst>
          </a:prstGeom>
          <a:solidFill>
            <a:srgbClr val="ff99cc"/>
          </a:solidFill>
          <a:ln cap="sq"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奶奶的棉被一点儿也没有湿，干吗要晒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AutoShape 5">
            <a:hlinkClick r:id="" action="ppaction://hlinkshowjump?jump=firstslide"/>
          </p:cNvPr>
          <p:cNvSpPr/>
          <p:nvPr/>
        </p:nvSpPr>
        <p:spPr>
          <a:xfrm>
            <a:off x="79246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7308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5463" y="3794"/>
                </a:lnTo>
                <a:lnTo>
                  <a:pt x="5463" y="17806"/>
                </a:lnTo>
                <a:lnTo>
                  <a:pt x="3801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082" name="AutoShape 4"/>
          <p:cNvSpPr/>
          <p:nvPr/>
        </p:nvSpPr>
        <p:spPr>
          <a:xfrm>
            <a:off x="304920" y="838080"/>
            <a:ext cx="5562360" cy="3022560"/>
          </a:xfrm>
          <a:prstGeom prst="wedgeRectCallout">
            <a:avLst>
              <a:gd name="adj1" fmla="val 61388"/>
              <a:gd name="adj2" fmla="val -4990"/>
            </a:avLst>
          </a:prstGeom>
          <a:solidFill>
            <a:srgbClr val="939be7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棉被里有棉花，让阳光钻进棉花里，你说暖和不暖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5"/>
          <p:cNvSpPr/>
          <p:nvPr/>
        </p:nvSpPr>
        <p:spPr>
          <a:xfrm>
            <a:off x="1676520" y="4419720"/>
            <a:ext cx="4695840" cy="838080"/>
          </a:xfrm>
          <a:prstGeom prst="wedgeRectCallout">
            <a:avLst>
              <a:gd name="adj1" fmla="val 74643"/>
              <a:gd name="adj2" fmla="val -196782"/>
            </a:avLst>
          </a:prstGeom>
          <a:solidFill>
            <a:srgbClr val="ff99cc"/>
          </a:solidFill>
          <a:ln cap="sq"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什么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6">
            <a:hlinkClick r:id="" action="ppaction://hlinkshowjump?jump=firstslide"/>
          </p:cNvPr>
          <p:cNvSpPr/>
          <p:nvPr/>
        </p:nvSpPr>
        <p:spPr>
          <a:xfrm>
            <a:off x="7391520" y="6019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6"/>
          <p:cNvSpPr/>
          <p:nvPr/>
        </p:nvSpPr>
        <p:spPr>
          <a:xfrm>
            <a:off x="495360" y="404640"/>
            <a:ext cx="78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小峰问妈妈：“奶奶的棉被一点儿也没有湿，干吗要晒呢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棉被晒过了，奶奶盖上会更暖和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”妈妈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什么呢？”小峰又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妈妈说：“棉被里有棉花，让阳光钻进棉花里，你说暖和不暖和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9"/>
          <p:cNvSpPr/>
          <p:nvPr/>
        </p:nvSpPr>
        <p:spPr>
          <a:xfrm>
            <a:off x="1403280" y="1700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AutoShape 1026"/>
          <p:cNvSpPr/>
          <p:nvPr/>
        </p:nvSpPr>
        <p:spPr>
          <a:xfrm>
            <a:off x="1371600" y="1066680"/>
            <a:ext cx="1219320" cy="12193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  <a:hlinkClick r:id="rId1"/>
              </a:rPr>
              <a:t>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1027"/>
          <p:cNvSpPr/>
          <p:nvPr/>
        </p:nvSpPr>
        <p:spPr>
          <a:xfrm>
            <a:off x="2819520" y="1066680"/>
            <a:ext cx="1218960" cy="121932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6">
                <a:moveTo>
                  <a:pt x="0" y="0"/>
                </a:moveTo>
                <a:lnTo>
                  <a:pt x="21600" y="0"/>
                </a:lnTo>
                <a:lnTo>
                  <a:pt x="21600" y="21606"/>
                </a:lnTo>
                <a:lnTo>
                  <a:pt x="0" y="21606"/>
                </a:lnTo>
                <a:close/>
              </a:path>
              <a:path fill="lightenLess" w="21600" h="21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6">
                <a:moveTo>
                  <a:pt x="21600" y="0"/>
                </a:moveTo>
                <a:lnTo>
                  <a:pt x="21600" y="21606"/>
                </a:lnTo>
                <a:lnTo>
                  <a:pt x="20200" y="20206"/>
                </a:lnTo>
                <a:lnTo>
                  <a:pt x="20200" y="1400"/>
                </a:lnTo>
                <a:close/>
              </a:path>
              <a:path fill="darkenLess" w="21600" h="21606">
                <a:moveTo>
                  <a:pt x="21600" y="21606"/>
                </a:moveTo>
                <a:lnTo>
                  <a:pt x="0" y="21606"/>
                </a:lnTo>
                <a:lnTo>
                  <a:pt x="1400" y="20206"/>
                </a:lnTo>
                <a:lnTo>
                  <a:pt x="20200" y="20206"/>
                </a:lnTo>
                <a:close/>
              </a:path>
              <a:path fill="lighten" w="21600" h="21606">
                <a:moveTo>
                  <a:pt x="0" y="21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  <a:hlinkClick r:id="rId2"/>
              </a:rPr>
              <a:t>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1028"/>
          <p:cNvSpPr/>
          <p:nvPr/>
        </p:nvSpPr>
        <p:spPr>
          <a:xfrm>
            <a:off x="4343400" y="1066680"/>
            <a:ext cx="1219320" cy="12193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  <a:hlinkClick r:id="rId3"/>
              </a:rPr>
              <a:t>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1029"/>
          <p:cNvSpPr/>
          <p:nvPr/>
        </p:nvSpPr>
        <p:spPr>
          <a:xfrm>
            <a:off x="5867280" y="1066680"/>
            <a:ext cx="1219320" cy="12193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  <a:hlinkClick r:id="rId4"/>
              </a:rPr>
              <a:t>被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1030"/>
          <p:cNvSpPr/>
          <p:nvPr/>
        </p:nvSpPr>
        <p:spPr>
          <a:xfrm>
            <a:off x="7315200" y="1066680"/>
            <a:ext cx="1219320" cy="12193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  <a:hlinkClick r:id="rId5"/>
              </a:rPr>
              <a:t>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1031"/>
          <p:cNvSpPr/>
          <p:nvPr/>
        </p:nvSpPr>
        <p:spPr>
          <a:xfrm>
            <a:off x="1752480" y="2819520"/>
            <a:ext cx="1219320" cy="121896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20206" y="1400"/>
                </a:lnTo>
                <a:lnTo>
                  <a:pt x="1400" y="1400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20206" y="20200"/>
                </a:lnTo>
                <a:lnTo>
                  <a:pt x="20206" y="1400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6" y="20200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  <a:hlinkClick r:id="rId6"/>
              </a:rPr>
              <a:t>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AutoShape 1032"/>
          <p:cNvSpPr/>
          <p:nvPr/>
        </p:nvSpPr>
        <p:spPr>
          <a:xfrm>
            <a:off x="3276720" y="28195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  <a:hlinkClick r:id="rId7"/>
              </a:rPr>
              <a:t>收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AutoShape 1033"/>
          <p:cNvSpPr/>
          <p:nvPr/>
        </p:nvSpPr>
        <p:spPr>
          <a:xfrm>
            <a:off x="4800600" y="2819520"/>
            <a:ext cx="1219320" cy="121896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20206" y="1400"/>
                </a:lnTo>
                <a:lnTo>
                  <a:pt x="1400" y="1400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20206" y="20200"/>
                </a:lnTo>
                <a:lnTo>
                  <a:pt x="20206" y="1400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6" y="20200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  <a:hlinkClick r:id="rId8"/>
              </a:rPr>
              <a:t>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1034"/>
          <p:cNvSpPr/>
          <p:nvPr/>
        </p:nvSpPr>
        <p:spPr>
          <a:xfrm>
            <a:off x="6324480" y="2819520"/>
            <a:ext cx="1219320" cy="121896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20206" y="1400"/>
                </a:lnTo>
                <a:lnTo>
                  <a:pt x="1400" y="1400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20206" y="20200"/>
                </a:lnTo>
                <a:lnTo>
                  <a:pt x="20206" y="1400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6" y="20200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  <a:hlinkClick r:id="rId9"/>
              </a:rPr>
              <a:t>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utoShape 1035"/>
          <p:cNvSpPr/>
          <p:nvPr/>
        </p:nvSpPr>
        <p:spPr>
          <a:xfrm>
            <a:off x="1752480" y="4419720"/>
            <a:ext cx="1219320" cy="121896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20206" y="1400"/>
                </a:lnTo>
                <a:lnTo>
                  <a:pt x="1400" y="1400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20206" y="20200"/>
                </a:lnTo>
                <a:lnTo>
                  <a:pt x="20206" y="1400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6" y="20200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  <a:hlinkClick r:id="rId10"/>
              </a:rPr>
              <a:t>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AutoShape 1036"/>
          <p:cNvSpPr/>
          <p:nvPr/>
        </p:nvSpPr>
        <p:spPr>
          <a:xfrm>
            <a:off x="3276720" y="4419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  <a:hlinkClick r:id="rId11"/>
              </a:rPr>
              <a:t>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1037"/>
          <p:cNvSpPr/>
          <p:nvPr/>
        </p:nvSpPr>
        <p:spPr>
          <a:xfrm>
            <a:off x="4800600" y="4419720"/>
            <a:ext cx="1219320" cy="121896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20206" y="1400"/>
                </a:lnTo>
                <a:lnTo>
                  <a:pt x="1400" y="1400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20206" y="20200"/>
                </a:lnTo>
                <a:lnTo>
                  <a:pt x="20206" y="1400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6" y="20200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  <a:hlinkClick r:id="rId12"/>
              </a:rPr>
              <a:t>睛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1038"/>
          <p:cNvSpPr/>
          <p:nvPr/>
        </p:nvSpPr>
        <p:spPr>
          <a:xfrm>
            <a:off x="6324480" y="4419720"/>
            <a:ext cx="1219320" cy="121896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20206" y="1400"/>
                </a:lnTo>
                <a:lnTo>
                  <a:pt x="1400" y="1400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20206" y="20200"/>
                </a:lnTo>
                <a:lnTo>
                  <a:pt x="20206" y="1400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6" y="20200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  <a:hlinkClick r:id="rId13"/>
              </a:rPr>
              <a:t>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1040">
            <a:hlinkClick r:id="" action="ppaction://hlinkshowjump?jump=firstslide"/>
          </p:cNvPr>
          <p:cNvSpPr/>
          <p:nvPr/>
        </p:nvSpPr>
        <p:spPr>
          <a:xfrm>
            <a:off x="83059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7301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5456" y="3801"/>
                </a:lnTo>
                <a:lnTo>
                  <a:pt x="5456" y="17814"/>
                </a:lnTo>
                <a:lnTo>
                  <a:pt x="3794" y="17814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 Box 4"/>
          <p:cNvSpPr/>
          <p:nvPr/>
        </p:nvSpPr>
        <p:spPr>
          <a:xfrm>
            <a:off x="2195640" y="1557360"/>
            <a:ext cx="56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5"/>
          <p:cNvSpPr/>
          <p:nvPr/>
        </p:nvSpPr>
        <p:spPr>
          <a:xfrm>
            <a:off x="1476360" y="1413000"/>
            <a:ext cx="62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</a:rPr>
              <a:t>奶奶脱下棉鞋，躺进被窝，说：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</a:rPr>
              <a:t>这辈子真暖和。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</a:rPr>
              <a:t>她舒服地合上了眼睛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Text Box 5"/>
          <p:cNvSpPr/>
          <p:nvPr/>
        </p:nvSpPr>
        <p:spPr>
          <a:xfrm>
            <a:off x="804960" y="14778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奶奶睡着了。小峰想：奶奶的棉鞋里也有棉花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6"/>
          <p:cNvSpPr/>
          <p:nvPr/>
        </p:nvSpPr>
        <p:spPr>
          <a:xfrm>
            <a:off x="324000" y="3284640"/>
            <a:ext cx="8353440" cy="764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</a:rPr>
              <a:t>小峰想：奶奶的棉鞋里也有棉花。那么，我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黑体"/>
              </a:rPr>
              <a:t>____________</a:t>
            </a:r>
            <a:r>
              <a:rPr b="1" lang="en-US" sz="4400" spc="-1" strike="noStrike">
                <a:solidFill>
                  <a:srgbClr val="ff0066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Text Box 5"/>
          <p:cNvSpPr/>
          <p:nvPr/>
        </p:nvSpPr>
        <p:spPr>
          <a:xfrm>
            <a:off x="415800" y="765000"/>
            <a:ext cx="7993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</a:rPr>
              <a:t>奶奶睡着了。小峰想：奶奶的棉鞋里也有棉花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</a:rPr>
              <a:t>于是，他轻轻地把奶奶的棉鞋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</a:rPr>
              <a:t>摆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</a:rPr>
              <a:t>在阳光晒到的地方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Text Box 4"/>
          <p:cNvSpPr/>
          <p:nvPr/>
        </p:nvSpPr>
        <p:spPr>
          <a:xfrm>
            <a:off x="2050920" y="1557360"/>
            <a:ext cx="518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小峰真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_________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4"/>
          <p:cNvSpPr/>
          <p:nvPr/>
        </p:nvSpPr>
        <p:spPr>
          <a:xfrm>
            <a:off x="826920" y="169920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奶奶醒了，小峰把棉鞋放回床前。奶奶起床了把脚伸进棉鞋里，奇怪地问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咦，棉鞋怎么这么暖和？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小峰笑了笑，说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奶奶，棉鞋里有好多阳光呢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2"/>
          <p:cNvSpPr/>
          <p:nvPr/>
        </p:nvSpPr>
        <p:spPr>
          <a:xfrm>
            <a:off x="831960" y="1627200"/>
            <a:ext cx="72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奶奶醒了，小峰把棉鞋放回床前。奶奶起床了把脚伸进棉鞋里，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</a:rPr>
              <a:t>奇怪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地问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咦，棉鞋怎么这么暖和？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小峰笑了笑，说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奶奶，棉鞋里有好多阳光呢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2"/>
          <p:cNvSpPr/>
          <p:nvPr/>
        </p:nvSpPr>
        <p:spPr>
          <a:xfrm>
            <a:off x="2438280" y="762120"/>
            <a:ext cx="487692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连一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晒           拖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摆           棉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放           被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钻           音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3429000" y="2133720"/>
            <a:ext cx="1981080" cy="1143000"/>
            <a:chOff x="3429000" y="2133720"/>
            <a:chExt cx="1981080" cy="1143000"/>
          </a:xfrm>
        </p:grpSpPr>
        <p:sp>
          <p:nvSpPr>
            <p:cNvPr id="1097" name="Line 3"/>
            <p:cNvSpPr/>
            <p:nvPr/>
          </p:nvSpPr>
          <p:spPr>
            <a:xfrm>
              <a:off x="3429000" y="2133720"/>
              <a:ext cx="1981080" cy="1143000"/>
            </a:xfrm>
            <a:prstGeom prst="line">
              <a:avLst/>
            </a:prstGeom>
            <a:ln cap="sq"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 txBox="1"/>
            <p:nvPr/>
          </p:nvSpPr>
          <p:spPr>
            <a:xfrm>
              <a:off x="3429000" y="2133720"/>
              <a:ext cx="198108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3352680" y="2133360"/>
            <a:ext cx="1981440" cy="1066680"/>
            <a:chOff x="3352680" y="2133360"/>
            <a:chExt cx="1981440" cy="1066680"/>
          </a:xfrm>
        </p:grpSpPr>
        <p:sp>
          <p:nvSpPr>
            <p:cNvPr id="1100" name="Line 4"/>
            <p:cNvSpPr/>
            <p:nvPr/>
          </p:nvSpPr>
          <p:spPr>
            <a:xfrm flipV="1">
              <a:off x="3352680" y="2133360"/>
              <a:ext cx="1981440" cy="1066680"/>
            </a:xfrm>
            <a:prstGeom prst="line">
              <a:avLst/>
            </a:prstGeom>
            <a:ln cap="sq"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 txBox="1"/>
            <p:nvPr/>
          </p:nvSpPr>
          <p:spPr>
            <a:xfrm rot="10800000">
              <a:off x="3352680" y="2133360"/>
              <a:ext cx="198144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3352680" y="4343400"/>
            <a:ext cx="1981440" cy="1143000"/>
            <a:chOff x="3352680" y="4343400"/>
            <a:chExt cx="1981440" cy="1143000"/>
          </a:xfrm>
        </p:grpSpPr>
        <p:sp>
          <p:nvSpPr>
            <p:cNvPr id="1103" name="Line 5"/>
            <p:cNvSpPr/>
            <p:nvPr/>
          </p:nvSpPr>
          <p:spPr>
            <a:xfrm>
              <a:off x="3352680" y="4343400"/>
              <a:ext cx="1981440" cy="1143000"/>
            </a:xfrm>
            <a:prstGeom prst="line">
              <a:avLst/>
            </a:prstGeom>
            <a:ln cap="sq"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 txBox="1"/>
            <p:nvPr/>
          </p:nvSpPr>
          <p:spPr>
            <a:xfrm>
              <a:off x="3352680" y="4343400"/>
              <a:ext cx="198144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3352680" y="4419360"/>
            <a:ext cx="1981440" cy="1066680"/>
            <a:chOff x="3352680" y="4419360"/>
            <a:chExt cx="1981440" cy="1066680"/>
          </a:xfrm>
        </p:grpSpPr>
        <p:sp>
          <p:nvSpPr>
            <p:cNvPr id="1106" name="Line 6"/>
            <p:cNvSpPr/>
            <p:nvPr/>
          </p:nvSpPr>
          <p:spPr>
            <a:xfrm flipV="1">
              <a:off x="3352680" y="4419360"/>
              <a:ext cx="1981440" cy="1066680"/>
            </a:xfrm>
            <a:prstGeom prst="line">
              <a:avLst/>
            </a:prstGeom>
            <a:ln cap="sq"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 txBox="1"/>
            <p:nvPr/>
          </p:nvSpPr>
          <p:spPr>
            <a:xfrm rot="10800000">
              <a:off x="3352680" y="4419360"/>
              <a:ext cx="198144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AutoShape 7">
            <a:hlinkClick r:id="" action="ppaction://hlinkshowjump?jump=firstslide"/>
          </p:cNvPr>
          <p:cNvSpPr/>
          <p:nvPr/>
        </p:nvSpPr>
        <p:spPr>
          <a:xfrm>
            <a:off x="7391520" y="6019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文本框 1"/>
          <p:cNvSpPr/>
          <p:nvPr/>
        </p:nvSpPr>
        <p:spPr>
          <a:xfrm>
            <a:off x="1266480" y="6237360"/>
            <a:ext cx="3894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2000" spc="-1" strike="noStrike" u="sng">
                <a:solidFill>
                  <a:srgbClr val="0080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 Box 2"/>
          <p:cNvSpPr/>
          <p:nvPr/>
        </p:nvSpPr>
        <p:spPr>
          <a:xfrm>
            <a:off x="1523880" y="762120"/>
            <a:ext cx="678204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连一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轻轻地           棉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暖和的           摆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慢慢地           成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快乐地           合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4038480" y="2133720"/>
            <a:ext cx="1981440" cy="1143000"/>
            <a:chOff x="4038480" y="2133720"/>
            <a:chExt cx="1981440" cy="1143000"/>
          </a:xfrm>
        </p:grpSpPr>
        <p:sp>
          <p:nvSpPr>
            <p:cNvPr id="1112" name="Line 3"/>
            <p:cNvSpPr/>
            <p:nvPr/>
          </p:nvSpPr>
          <p:spPr>
            <a:xfrm>
              <a:off x="4038480" y="2133720"/>
              <a:ext cx="1981440" cy="1143000"/>
            </a:xfrm>
            <a:prstGeom prst="line">
              <a:avLst/>
            </a:prstGeom>
            <a:ln cap="sq"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 txBox="1"/>
            <p:nvPr/>
          </p:nvSpPr>
          <p:spPr>
            <a:xfrm>
              <a:off x="4038480" y="2133720"/>
              <a:ext cx="198144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3962160" y="2209680"/>
            <a:ext cx="1981440" cy="1067040"/>
            <a:chOff x="3962160" y="2209680"/>
            <a:chExt cx="1981440" cy="1067040"/>
          </a:xfrm>
        </p:grpSpPr>
        <p:sp>
          <p:nvSpPr>
            <p:cNvPr id="1115" name="Line 4"/>
            <p:cNvSpPr/>
            <p:nvPr/>
          </p:nvSpPr>
          <p:spPr>
            <a:xfrm flipV="1">
              <a:off x="3962520" y="2209680"/>
              <a:ext cx="1981080" cy="1067040"/>
            </a:xfrm>
            <a:prstGeom prst="line">
              <a:avLst/>
            </a:prstGeom>
            <a:ln cap="sq"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 txBox="1"/>
            <p:nvPr/>
          </p:nvSpPr>
          <p:spPr>
            <a:xfrm rot="10800000">
              <a:off x="3962160" y="2209680"/>
              <a:ext cx="198108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038480" y="4343400"/>
            <a:ext cx="1981440" cy="1143000"/>
            <a:chOff x="4038480" y="4343400"/>
            <a:chExt cx="1981440" cy="1143000"/>
          </a:xfrm>
        </p:grpSpPr>
        <p:sp>
          <p:nvSpPr>
            <p:cNvPr id="1118" name="Line 5"/>
            <p:cNvSpPr/>
            <p:nvPr/>
          </p:nvSpPr>
          <p:spPr>
            <a:xfrm>
              <a:off x="4038480" y="4343400"/>
              <a:ext cx="1981440" cy="1143000"/>
            </a:xfrm>
            <a:prstGeom prst="line">
              <a:avLst/>
            </a:prstGeom>
            <a:ln cap="sq"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 txBox="1"/>
            <p:nvPr/>
          </p:nvSpPr>
          <p:spPr>
            <a:xfrm>
              <a:off x="4038480" y="4343400"/>
              <a:ext cx="198144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4038480" y="4419360"/>
            <a:ext cx="1981440" cy="1066680"/>
            <a:chOff x="4038480" y="4419360"/>
            <a:chExt cx="1981440" cy="1066680"/>
          </a:xfrm>
        </p:grpSpPr>
        <p:sp>
          <p:nvSpPr>
            <p:cNvPr id="1121" name="Line 6"/>
            <p:cNvSpPr/>
            <p:nvPr/>
          </p:nvSpPr>
          <p:spPr>
            <a:xfrm flipV="1">
              <a:off x="4038480" y="4419360"/>
              <a:ext cx="1981440" cy="1066680"/>
            </a:xfrm>
            <a:prstGeom prst="line">
              <a:avLst/>
            </a:prstGeom>
            <a:ln cap="sq"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 txBox="1"/>
            <p:nvPr/>
          </p:nvSpPr>
          <p:spPr>
            <a:xfrm rot="10800000">
              <a:off x="4038480" y="4419360"/>
              <a:ext cx="198144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AutoShape 7">
            <a:hlinkClick r:id="" action="ppaction://hlinkshowjump?jump=firstslide"/>
          </p:cNvPr>
          <p:cNvSpPr/>
          <p:nvPr/>
        </p:nvSpPr>
        <p:spPr>
          <a:xfrm>
            <a:off x="7391520" y="6019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AutoShape 2">
            <a:hlinkClick r:id="" action="ppaction://hlinkshowjump?jump=firstslide"/>
          </p:cNvPr>
          <p:cNvSpPr/>
          <p:nvPr/>
        </p:nvSpPr>
        <p:spPr>
          <a:xfrm>
            <a:off x="7391520" y="6019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5" name=""/>
          <p:cNvGraphicFramePr/>
          <p:nvPr/>
        </p:nvGraphicFramePr>
        <p:xfrm>
          <a:off x="2038320" y="2189160"/>
          <a:ext cx="3024360" cy="3024360"/>
        </p:xfrm>
        <a:graphic>
          <a:graphicData uri="http://schemas.openxmlformats.org/drawingml/2006/table">
            <a:tbl>
              <a:tblPr/>
              <a:tblGrid>
                <a:gridCol w="1512720"/>
                <a:gridCol w="151164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6" name=""/>
          <p:cNvGraphicFramePr/>
          <p:nvPr/>
        </p:nvGraphicFramePr>
        <p:xfrm>
          <a:off x="5292720" y="2189160"/>
          <a:ext cx="3024360" cy="3024360"/>
        </p:xfrm>
        <a:graphic>
          <a:graphicData uri="http://schemas.openxmlformats.org/drawingml/2006/table">
            <a:tbl>
              <a:tblPr/>
              <a:tblGrid>
                <a:gridCol w="1512720"/>
                <a:gridCol w="151164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7" name="Text Box 25"/>
          <p:cNvSpPr/>
          <p:nvPr/>
        </p:nvSpPr>
        <p:spPr>
          <a:xfrm>
            <a:off x="2197080" y="2117880"/>
            <a:ext cx="3166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996600"/>
                </a:solidFill>
                <a:latin typeface="Arial"/>
                <a:ea typeface="楷体_GB2312"/>
              </a:rPr>
              <a:t>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26"/>
          <p:cNvSpPr/>
          <p:nvPr/>
        </p:nvSpPr>
        <p:spPr>
          <a:xfrm>
            <a:off x="5508720" y="2117880"/>
            <a:ext cx="3025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996600"/>
                </a:solidFill>
                <a:latin typeface="Arial"/>
                <a:ea typeface="楷体_GB2312"/>
              </a:rPr>
              <a:t>奶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AutoShape 2">
            <a:hlinkClick r:id="" action="ppaction://hlinkshowjump?jump=firstslide"/>
          </p:cNvPr>
          <p:cNvSpPr/>
          <p:nvPr/>
        </p:nvSpPr>
        <p:spPr>
          <a:xfrm>
            <a:off x="7391520" y="6019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0" name=""/>
          <p:cNvGraphicFramePr/>
          <p:nvPr/>
        </p:nvGraphicFramePr>
        <p:xfrm>
          <a:off x="2038320" y="2189160"/>
          <a:ext cx="3024360" cy="3024360"/>
        </p:xfrm>
        <a:graphic>
          <a:graphicData uri="http://schemas.openxmlformats.org/drawingml/2006/table">
            <a:tbl>
              <a:tblPr/>
              <a:tblGrid>
                <a:gridCol w="1512720"/>
                <a:gridCol w="151164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1" name=""/>
          <p:cNvGraphicFramePr/>
          <p:nvPr/>
        </p:nvGraphicFramePr>
        <p:xfrm>
          <a:off x="5292720" y="2189160"/>
          <a:ext cx="3024360" cy="3024360"/>
        </p:xfrm>
        <a:graphic>
          <a:graphicData uri="http://schemas.openxmlformats.org/drawingml/2006/table">
            <a:tbl>
              <a:tblPr/>
              <a:tblGrid>
                <a:gridCol w="1512720"/>
                <a:gridCol w="151164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2" name="Text Box 25"/>
          <p:cNvSpPr/>
          <p:nvPr/>
        </p:nvSpPr>
        <p:spPr>
          <a:xfrm>
            <a:off x="2197080" y="2117880"/>
            <a:ext cx="3166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996600"/>
                </a:solidFill>
                <a:latin typeface="Arial"/>
                <a:ea typeface="楷体_GB2312"/>
              </a:rPr>
              <a:t>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6"/>
          <p:cNvSpPr/>
          <p:nvPr/>
        </p:nvSpPr>
        <p:spPr>
          <a:xfrm>
            <a:off x="5508720" y="2117880"/>
            <a:ext cx="3025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996600"/>
                </a:solidFill>
                <a:latin typeface="Arial"/>
                <a:ea typeface="楷体_GB2312"/>
              </a:rPr>
              <a:t>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AutoShape 15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16"/>
          <p:cNvSpPr/>
          <p:nvPr/>
        </p:nvSpPr>
        <p:spPr>
          <a:xfrm>
            <a:off x="3025800" y="1828800"/>
            <a:ext cx="3409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宋体"/>
              </a:rPr>
              <a:t>棉鞋  棉花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宋体"/>
              </a:rPr>
              <a:t>棉衣  棉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B57C-39DA-4F2D-BFC2-498EF944B7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AutoShape 2">
            <a:hlinkClick r:id="" action="ppaction://hlinkshowjump?jump=firstslide"/>
          </p:cNvPr>
          <p:cNvSpPr/>
          <p:nvPr/>
        </p:nvSpPr>
        <p:spPr>
          <a:xfrm>
            <a:off x="7391520" y="6019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2038320" y="2189160"/>
          <a:ext cx="3024360" cy="3024360"/>
        </p:xfrm>
        <a:graphic>
          <a:graphicData uri="http://schemas.openxmlformats.org/drawingml/2006/table">
            <a:tbl>
              <a:tblPr/>
              <a:tblGrid>
                <a:gridCol w="1512720"/>
                <a:gridCol w="151164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0" name=""/>
          <p:cNvGraphicFramePr/>
          <p:nvPr/>
        </p:nvGraphicFramePr>
        <p:xfrm>
          <a:off x="5292720" y="2189160"/>
          <a:ext cx="3024360" cy="3024360"/>
        </p:xfrm>
        <a:graphic>
          <a:graphicData uri="http://schemas.openxmlformats.org/drawingml/2006/table">
            <a:tbl>
              <a:tblPr/>
              <a:tblGrid>
                <a:gridCol w="1512720"/>
                <a:gridCol w="151164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1" name="Text Box 25"/>
          <p:cNvSpPr/>
          <p:nvPr/>
        </p:nvSpPr>
        <p:spPr>
          <a:xfrm>
            <a:off x="2197080" y="2117880"/>
            <a:ext cx="3166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996600"/>
                </a:solidFill>
                <a:latin typeface="Arial"/>
                <a:ea typeface="楷体_GB2312"/>
              </a:rPr>
              <a:t>放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26"/>
          <p:cNvSpPr/>
          <p:nvPr/>
        </p:nvSpPr>
        <p:spPr>
          <a:xfrm>
            <a:off x="5508720" y="2117880"/>
            <a:ext cx="3025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996600"/>
                </a:solidFill>
                <a:latin typeface="Arial"/>
                <a:ea typeface="楷体_GB2312"/>
              </a:rPr>
              <a:t>收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AutoShape 2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"/>
          <p:cNvSpPr/>
          <p:nvPr/>
        </p:nvSpPr>
        <p:spPr>
          <a:xfrm>
            <a:off x="2286000" y="182880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宋体"/>
              </a:rPr>
              <a:t>照射  照顾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宋体"/>
              </a:rPr>
              <a:t>对照  关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AutoShape 2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Rectangle 3"/>
          <p:cNvSpPr/>
          <p:nvPr/>
        </p:nvSpPr>
        <p:spPr>
          <a:xfrm>
            <a:off x="2694600" y="1752480"/>
            <a:ext cx="428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宋体"/>
              </a:rPr>
              <a:t>晒干  晒衣服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宋体"/>
              </a:rPr>
              <a:t>晒太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AutoShape 2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3030480" y="18288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宋体"/>
              </a:rPr>
              <a:t>棉被  被单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宋体"/>
              </a:rPr>
              <a:t>羊毛被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AutoShape 2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3"/>
          <p:cNvSpPr/>
          <p:nvPr/>
        </p:nvSpPr>
        <p:spPr>
          <a:xfrm>
            <a:off x="3030480" y="18288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宋体"/>
              </a:rPr>
              <a:t>盖紧  盖章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宋体"/>
              </a:rPr>
              <a:t>盖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AutoShape 2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3"/>
          <p:cNvSpPr/>
          <p:nvPr/>
        </p:nvSpPr>
        <p:spPr>
          <a:xfrm>
            <a:off x="3030480" y="18288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宋体"/>
              </a:rPr>
              <a:t>中午  午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宋体"/>
              </a:rPr>
              <a:t>午休  午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AutoShape 1026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1027"/>
          <p:cNvSpPr/>
          <p:nvPr/>
        </p:nvSpPr>
        <p:spPr>
          <a:xfrm>
            <a:off x="3030480" y="18288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宋体"/>
              </a:rPr>
              <a:t>收获  丰收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宋体"/>
              </a:rPr>
              <a:t>收齐  收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文本框 1"/>
          <p:cNvSpPr/>
          <p:nvPr/>
        </p:nvSpPr>
        <p:spPr>
          <a:xfrm>
            <a:off x="1121760" y="4869000"/>
            <a:ext cx="3894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2000" spc="-1" strike="noStrike" u="sng">
                <a:solidFill>
                  <a:srgbClr val="0080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5:25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14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