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7.jpeg" ContentType="image/jpeg"/>
  <Override PartName="/ppt/media/image8.jpeg" ContentType="image/jpeg"/>
  <Override PartName="/ppt/media/image13.jpeg" ContentType="image/jpeg"/>
  <Override PartName="/ppt/media/image9.gif" ContentType="image/gif"/>
  <Override PartName="/ppt/media/image11.gif" ContentType="image/gif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E9A-C70F-4457-B866-87801B55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22B-CB65-4D46-A60F-E5FAF7E0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2AC-7798-47E1-846E-0206D01D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2FB-1736-48E9-B8B7-0ABA3DAD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5D80-08FF-42B0-9110-980A09DE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8C82-08D6-4B44-BD1D-582A6CB0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8A1B-48DE-475C-A29F-16DDB31E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E174-E507-4312-B7F8-3CE42B01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1B66-4B2D-4EEC-B0FE-A48F789D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F089-0A57-43D5-B9E3-FB82DF88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47C3-24D1-47E7-977C-193062E3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FAD-4819-49B0-B09F-8877A4A8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5802-4F2E-459F-8025-FC143742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C40A-1F8F-4144-A85F-354885C9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5D2D-C16F-4BE2-ACC2-FB5A2B26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BF1C-1F2E-4D68-BFC0-2F4DC085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B6AD-8992-4855-9F12-203C14A6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C08B-1E4E-4CD8-A835-E515F435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1891-7497-4CC3-A186-A36703BC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4F3A-FAB8-4AB5-9EAC-AA421300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2696E-1EE5-42F0-8694-9316B50A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1F87-834D-4F40-A0CE-D7265ED2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78E-2B85-44B3-B93A-C8514204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6291-7D07-4AE8-AD64-D3680D50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C453-E777-4B4A-A33F-37DE91B5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EB1B-524D-406A-951B-8754781D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3881-A29A-4BC4-8AE7-E49758E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C7D1-AAA0-4E29-A924-4E645E10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F05B-3053-4BAD-ADE6-E6CB377B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4C9B-83D6-4ACC-83D7-FE9957C5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DBC-117F-4A67-B80A-DBA93EC1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17D-7FFD-4D0C-A106-CEEC47FF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86D-06AC-4830-8F3D-F6BE24DF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557-FB2B-408A-9DD8-8DE20DAF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44E-0B5C-42D6-9102-0C413EFC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C89-8882-4145-96A9-DCFD5393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7482-CD76-402B-AD0B-51395974D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BCB1-A44E-43BF-94B5-6A37EEBE8AA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9908-0BEE-447D-8DF8-0868D0E7A0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261C-34AC-49F5-A08E-EAC7563E580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4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2.png"/><Relationship Id="rId20" Type="http://schemas.openxmlformats.org/officeDocument/2006/relationships/image" Target="../media/image4.gif"/><Relationship Id="rId21" Type="http://schemas.openxmlformats.org/officeDocument/2006/relationships/image" Target="../media/image9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10.gif"/><Relationship Id="rId44" Type="http://schemas.openxmlformats.org/officeDocument/2006/relationships/image" Target="../media/image10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风景1"/>
          <p:cNvPicPr/>
          <p:nvPr/>
        </p:nvPicPr>
        <p:blipFill>
          <a:blip r:embed="rId1"/>
          <a:srcRect l="0" t="0" r="0" b="10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6"/>
          <p:cNvSpPr txBox="1"/>
          <p:nvPr/>
        </p:nvSpPr>
        <p:spPr>
          <a:xfrm>
            <a:off x="1692360" y="1190520"/>
            <a:ext cx="52560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solidFill>
                  <a:srgbClr val="ffff00">
                    <a:alpha val="72000"/>
                  </a:srgbClr>
                </a:solidFill>
                <a:latin typeface="华文隶书"/>
              </a:rPr>
              <a:t>鸟的天堂语文</a:t>
            </a:r>
            <a:r>
              <a:rPr b="1" lang="en-US" sz="1800" spc="1" strike="noStrike">
                <a:ln w="25560">
                  <a:solidFill>
                    <a:srgbClr val="ff0000"/>
                  </a:solidFill>
                  <a:round/>
                </a:ln>
                <a:solidFill>
                  <a:srgbClr val="ffff00">
                    <a:alpha val="72000"/>
                  </a:srgbClr>
                </a:solidFill>
                <a:latin typeface="华文隶书"/>
              </a:rPr>
              <a:t>PPT</a:t>
            </a: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solidFill>
                  <a:srgbClr val="ffff00">
                    <a:alpha val="72000"/>
                  </a:srgbClr>
                </a:solidFill>
                <a:latin typeface="华文隶书"/>
              </a:rPr>
              <a:t>课件模板下载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solidFill>
                <a:srgbClr val="ffff00">
                  <a:alpha val="72000"/>
                </a:srgbClr>
              </a:solidFill>
              <a:latin typeface="华文隶书"/>
              <a:ea typeface="华文隶书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236560" y="302256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说 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Picture 10" descr="A3_048"/>
          <p:cNvPicPr/>
          <p:nvPr/>
        </p:nvPicPr>
        <p:blipFill>
          <a:blip r:embed="rId2"/>
          <a:stretch/>
        </p:blipFill>
        <p:spPr>
          <a:xfrm>
            <a:off x="324000" y="692280"/>
            <a:ext cx="142848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A3_106"/>
          <p:cNvPicPr/>
          <p:nvPr/>
        </p:nvPicPr>
        <p:blipFill>
          <a:blip r:embed="rId3"/>
          <a:stretch/>
        </p:blipFill>
        <p:spPr>
          <a:xfrm>
            <a:off x="5508720" y="2060640"/>
            <a:ext cx="696960" cy="54936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96720" y="789120"/>
            <a:ext cx="835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一） 创设情境，导入新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一开课就播放“群鸟齐鸣”的声音，问：听一听，你想到了什么？以此激起学生学习的兴趣，为学生的情感做一个铺垫。随后板题、齐读课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释题：理解“天堂”（幸福、美好的生活环境）“鸟的天堂”（小鸟的乐园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质疑：“鸟的天堂”指什么？为什么叫“鸟的天堂”？通过质疑，激活学生的思维，激发学生的兴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24000" y="150876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（二）整体感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在学生质疑的基础上，让学生通过自读，整体感知课文，初知大意，同时着重思考以下问题：作者几次去鸟的天堂，分别是在什么时候，每次看到了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另外还有个要求：把课文读通读顺，注意发音，难写的字要留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95280" y="1877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（ 三）自主学习，谈感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在学生整体感知后，再一次进行自主阅读，要求：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、找出自己认为优美的句子，各抒己见；或者说说你喜欢哪一次经过“鸟的天堂”？并说说原因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、读一读，试着读出感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6730920" y="641520"/>
            <a:ext cx="1297080" cy="2104920"/>
          </a:xfrm>
          <a:prstGeom prst="rect">
            <a:avLst/>
          </a:prstGeom>
          <a:solidFill>
            <a:srgbClr val="ccff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幼圆"/>
              </a:rPr>
              <a:t>这美丽的南国的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Picture 6" descr="《鸟的天堂》插图1"/>
          <p:cNvPicPr/>
          <p:nvPr/>
        </p:nvPicPr>
        <p:blipFill>
          <a:blip r:embed="rId1"/>
          <a:stretch/>
        </p:blipFill>
        <p:spPr>
          <a:xfrm>
            <a:off x="71280" y="549360"/>
            <a:ext cx="5508720" cy="57592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0" descr="chatu2"/>
          <p:cNvPicPr/>
          <p:nvPr/>
        </p:nvPicPr>
        <p:blipFill>
          <a:blip r:embed="rId1"/>
          <a:stretch/>
        </p:blipFill>
        <p:spPr>
          <a:xfrm>
            <a:off x="0" y="0"/>
            <a:ext cx="9372600" cy="7467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A3_080"/>
          <p:cNvPicPr/>
          <p:nvPr/>
        </p:nvPicPr>
        <p:blipFill>
          <a:blip r:embed="rId2"/>
          <a:stretch/>
        </p:blipFill>
        <p:spPr>
          <a:xfrm>
            <a:off x="5332320" y="1967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A3_080"/>
          <p:cNvPicPr/>
          <p:nvPr/>
        </p:nvPicPr>
        <p:blipFill>
          <a:blip r:embed="rId3"/>
          <a:stretch/>
        </p:blipFill>
        <p:spPr>
          <a:xfrm>
            <a:off x="4265640" y="12049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A3_080"/>
          <p:cNvPicPr/>
          <p:nvPr/>
        </p:nvPicPr>
        <p:blipFill>
          <a:blip r:embed="rId4"/>
          <a:stretch/>
        </p:blipFill>
        <p:spPr>
          <a:xfrm>
            <a:off x="6804000" y="3141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A3_080"/>
          <p:cNvPicPr/>
          <p:nvPr/>
        </p:nvPicPr>
        <p:blipFill>
          <a:blip r:embed="rId5"/>
          <a:stretch/>
        </p:blipFill>
        <p:spPr>
          <a:xfrm>
            <a:off x="4113360" y="204300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A3_080"/>
          <p:cNvPicPr/>
          <p:nvPr/>
        </p:nvPicPr>
        <p:blipFill>
          <a:blip r:embed="rId6"/>
          <a:stretch/>
        </p:blipFill>
        <p:spPr>
          <a:xfrm>
            <a:off x="2894040" y="342432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A3_080"/>
          <p:cNvPicPr/>
          <p:nvPr/>
        </p:nvPicPr>
        <p:blipFill>
          <a:blip r:embed="rId7"/>
          <a:stretch/>
        </p:blipFill>
        <p:spPr>
          <a:xfrm>
            <a:off x="1979640" y="3141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A3_080"/>
          <p:cNvPicPr/>
          <p:nvPr/>
        </p:nvPicPr>
        <p:blipFill>
          <a:blip r:embed="rId8"/>
          <a:stretch/>
        </p:blipFill>
        <p:spPr>
          <a:xfrm>
            <a:off x="6170760" y="3033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A3_080"/>
          <p:cNvPicPr/>
          <p:nvPr/>
        </p:nvPicPr>
        <p:blipFill>
          <a:blip r:embed="rId9"/>
          <a:stretch/>
        </p:blipFill>
        <p:spPr>
          <a:xfrm>
            <a:off x="7020000" y="3789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2" descr="A3_080"/>
          <p:cNvPicPr/>
          <p:nvPr/>
        </p:nvPicPr>
        <p:blipFill>
          <a:blip r:embed="rId10"/>
          <a:stretch/>
        </p:blipFill>
        <p:spPr>
          <a:xfrm>
            <a:off x="5332320" y="507204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3" descr="A3_048"/>
          <p:cNvPicPr/>
          <p:nvPr/>
        </p:nvPicPr>
        <p:blipFill>
          <a:blip r:embed="rId11"/>
          <a:stretch/>
        </p:blipFill>
        <p:spPr>
          <a:xfrm>
            <a:off x="7236000" y="4581360"/>
            <a:ext cx="733320" cy="352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A3_069"/>
          <p:cNvPicPr/>
          <p:nvPr/>
        </p:nvPicPr>
        <p:blipFill>
          <a:blip r:embed="rId12"/>
          <a:stretch/>
        </p:blipFill>
        <p:spPr>
          <a:xfrm>
            <a:off x="4500720" y="105264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A3_069"/>
          <p:cNvPicPr/>
          <p:nvPr/>
        </p:nvPicPr>
        <p:blipFill>
          <a:blip r:embed="rId13"/>
          <a:stretch/>
        </p:blipFill>
        <p:spPr>
          <a:xfrm>
            <a:off x="5048280" y="191124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8" descr="A3_069"/>
          <p:cNvPicPr/>
          <p:nvPr/>
        </p:nvPicPr>
        <p:blipFill>
          <a:blip r:embed="rId14"/>
          <a:stretch/>
        </p:blipFill>
        <p:spPr>
          <a:xfrm>
            <a:off x="6475320" y="18144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9" descr="A3_069"/>
          <p:cNvPicPr/>
          <p:nvPr/>
        </p:nvPicPr>
        <p:blipFill>
          <a:blip r:embed="rId15"/>
          <a:stretch/>
        </p:blipFill>
        <p:spPr>
          <a:xfrm>
            <a:off x="2297160" y="2513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1" descr="A3_069"/>
          <p:cNvPicPr/>
          <p:nvPr/>
        </p:nvPicPr>
        <p:blipFill>
          <a:blip r:embed="rId16"/>
          <a:stretch/>
        </p:blipFill>
        <p:spPr>
          <a:xfrm>
            <a:off x="6084720" y="77004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2" descr="A3_023"/>
          <p:cNvPicPr/>
          <p:nvPr/>
        </p:nvPicPr>
        <p:blipFill>
          <a:blip r:embed="rId17"/>
          <a:stretch/>
        </p:blipFill>
        <p:spPr>
          <a:xfrm>
            <a:off x="4113360" y="1890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3" descr="A3_023"/>
          <p:cNvPicPr/>
          <p:nvPr/>
        </p:nvPicPr>
        <p:blipFill>
          <a:blip r:embed="rId18"/>
          <a:stretch/>
        </p:blipFill>
        <p:spPr>
          <a:xfrm>
            <a:off x="5508720" y="1341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7" name="鸟叫声289.wav" descr=""/>
          <p:cNvPicPr/>
          <p:nvPr/>
        </p:nvPicPr>
        <p:blipFill>
          <a:blip r:embed="rId19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6" descr="A3_048"/>
          <p:cNvPicPr/>
          <p:nvPr/>
        </p:nvPicPr>
        <p:blipFill>
          <a:blip r:embed="rId20"/>
          <a:stretch/>
        </p:blipFill>
        <p:spPr>
          <a:xfrm>
            <a:off x="7164360" y="508464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8" descr="A3_080"/>
          <p:cNvPicPr/>
          <p:nvPr/>
        </p:nvPicPr>
        <p:blipFill>
          <a:blip r:embed="rId21"/>
          <a:stretch/>
        </p:blipFill>
        <p:spPr>
          <a:xfrm>
            <a:off x="5435640" y="44460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9" descr="A3_106"/>
          <p:cNvPicPr/>
          <p:nvPr/>
        </p:nvPicPr>
        <p:blipFill>
          <a:blip r:embed="rId22"/>
          <a:stretch/>
        </p:blipFill>
        <p:spPr>
          <a:xfrm>
            <a:off x="3198960" y="2271600"/>
            <a:ext cx="696600" cy="54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1" descr="A3_106"/>
          <p:cNvPicPr/>
          <p:nvPr/>
        </p:nvPicPr>
        <p:blipFill>
          <a:blip r:embed="rId23"/>
          <a:stretch/>
        </p:blipFill>
        <p:spPr>
          <a:xfrm>
            <a:off x="7667640" y="299736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3" descr="A3_106"/>
          <p:cNvPicPr/>
          <p:nvPr/>
        </p:nvPicPr>
        <p:blipFill>
          <a:blip r:embed="rId24"/>
          <a:stretch/>
        </p:blipFill>
        <p:spPr>
          <a:xfrm>
            <a:off x="7380360" y="7650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4" descr="A3_106"/>
          <p:cNvPicPr/>
          <p:nvPr/>
        </p:nvPicPr>
        <p:blipFill>
          <a:blip r:embed="rId25"/>
          <a:stretch/>
        </p:blipFill>
        <p:spPr>
          <a:xfrm>
            <a:off x="2589120" y="135720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6" descr="A3_048"/>
          <p:cNvPicPr/>
          <p:nvPr/>
        </p:nvPicPr>
        <p:blipFill>
          <a:blip r:embed="rId26"/>
          <a:stretch/>
        </p:blipFill>
        <p:spPr>
          <a:xfrm>
            <a:off x="7715160" y="184464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7" descr="A3_048"/>
          <p:cNvPicPr/>
          <p:nvPr/>
        </p:nvPicPr>
        <p:blipFill>
          <a:blip r:embed="rId27"/>
          <a:stretch/>
        </p:blipFill>
        <p:spPr>
          <a:xfrm>
            <a:off x="8101080" y="476280"/>
            <a:ext cx="647640" cy="311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8" descr="A3_106"/>
          <p:cNvPicPr/>
          <p:nvPr/>
        </p:nvPicPr>
        <p:blipFill>
          <a:blip r:embed="rId28"/>
          <a:stretch/>
        </p:blipFill>
        <p:spPr>
          <a:xfrm>
            <a:off x="5796000" y="1844640"/>
            <a:ext cx="696960" cy="549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9" descr="A3_106"/>
          <p:cNvPicPr/>
          <p:nvPr/>
        </p:nvPicPr>
        <p:blipFill>
          <a:blip r:embed="rId29"/>
          <a:stretch/>
        </p:blipFill>
        <p:spPr>
          <a:xfrm>
            <a:off x="611280" y="3284640"/>
            <a:ext cx="696960" cy="549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1" descr="A3_048"/>
          <p:cNvPicPr/>
          <p:nvPr/>
        </p:nvPicPr>
        <p:blipFill>
          <a:blip r:embed="rId30"/>
          <a:stretch/>
        </p:blipFill>
        <p:spPr>
          <a:xfrm>
            <a:off x="6804000" y="404640"/>
            <a:ext cx="647640" cy="311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2" descr="A3_048"/>
          <p:cNvPicPr/>
          <p:nvPr/>
        </p:nvPicPr>
        <p:blipFill>
          <a:blip r:embed="rId31"/>
          <a:stretch/>
        </p:blipFill>
        <p:spPr>
          <a:xfrm>
            <a:off x="8172360" y="4437000"/>
            <a:ext cx="647640" cy="311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3" descr="A3_048"/>
          <p:cNvPicPr/>
          <p:nvPr/>
        </p:nvPicPr>
        <p:blipFill>
          <a:blip r:embed="rId32"/>
          <a:stretch/>
        </p:blipFill>
        <p:spPr>
          <a:xfrm>
            <a:off x="8496360" y="1125360"/>
            <a:ext cx="647640" cy="311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4" descr="A3_048"/>
          <p:cNvPicPr/>
          <p:nvPr/>
        </p:nvPicPr>
        <p:blipFill>
          <a:blip r:embed="rId33"/>
          <a:stretch/>
        </p:blipFill>
        <p:spPr>
          <a:xfrm>
            <a:off x="6877080" y="1125360"/>
            <a:ext cx="647640" cy="311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5" descr="A3_048"/>
          <p:cNvPicPr/>
          <p:nvPr/>
        </p:nvPicPr>
        <p:blipFill>
          <a:blip r:embed="rId34"/>
          <a:stretch/>
        </p:blipFill>
        <p:spPr>
          <a:xfrm>
            <a:off x="8496360" y="3213000"/>
            <a:ext cx="647640" cy="311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6" descr="A3_080"/>
          <p:cNvPicPr/>
          <p:nvPr/>
        </p:nvPicPr>
        <p:blipFill>
          <a:blip r:embed="rId35"/>
          <a:stretch/>
        </p:blipFill>
        <p:spPr>
          <a:xfrm>
            <a:off x="5724360" y="404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7" descr="A3_080"/>
          <p:cNvPicPr/>
          <p:nvPr/>
        </p:nvPicPr>
        <p:blipFill>
          <a:blip r:embed="rId36"/>
          <a:stretch/>
        </p:blipFill>
        <p:spPr>
          <a:xfrm>
            <a:off x="6084720" y="404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8" descr="A3_080"/>
          <p:cNvPicPr/>
          <p:nvPr/>
        </p:nvPicPr>
        <p:blipFill>
          <a:blip r:embed="rId37"/>
          <a:stretch/>
        </p:blipFill>
        <p:spPr>
          <a:xfrm>
            <a:off x="5724360" y="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9" descr="A3_080"/>
          <p:cNvPicPr/>
          <p:nvPr/>
        </p:nvPicPr>
        <p:blipFill>
          <a:blip r:embed="rId38"/>
          <a:stretch/>
        </p:blipFill>
        <p:spPr>
          <a:xfrm>
            <a:off x="5219640" y="3333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0" descr="A3_080"/>
          <p:cNvPicPr/>
          <p:nvPr/>
        </p:nvPicPr>
        <p:blipFill>
          <a:blip r:embed="rId39"/>
          <a:stretch/>
        </p:blipFill>
        <p:spPr>
          <a:xfrm>
            <a:off x="6443640" y="404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1" descr="A3_080"/>
          <p:cNvPicPr/>
          <p:nvPr/>
        </p:nvPicPr>
        <p:blipFill>
          <a:blip r:embed="rId40"/>
          <a:stretch/>
        </p:blipFill>
        <p:spPr>
          <a:xfrm>
            <a:off x="6732720" y="6206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2" descr="A3_080"/>
          <p:cNvPicPr/>
          <p:nvPr/>
        </p:nvPicPr>
        <p:blipFill>
          <a:blip r:embed="rId41"/>
          <a:stretch/>
        </p:blipFill>
        <p:spPr>
          <a:xfrm>
            <a:off x="6588000" y="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3" descr="A3_080"/>
          <p:cNvPicPr/>
          <p:nvPr/>
        </p:nvPicPr>
        <p:blipFill>
          <a:blip r:embed="rId42"/>
          <a:stretch/>
        </p:blipFill>
        <p:spPr>
          <a:xfrm>
            <a:off x="6156360" y="2602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4" descr="A3_069"/>
          <p:cNvPicPr/>
          <p:nvPr/>
        </p:nvPicPr>
        <p:blipFill>
          <a:blip r:embed="rId43"/>
          <a:stretch/>
        </p:blipFill>
        <p:spPr>
          <a:xfrm>
            <a:off x="4859280" y="1125360"/>
            <a:ext cx="225360" cy="225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5" descr="A3_069"/>
          <p:cNvPicPr/>
          <p:nvPr/>
        </p:nvPicPr>
        <p:blipFill>
          <a:blip r:embed="rId44"/>
          <a:stretch/>
        </p:blipFill>
        <p:spPr>
          <a:xfrm>
            <a:off x="4427640" y="134136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6" descr="A3_080"/>
          <p:cNvPicPr/>
          <p:nvPr/>
        </p:nvPicPr>
        <p:blipFill>
          <a:blip r:embed="rId45"/>
          <a:stretch/>
        </p:blipFill>
        <p:spPr>
          <a:xfrm>
            <a:off x="5867280" y="429264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7" descr="A3_080"/>
          <p:cNvPicPr/>
          <p:nvPr/>
        </p:nvPicPr>
        <p:blipFill>
          <a:blip r:embed="rId46"/>
          <a:stretch/>
        </p:blipFill>
        <p:spPr>
          <a:xfrm>
            <a:off x="6300720" y="35733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8" descr="A3_080"/>
          <p:cNvPicPr/>
          <p:nvPr/>
        </p:nvPicPr>
        <p:blipFill>
          <a:blip r:embed="rId47"/>
          <a:stretch/>
        </p:blipFill>
        <p:spPr>
          <a:xfrm>
            <a:off x="6443640" y="364500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9" descr="A3_080"/>
          <p:cNvPicPr/>
          <p:nvPr/>
        </p:nvPicPr>
        <p:blipFill>
          <a:blip r:embed="rId48"/>
          <a:stretch/>
        </p:blipFill>
        <p:spPr>
          <a:xfrm>
            <a:off x="5724360" y="508464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0" descr="A3_048"/>
          <p:cNvPicPr/>
          <p:nvPr/>
        </p:nvPicPr>
        <p:blipFill>
          <a:blip r:embed="rId49"/>
          <a:stretch/>
        </p:blipFill>
        <p:spPr>
          <a:xfrm>
            <a:off x="0" y="828720"/>
            <a:ext cx="395280" cy="190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1" descr="A3_048"/>
          <p:cNvPicPr/>
          <p:nvPr/>
        </p:nvPicPr>
        <p:blipFill>
          <a:blip r:embed="rId50"/>
          <a:stretch/>
        </p:blipFill>
        <p:spPr>
          <a:xfrm>
            <a:off x="468360" y="620640"/>
            <a:ext cx="395280" cy="190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2" descr="A3_048"/>
          <p:cNvPicPr/>
          <p:nvPr/>
        </p:nvPicPr>
        <p:blipFill>
          <a:blip r:embed="rId51"/>
          <a:stretch/>
        </p:blipFill>
        <p:spPr>
          <a:xfrm>
            <a:off x="2124000" y="3860640"/>
            <a:ext cx="1008000" cy="484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3"/>
          <p:cNvSpPr/>
          <p:nvPr/>
        </p:nvSpPr>
        <p:spPr>
          <a:xfrm>
            <a:off x="2581200" y="6156360"/>
            <a:ext cx="4143240" cy="703440"/>
          </a:xfrm>
          <a:prstGeom prst="rect">
            <a:avLst/>
          </a:prstGeom>
          <a:solidFill>
            <a:srgbClr val="ebf7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鸟的天堂的确是鸟的天堂啊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78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466560" y="18734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（四）自主探究，进行综合性学习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教学中，引导学生去探究，透过表面现象看到实质：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为什么这里会成为鸟的天堂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文本框 8200"/>
          <p:cNvSpPr/>
          <p:nvPr/>
        </p:nvSpPr>
        <p:spPr>
          <a:xfrm>
            <a:off x="1547640" y="69228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95280" y="1913040"/>
            <a:ext cx="8532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拓  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鸟的天堂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一课有一个综合实践作业：“鸟的天堂”目前已成为一处浏览胜地。请你熟读课文内容，并想办法搜集一些有关材料，为导游写一篇简短的解说词。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60360" y="88884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总结巩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树与鸟，鸟与水结合在一起，构成了一幅多么生动活泼的画卷呀！这里不仅有树的奇美，有鸟的欢乐之美，更有人与自然，与动物的和谐之美，所以这里才是真正的天堂。让我们共同努力，去创造更多的人间天堂吧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8101080" y="5661000"/>
            <a:ext cx="431640" cy="503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4115-BB8F-400D-8164-884B53775714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-431640"/>
            <a:ext cx="914400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鸟 的 天 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       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黄昏                                                    早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   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叶：多 、密 、绿                                    到处   到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榕树美                                                           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  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枝干：枝上生根，数不清                       有的  有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美丽的南国的树！                           真是鸟的天堂啊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332000" y="3068280"/>
            <a:ext cx="380880" cy="304920"/>
            <a:chOff x="1332000" y="3068280"/>
            <a:chExt cx="380880" cy="304920"/>
          </a:xfrm>
        </p:grpSpPr>
        <p:sp>
          <p:nvSpPr>
            <p:cNvPr id="242" name="Line 3"/>
            <p:cNvSpPr/>
            <p:nvPr/>
          </p:nvSpPr>
          <p:spPr>
            <a:xfrm flipV="1">
              <a:off x="1332000" y="3068280"/>
              <a:ext cx="380880" cy="304920"/>
            </a:xfrm>
            <a:prstGeom prst="line">
              <a:avLst/>
            </a:prstGeom>
            <a:ln w="93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 rot="10800000">
              <a:off x="1332000" y="306828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311120" y="3716280"/>
            <a:ext cx="381240" cy="304920"/>
            <a:chOff x="1311120" y="3716280"/>
            <a:chExt cx="381240" cy="304920"/>
          </a:xfrm>
        </p:grpSpPr>
        <p:sp>
          <p:nvSpPr>
            <p:cNvPr id="245" name="Line 4"/>
            <p:cNvSpPr/>
            <p:nvPr/>
          </p:nvSpPr>
          <p:spPr>
            <a:xfrm>
              <a:off x="1311120" y="3716280"/>
              <a:ext cx="381240" cy="304920"/>
            </a:xfrm>
            <a:prstGeom prst="line">
              <a:avLst/>
            </a:prstGeom>
            <a:ln w="93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1311120" y="3716280"/>
              <a:ext cx="381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084360" y="3141720"/>
            <a:ext cx="545040" cy="287280"/>
            <a:chOff x="6084360" y="3141720"/>
            <a:chExt cx="545040" cy="287280"/>
          </a:xfrm>
        </p:grpSpPr>
        <p:sp>
          <p:nvSpPr>
            <p:cNvPr id="248" name="Line 5"/>
            <p:cNvSpPr/>
            <p:nvPr/>
          </p:nvSpPr>
          <p:spPr>
            <a:xfrm flipV="1">
              <a:off x="6084720" y="3141720"/>
              <a:ext cx="544680" cy="287280"/>
            </a:xfrm>
            <a:prstGeom prst="line">
              <a:avLst/>
            </a:prstGeom>
            <a:ln w="93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 rot="10800000">
              <a:off x="6084360" y="3141720"/>
              <a:ext cx="5446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084720" y="3789360"/>
            <a:ext cx="574920" cy="289080"/>
            <a:chOff x="6084720" y="3789360"/>
            <a:chExt cx="574920" cy="289080"/>
          </a:xfrm>
        </p:grpSpPr>
        <p:sp>
          <p:nvSpPr>
            <p:cNvPr id="251" name="Line 6"/>
            <p:cNvSpPr/>
            <p:nvPr/>
          </p:nvSpPr>
          <p:spPr>
            <a:xfrm>
              <a:off x="6084720" y="3789360"/>
              <a:ext cx="574920" cy="289080"/>
            </a:xfrm>
            <a:prstGeom prst="line">
              <a:avLst/>
            </a:prstGeom>
            <a:ln w="93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6084720" y="3789360"/>
              <a:ext cx="57492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1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2"/>
                            </p:stCondLst>
                            <p:childTnLst>
                              <p:par>
                                <p:cTn id="1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3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0"/>
          <p:cNvSpPr/>
          <p:nvPr/>
        </p:nvSpPr>
        <p:spPr>
          <a:xfrm>
            <a:off x="1476360" y="1163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615280" y="12794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一、教材分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231600" y="20718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二、说教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231600" y="29354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三、说学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493680" y="37987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四、教学过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493680" y="45910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五、板书设计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5" name="Picture 15" descr="树3"/>
          <p:cNvPicPr/>
          <p:nvPr/>
        </p:nvPicPr>
        <p:blipFill>
          <a:blip r:embed="rId1"/>
          <a:stretch/>
        </p:blipFill>
        <p:spPr>
          <a:xfrm>
            <a:off x="0" y="442800"/>
            <a:ext cx="4500720" cy="59389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3499560" y="1628640"/>
            <a:ext cx="58752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教学内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641760" y="2624040"/>
            <a:ext cx="188748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教学目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4098960" y="3560760"/>
            <a:ext cx="188748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教学重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4530600" y="4495680"/>
            <a:ext cx="188748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教学难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30200" y="3286080"/>
            <a:ext cx="360" cy="2664000"/>
            <a:chOff x="1330200" y="3286080"/>
            <a:chExt cx="360" cy="2664000"/>
          </a:xfrm>
        </p:grpSpPr>
        <p:sp>
          <p:nvSpPr>
            <p:cNvPr id="142" name="Line 19"/>
            <p:cNvSpPr/>
            <p:nvPr/>
          </p:nvSpPr>
          <p:spPr>
            <a:xfrm>
              <a:off x="1330200" y="3286080"/>
              <a:ext cx="0" cy="2664000"/>
            </a:xfrm>
            <a:prstGeom prst="line">
              <a:avLst/>
            </a:prstGeom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330200" y="3286080"/>
              <a:ext cx="360" cy="26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900000" y="5302080"/>
            <a:ext cx="1511280" cy="360"/>
            <a:chOff x="900000" y="5302080"/>
            <a:chExt cx="1511280" cy="360"/>
          </a:xfrm>
        </p:grpSpPr>
        <p:sp>
          <p:nvSpPr>
            <p:cNvPr id="145" name="Line 20"/>
            <p:cNvSpPr/>
            <p:nvPr/>
          </p:nvSpPr>
          <p:spPr>
            <a:xfrm>
              <a:off x="900000" y="5302080"/>
              <a:ext cx="1511280" cy="0"/>
            </a:xfrm>
            <a:prstGeom prst="line">
              <a:avLst/>
            </a:prstGeom>
            <a:ln w="127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900000" y="5302080"/>
              <a:ext cx="151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7" name="Oval 21"/>
          <p:cNvSpPr/>
          <p:nvPr/>
        </p:nvSpPr>
        <p:spPr>
          <a:xfrm>
            <a:off x="1906560" y="4653000"/>
            <a:ext cx="216000" cy="216000"/>
          </a:xfrm>
          <a:prstGeom prst="ellips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Oval 22"/>
          <p:cNvSpPr/>
          <p:nvPr/>
        </p:nvSpPr>
        <p:spPr>
          <a:xfrm>
            <a:off x="1185840" y="4005360"/>
            <a:ext cx="216000" cy="215640"/>
          </a:xfrm>
          <a:prstGeom prst="ellips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Oval 25"/>
          <p:cNvSpPr/>
          <p:nvPr/>
        </p:nvSpPr>
        <p:spPr>
          <a:xfrm>
            <a:off x="1403280" y="5302080"/>
            <a:ext cx="216000" cy="216000"/>
          </a:xfrm>
          <a:prstGeom prst="ellips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03280" y="4653000"/>
            <a:ext cx="360" cy="504720"/>
            <a:chOff x="1403280" y="4653000"/>
            <a:chExt cx="360" cy="504720"/>
          </a:xfrm>
        </p:grpSpPr>
        <p:sp>
          <p:nvSpPr>
            <p:cNvPr id="151" name="Line 27"/>
            <p:cNvSpPr/>
            <p:nvPr/>
          </p:nvSpPr>
          <p:spPr>
            <a:xfrm>
              <a:off x="1403280" y="4653000"/>
              <a:ext cx="0" cy="504720"/>
            </a:xfrm>
            <a:prstGeom prst="line">
              <a:avLst/>
            </a:prstGeom>
            <a:ln w="63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1403280" y="465300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3" name="Oval 28"/>
          <p:cNvSpPr/>
          <p:nvPr/>
        </p:nvSpPr>
        <p:spPr>
          <a:xfrm>
            <a:off x="1258920" y="3862440"/>
            <a:ext cx="216000" cy="216000"/>
          </a:xfrm>
          <a:prstGeom prst="ellips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95280" y="2253960"/>
            <a:ext cx="8353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教学内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鸟的天堂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是九年制义务教育六年制小学语文第十一册第六单元的第一篇课文。它主要记叙了作者（巴金）和他的朋友们两次游历“鸟的天堂”时所见到的美丽的大榕树和群鸟欢闹的奇异景象，表达了作者对大自然景色的热爱和赞美。这本来就是一篇经典课文，再加上现在生存环境保护日趋的重，就又赋予了这篇精品佳作以新的内涵。因此，在教学时，我紧扣“自主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探究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实践”进行设计，努力使学生在自主学习中有所感悟和思考，在积极探究中获得思想启迪，在实践活动中提高语文素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8172360" y="5877000"/>
            <a:ext cx="432000" cy="503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324000" y="306468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能力目标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感情地朗读课文，阅读要有自己的见解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95280" y="47214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情感目标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欣赏大榕树的奇特和美丽，感受大榕树上众鸟纷飞的壮观景象，受到热爱大自然，热爱美的教育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60360" y="14464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知识目标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背诵自己喜欢的段落，积累、运用好词好句，学会写简短的解说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8317080" y="6021360"/>
            <a:ext cx="431640" cy="503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952800" y="501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教学目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68360" y="1442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理解文中描写大榕树的奇特美丽以及众鸟纷飞的幸福欢乐的景象，体会作者的思想感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8172360" y="5877000"/>
            <a:ext cx="432000" cy="503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209600" y="7318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学重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69840" y="31129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理解内容，感受文中描写的“鸟的天堂”那人与自然友好相处的和谐之美，增强保护生态环境的意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15840" y="4954680"/>
            <a:ext cx="63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指导学生朗读、背诵课文，积累、运用词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文本框 8200"/>
          <p:cNvSpPr/>
          <p:nvPr/>
        </p:nvSpPr>
        <p:spPr>
          <a:xfrm>
            <a:off x="2987640" y="90792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68360" y="191628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“那翠绿的颜色，明亮地照耀着我们的眼睛，似乎每一片绿叶上都有一个新的生命在颤动。”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文中四处提到“鸟的天堂”，为什么有的地方加引号，有的地方没有加引号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907200" y="9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教学难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8172360" y="5877000"/>
            <a:ext cx="432000" cy="503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24000" y="765000"/>
            <a:ext cx="86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教学方法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学语文新课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出：教学中要努力体现语文的实践性和综合性，提倡启发式、讨论式教学。因此，我采用了谈话法和讨论法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教学手段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小学教师继续教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出“教学要多样化，以提高学生学习兴趣”，这就要求教师要优化课堂教学。本次教学中我扮演一个导游的角色，与学生平等交流。让学生在“读中感知、读中感悟、自由评论、深入探究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教学媒体的运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影片：一株枝繁叶茂的大榕树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影片：群鸟纷飞的场景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172360" y="5877000"/>
            <a:ext cx="432000" cy="503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84360" y="128952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学习方法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学儿童心理学教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曾这样说：“学生是学习的主人，语文教学应激发学生的学习兴趣，教给学生一些学习方法，让学生选择自己喜欢的学习方式。”根据我班学生的实际情况，我教给了他们这样几种学习方法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读一读， 想一想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想一想， 说一说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圈一圈， 画一画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动脑筋、 敢提问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有主见， 谈看法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找伙伴， 共探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能力培养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写例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出：“阅读要有自己的见解”，这就要求学生在学习中自主实践。我要求学生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齐动眼、脑、口，边读、边想、边说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带着感情和角色，深入朗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充分发挥自己的想象力，发表自己的见解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深入思考，作出判断，说出根据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8172360" y="5734080"/>
            <a:ext cx="432000" cy="503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6:24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21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