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EEF-3104-4BC9-9551-3293926A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AC3-15D9-470F-87DA-9EF8C95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00F-6C26-4D9A-AC32-CBBB3E1E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B6E-05C4-4280-A80B-6BAE6E51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B34-D37B-466E-A679-868EF5A2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C905-3966-46B0-AA14-05E1F66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DBD7-7E8B-436E-A9F0-F10F211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666-4599-41ED-92F0-91EA025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6103-A5E9-4C74-8235-48DFBD8C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6E9-FE3B-4004-960F-43736B40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BFA4-E059-4536-B51F-B4767D6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C15-1317-4687-BAC5-8CBAC46C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40BB-7E9F-49B1-B3EA-327FD6F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A0BC-50C4-4B59-8249-79C77C5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D6DF-D906-43EE-A2F5-76EDC3E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F739-BB8F-40EE-8BB7-3DD93F2C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0CDD-A33E-447F-8BE0-ECE2C99D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201-FAFB-439F-8A34-C8FF509D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98D-C13D-4FD6-A734-F2E0E2E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54C-86A1-4B61-AD7F-57D1B89E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490-1BB5-4CC4-8EE2-1C010292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B77-C06E-4F99-A160-3C3BE3A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2C1-0C9C-4FA7-B6F3-8FC785A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A92-B539-496C-89D6-C2A05CE1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2848-2CE7-4F13-AE70-EC4EF6627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3DC1-0216-4454-A986-6718AA5915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49AF-4BE9-4601-A2D8-2B890F0BAB7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59,8,&#24187;&#28783;&#29255; 8" TargetMode="External"/><Relationship Id="rId3" Type="http://schemas.openxmlformats.org/officeDocument/2006/relationships/hyperlink" Target="260,9,&#24187;&#28783;&#29255; 9" TargetMode="External"/><Relationship Id="rId4" Type="http://schemas.openxmlformats.org/officeDocument/2006/relationships/hyperlink" Target="264,3,&#24187;&#28783;&#29255; 3" TargetMode="External"/><Relationship Id="rId5" Type="http://schemas.openxmlformats.org/officeDocument/2006/relationships/hyperlink" Target="267,10,&#24187;&#28783;&#29255; 10" TargetMode="External"/><Relationship Id="rId6" Type="http://schemas.openxmlformats.org/officeDocument/2006/relationships/hyperlink" Target="270,6,&#65288;1&#65289;&#20351;&#24471;&#21477;&#23376;&#24178;&#20928;&#20102;&#20063;&#35268;&#33539;&#20102;&#12290; &#12288;&#12288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63,2,&#24187;&#28783;&#29255; 2" TargetMode="Externa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63,2,&#24187;&#28783;&#29255; 2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1" descr="D:\Documents\My Pictures\8781727_150051244139_2.jpg"/>
          <p:cNvPicPr/>
          <p:nvPr/>
        </p:nvPicPr>
        <p:blipFill>
          <a:blip r:embed="rId16"/>
          <a:srcRect l="0" t="0" r="0" b="62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1371600" y="167652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ff00"/>
                </a:solidFill>
                <a:latin typeface="Times New Roman"/>
                <a:ea typeface="华文隶书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Text Box 29" descr=""/>
          <p:cNvPicPr/>
          <p:nvPr/>
        </p:nvPicPr>
        <p:blipFill>
          <a:blip r:embed="rId17"/>
          <a:stretch/>
        </p:blipFill>
        <p:spPr>
          <a:xfrm>
            <a:off x="539640" y="619200"/>
            <a:ext cx="8280360" cy="7016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D303-E488-4CC9-97DD-73AD74E69F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WH15C_pashanhu9050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324000" y="6602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文为什么以“那片绿绿的爬山虎”为题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50920" y="216684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因为在叶老家做客见到那片爬山虎，叶老教导我懂得了应该怎样做人、怎能样作文。时间过去近三十年了，但当时情景如在眼前，一想起叶老，就仿佛又看到那片绿绿的爬山虎，所以此为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WH15C_pashanhu9050034"/>
          <p:cNvPicPr/>
          <p:nvPr/>
        </p:nvPicPr>
        <p:blipFill>
          <a:blip r:embed="rId1"/>
          <a:stretch/>
        </p:blipFill>
        <p:spPr>
          <a:xfrm>
            <a:off x="-585720" y="-1500120"/>
            <a:ext cx="10315440" cy="98582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065480" y="76500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叶圣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86080" y="1720800"/>
            <a:ext cx="1540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作家肖复兴简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04820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098600" y="4292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进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182120" y="551664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4194000" y="335592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板书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974760" y="623736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句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1848600" y="620640"/>
            <a:ext cx="4707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叶圣陶先生是怎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修改</a:t>
            </a:r>
            <a:r>
              <a:rPr b="1" lang="zh-CN" sz="5400" spc="-1" strike="noStrike">
                <a:solidFill>
                  <a:srgbClr val="3333cc"/>
                </a:solidFill>
                <a:latin typeface="华文中宋"/>
                <a:ea typeface="隶书"/>
              </a:rPr>
              <a:t>“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我</a:t>
            </a:r>
            <a:r>
              <a:rPr b="1" lang="zh-CN" sz="5400" spc="-1" strike="noStrike">
                <a:solidFill>
                  <a:srgbClr val="3333cc"/>
                </a:solidFill>
                <a:latin typeface="华文中宋"/>
                <a:ea typeface="隶书"/>
              </a:rPr>
              <a:t>”</a:t>
            </a:r>
            <a:r>
              <a:rPr b="1" lang="zh-CN" sz="5400" spc="-1" strike="noStrike">
                <a:solidFill>
                  <a:srgbClr val="3333cc"/>
                </a:solidFill>
                <a:latin typeface="隶书"/>
                <a:ea typeface="隶书"/>
              </a:rPr>
              <a:t>的作文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请同学们速读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993300"/>
                </a:solidFill>
                <a:latin typeface="华文中宋"/>
                <a:ea typeface="华文中宋"/>
              </a:rPr>
              <a:t>小节。</a:t>
            </a:r>
            <a:r>
              <a:rPr b="0" lang="zh-CN" sz="4400" spc="-1" strike="noStrike">
                <a:solidFill>
                  <a:srgbClr val="9933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J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826920" y="765000"/>
            <a:ext cx="744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看一看，议一议</a:t>
            </a:r>
            <a:r>
              <a:rPr b="1" lang="en-US" sz="60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看了叶老的修改你有什么感想？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258920" y="765000"/>
            <a:ext cx="65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作者当初刚看到这份修改稿时，有什么反应呢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690960" y="551664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使得句子干净了也规范了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84360" y="1916280"/>
            <a:ext cx="68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095480" y="28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684880" y="2060640"/>
            <a:ext cx="465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干净”</a:t>
            </a: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，在这里指句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简洁明白，不啰嗦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规范”</a:t>
            </a: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，指语言标准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Times New Roman"/>
              </a:rPr>
              <a:t>典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0" y="692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虽然未见叶老先生的面，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却从他的批改中感受到他的认真、平和以及温暖，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如春风拂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978560" y="3711600"/>
            <a:ext cx="51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拂”，轻轻擦过，“春风拂面”指像春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样从脸上轻轻擦过，形容使人感到非常愉快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舒服。作者运用这个比喻，更形象地表达出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己对叶老的感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83532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PM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1219320" y="609480"/>
            <a:ext cx="6705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　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叶圣陶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国著名的教育家叶圣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894-198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名绍钧，江苏苏州人，著名作家、教育家，父亲在地主家做账房，家境清苦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0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考入草桥中学，毕业后在一个初等小学当教员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被排挤出学校，闲居期间作文言小说发表在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礼拜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杂志上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秋到上海商务印书馆附设的尚公学校教国文，并为商务印书馆编小学国文课本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1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应聘到吴县甪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l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里县立第五高等小学任教，他称甪里为自己的第二故乡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与沈雁冰、郑振铎等人发起组织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学研究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曾与夏丏尊合作出版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阅读与写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心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文章讲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。解放后，历任出版总署副署长、人民教育出版社社长、教部副部长等职，并当选为第五届全国人大常委，第五届全国政协常委和民进中央主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980040" y="5948280"/>
            <a:ext cx="54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8194"/>
          <p:cNvSpPr/>
          <p:nvPr/>
        </p:nvSpPr>
        <p:spPr>
          <a:xfrm>
            <a:off x="327672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PM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1066680" y="609480"/>
            <a:ext cx="70106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作家肖复兴简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肖复兴，北京人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98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毕业于中央戏剧学院。现任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民文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杂志社副主编。已出版长篇小说、中短篇小说集、报告文学集、散文随笔集和理论集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余部。曾有长篇小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青春三部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早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女中学生的日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青春回旋曲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报告文学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当代中学生对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和当代中学生通信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近著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笔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的隔膜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聆听与吟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浪漫的丧失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纸的生命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遥远的含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。曾经获得过全国以及北京上海优秀文学奖多种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音乐笔记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获首届冰心散文奖。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那片绿绿的爬山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向往奥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荔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银色的心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寻找贝多芬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等篇入选大中小学课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3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