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DING.WAV" ContentType="audio/x-wav"/>
  <Override PartName="/ppt/media/image5.png" ContentType="image/png"/>
  <Override PartName="/ppt/media/CHIMES.WAV" ContentType="audio/x-wav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FC3-506D-4570-AEEE-E1A58BB9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F4C-37CE-46DA-9EE5-30BDDBA2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E5F-160F-4960-A794-38C05DA8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0C0-835E-4807-AC6C-73710DE8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7325-5FB1-4ED0-A024-5C8C3FD8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EC25-00D1-45DE-9949-DBA99E72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5721-7984-42B2-A81B-B93E0AAE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4919-C8D7-4661-97B6-94F0E0DA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2556-A7E8-4354-82DD-723D3C41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E98-7EE7-4203-AB53-1819B4D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1008-75AE-41BF-AC0A-D927AEB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F9C-8B75-4DF7-BAA3-1C12A526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3FD9-F53C-4F4D-8992-F8680FF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5D30-5434-445D-BF38-F53075D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AD4B-4819-44A4-A411-E735C83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D8B6-DD2F-4B66-A801-DE2F2883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D6C2-145D-4F1D-9D38-52618046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325-5E17-40FC-A8F1-404C4B1D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F38-A01D-49C3-AFCF-8313EA3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3D3-8DDF-463F-A202-F7782033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832-6579-4AD8-A511-8EF7DC6C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6C7-E930-48B9-8DEE-62C5913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28C-9EC4-4893-896B-0584CE8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27A-E88C-4A3F-99FB-58CD2C08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677-CC40-4767-BB46-A13EBF54A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75D5-F2A1-4A12-8CF6-D7FB172618F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8B5E-E325-4FB1-B6B9-6285A11FC2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image" Target="../media/image5.png"/><Relationship Id="rId18" Type="http://schemas.openxmlformats.org/officeDocument/2006/relationships/audio" Target="../media/CHIMES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TM_017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BJ204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3"/>
          <a:stretch/>
        </p:blipFill>
        <p:spPr>
          <a:xfrm>
            <a:off x="1019160" y="628560"/>
            <a:ext cx="77119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J1015"/>
          <p:cNvPicPr/>
          <p:nvPr/>
        </p:nvPicPr>
        <p:blipFill>
          <a:blip r:embed="rId16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4" descr=""/>
          <p:cNvPicPr/>
          <p:nvPr/>
        </p:nvPicPr>
        <p:blipFill>
          <a:blip r:embed="rId17"/>
          <a:stretch/>
        </p:blipFill>
        <p:spPr>
          <a:xfrm>
            <a:off x="757080" y="2205000"/>
            <a:ext cx="7805880" cy="23209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800600" y="2971800"/>
            <a:ext cx="2057400" cy="360"/>
            <a:chOff x="4800600" y="2971800"/>
            <a:chExt cx="2057400" cy="360"/>
          </a:xfrm>
        </p:grpSpPr>
        <p:sp>
          <p:nvSpPr>
            <p:cNvPr id="90" name="Line 5"/>
            <p:cNvSpPr/>
            <p:nvPr/>
          </p:nvSpPr>
          <p:spPr>
            <a:xfrm>
              <a:off x="4800600" y="2971800"/>
              <a:ext cx="20574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800600" y="29718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86200" y="4572000"/>
            <a:ext cx="990720" cy="360"/>
            <a:chOff x="3886200" y="4572000"/>
            <a:chExt cx="990720" cy="360"/>
          </a:xfrm>
        </p:grpSpPr>
        <p:sp>
          <p:nvSpPr>
            <p:cNvPr id="93" name="Line 6"/>
            <p:cNvSpPr/>
            <p:nvPr/>
          </p:nvSpPr>
          <p:spPr>
            <a:xfrm>
              <a:off x="3886200" y="457200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3886200" y="457200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400800" y="4572000"/>
            <a:ext cx="990720" cy="360"/>
            <a:chOff x="6400800" y="4572000"/>
            <a:chExt cx="990720" cy="360"/>
          </a:xfrm>
        </p:grpSpPr>
        <p:sp>
          <p:nvSpPr>
            <p:cNvPr id="96" name="Line 7"/>
            <p:cNvSpPr/>
            <p:nvPr/>
          </p:nvSpPr>
          <p:spPr>
            <a:xfrm>
              <a:off x="6400800" y="457200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400800" y="457200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MTM_017.MID" descr=""/>
          <p:cNvPicPr/>
          <p:nvPr/>
        </p:nvPicPr>
        <p:blipFill>
          <a:blip r:embed="rId1"/>
          <a:stretch/>
        </p:blipFill>
        <p:spPr>
          <a:xfrm>
            <a:off x="0" y="654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BJ10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09480" y="1752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着，他先用闽南语，然后又用还不太熟练的国语，一遍一遍地读。老师和孩子们都显得那么严肃认真，而又那么富有感情。好像每个字，每个音，都发自他们火热的真挚的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43400" y="2895480"/>
            <a:ext cx="1828800" cy="360"/>
            <a:chOff x="4343400" y="2895480"/>
            <a:chExt cx="1828800" cy="360"/>
          </a:xfrm>
        </p:grpSpPr>
        <p:sp>
          <p:nvSpPr>
            <p:cNvPr id="102" name="Line 6"/>
            <p:cNvSpPr/>
            <p:nvPr/>
          </p:nvSpPr>
          <p:spPr>
            <a:xfrm>
              <a:off x="4343400" y="2895480"/>
              <a:ext cx="182880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34340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800600" y="3505320"/>
            <a:ext cx="1828800" cy="360"/>
            <a:chOff x="4800600" y="3505320"/>
            <a:chExt cx="1828800" cy="360"/>
          </a:xfrm>
        </p:grpSpPr>
        <p:sp>
          <p:nvSpPr>
            <p:cNvPr id="105" name="Line 7"/>
            <p:cNvSpPr/>
            <p:nvPr/>
          </p:nvSpPr>
          <p:spPr>
            <a:xfrm>
              <a:off x="4800600" y="3505320"/>
              <a:ext cx="182880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800600" y="35053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14600" y="4572000"/>
            <a:ext cx="1295280" cy="360"/>
            <a:chOff x="2514600" y="4572000"/>
            <a:chExt cx="1295280" cy="360"/>
          </a:xfrm>
        </p:grpSpPr>
        <p:sp>
          <p:nvSpPr>
            <p:cNvPr id="108" name="Line 8"/>
            <p:cNvSpPr/>
            <p:nvPr/>
          </p:nvSpPr>
          <p:spPr>
            <a:xfrm>
              <a:off x="2514600" y="457200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514600" y="457200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86200" y="4572000"/>
            <a:ext cx="1295280" cy="360"/>
            <a:chOff x="3886200" y="4572000"/>
            <a:chExt cx="1295280" cy="360"/>
          </a:xfrm>
        </p:grpSpPr>
        <p:sp>
          <p:nvSpPr>
            <p:cNvPr id="111" name="Line 9"/>
            <p:cNvSpPr/>
            <p:nvPr/>
          </p:nvSpPr>
          <p:spPr>
            <a:xfrm>
              <a:off x="3886200" y="457200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886200" y="457200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95280" y="4038480"/>
            <a:ext cx="1752840" cy="360"/>
            <a:chOff x="1295280" y="4038480"/>
            <a:chExt cx="1752840" cy="360"/>
          </a:xfrm>
        </p:grpSpPr>
        <p:sp>
          <p:nvSpPr>
            <p:cNvPr id="114" name="Line 11"/>
            <p:cNvSpPr/>
            <p:nvPr/>
          </p:nvSpPr>
          <p:spPr>
            <a:xfrm>
              <a:off x="1295280" y="4038480"/>
              <a:ext cx="175284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295280" y="4038480"/>
              <a:ext cx="17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文本框 8197"/>
          <p:cNvSpPr/>
          <p:nvPr/>
        </p:nvSpPr>
        <p:spPr>
          <a:xfrm>
            <a:off x="1332000" y="6453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TM_003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Pict01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BJ1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219320" y="1219320"/>
            <a:ext cx="6705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填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礼堂里，作者看到了                     、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                      、                     。   通过作者的耳闻目睹，我们深切在感受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台湾人民强烈的                                   和深厚的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是全文的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句。也表达了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思想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95280" y="2514600"/>
            <a:ext cx="1905120" cy="360"/>
            <a:chOff x="1295280" y="2514600"/>
            <a:chExt cx="1905120" cy="360"/>
          </a:xfrm>
        </p:grpSpPr>
        <p:sp>
          <p:nvSpPr>
            <p:cNvPr id="122" name="Line 5"/>
            <p:cNvSpPr/>
            <p:nvPr/>
          </p:nvSpPr>
          <p:spPr>
            <a:xfrm>
              <a:off x="1295280" y="2514600"/>
              <a:ext cx="19051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295280" y="25146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2514600"/>
            <a:ext cx="1905120" cy="360"/>
            <a:chOff x="3429000" y="2514600"/>
            <a:chExt cx="1905120" cy="360"/>
          </a:xfrm>
        </p:grpSpPr>
        <p:sp>
          <p:nvSpPr>
            <p:cNvPr id="125" name="Line 6"/>
            <p:cNvSpPr/>
            <p:nvPr/>
          </p:nvSpPr>
          <p:spPr>
            <a:xfrm>
              <a:off x="3429000" y="2514600"/>
              <a:ext cx="19051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429000" y="25146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715000" y="2514600"/>
            <a:ext cx="1905120" cy="360"/>
            <a:chOff x="5715000" y="2514600"/>
            <a:chExt cx="1905120" cy="360"/>
          </a:xfrm>
        </p:grpSpPr>
        <p:sp>
          <p:nvSpPr>
            <p:cNvPr id="128" name="Line 7"/>
            <p:cNvSpPr/>
            <p:nvPr/>
          </p:nvSpPr>
          <p:spPr>
            <a:xfrm>
              <a:off x="5715000" y="2514600"/>
              <a:ext cx="19051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5715000" y="25146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486400" y="2057400"/>
            <a:ext cx="1905120" cy="360"/>
            <a:chOff x="5486400" y="2057400"/>
            <a:chExt cx="1905120" cy="360"/>
          </a:xfrm>
        </p:grpSpPr>
        <p:sp>
          <p:nvSpPr>
            <p:cNvPr id="131" name="Line 8"/>
            <p:cNvSpPr/>
            <p:nvPr/>
          </p:nvSpPr>
          <p:spPr>
            <a:xfrm>
              <a:off x="5486400" y="2057400"/>
              <a:ext cx="19051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486400" y="20574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429000"/>
            <a:ext cx="3124080" cy="360"/>
            <a:chOff x="3886200" y="3429000"/>
            <a:chExt cx="3124080" cy="360"/>
          </a:xfrm>
        </p:grpSpPr>
        <p:sp>
          <p:nvSpPr>
            <p:cNvPr id="134" name="Line 9"/>
            <p:cNvSpPr/>
            <p:nvPr/>
          </p:nvSpPr>
          <p:spPr>
            <a:xfrm>
              <a:off x="3886200" y="3429000"/>
              <a:ext cx="312408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3886200" y="34290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11"/>
          <p:cNvSpPr/>
          <p:nvPr/>
        </p:nvSpPr>
        <p:spPr>
          <a:xfrm>
            <a:off x="6162840" y="1547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778760" y="207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诸葛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988440" y="207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郑成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6274440" y="207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孙中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3275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4864320" y="298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民族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630880" y="3397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爱国情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57228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2378880" y="4662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烈的民族精神和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088B-73F2-4D1C-8702-777C4F89B0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1" descr="BJ1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380880" y="304920"/>
            <a:ext cx="83822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课文围绕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一中心，详写了                     、                             这两件事。特别是把                   的过程作为重点，进行了详细地叙述和描写，给人留下难忘的印象。由此可见，凡是和                关系特别密切的材料，就是重点材料，应该写得            ，其余的次要材料，可以写得           。这就是单元学习重点，详写和略写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971800" y="1523880"/>
            <a:ext cx="5486400" cy="360"/>
            <a:chOff x="2971800" y="1523880"/>
            <a:chExt cx="5486400" cy="360"/>
          </a:xfrm>
        </p:grpSpPr>
        <p:sp>
          <p:nvSpPr>
            <p:cNvPr id="152" name="Line 3"/>
            <p:cNvSpPr/>
            <p:nvPr/>
          </p:nvSpPr>
          <p:spPr>
            <a:xfrm>
              <a:off x="2971800" y="15238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971800" y="1523880"/>
              <a:ext cx="5486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09880" y="2209680"/>
            <a:ext cx="2133720" cy="360"/>
            <a:chOff x="3809880" y="2209680"/>
            <a:chExt cx="2133720" cy="360"/>
          </a:xfrm>
        </p:grpSpPr>
        <p:sp>
          <p:nvSpPr>
            <p:cNvPr id="155" name="Line 4"/>
            <p:cNvSpPr/>
            <p:nvPr/>
          </p:nvSpPr>
          <p:spPr>
            <a:xfrm>
              <a:off x="3809880" y="2209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3809880" y="220968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48520" y="2209680"/>
            <a:ext cx="2286000" cy="360"/>
            <a:chOff x="6248520" y="2209680"/>
            <a:chExt cx="2286000" cy="360"/>
          </a:xfrm>
        </p:grpSpPr>
        <p:sp>
          <p:nvSpPr>
            <p:cNvPr id="158" name="Line 5"/>
            <p:cNvSpPr/>
            <p:nvPr/>
          </p:nvSpPr>
          <p:spPr>
            <a:xfrm>
              <a:off x="6248520" y="22096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248520" y="22096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486400" y="3657600"/>
            <a:ext cx="1523880" cy="360"/>
            <a:chOff x="5486400" y="3657600"/>
            <a:chExt cx="1523880" cy="360"/>
          </a:xfrm>
        </p:grpSpPr>
        <p:sp>
          <p:nvSpPr>
            <p:cNvPr id="161" name="Line 6"/>
            <p:cNvSpPr/>
            <p:nvPr/>
          </p:nvSpPr>
          <p:spPr>
            <a:xfrm>
              <a:off x="54864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486400" y="365760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391520" y="4191120"/>
            <a:ext cx="1218960" cy="360"/>
            <a:chOff x="7391520" y="4191120"/>
            <a:chExt cx="1218960" cy="360"/>
          </a:xfrm>
        </p:grpSpPr>
        <p:sp>
          <p:nvSpPr>
            <p:cNvPr id="164" name="Line 7"/>
            <p:cNvSpPr/>
            <p:nvPr/>
          </p:nvSpPr>
          <p:spPr>
            <a:xfrm>
              <a:off x="7391520" y="4191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7391520" y="419112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67080" y="2666880"/>
            <a:ext cx="1828800" cy="360"/>
            <a:chOff x="4267080" y="2666880"/>
            <a:chExt cx="1828800" cy="360"/>
          </a:xfrm>
        </p:grpSpPr>
        <p:sp>
          <p:nvSpPr>
            <p:cNvPr id="167" name="Line 8"/>
            <p:cNvSpPr/>
            <p:nvPr/>
          </p:nvSpPr>
          <p:spPr>
            <a:xfrm>
              <a:off x="4267080" y="2666880"/>
              <a:ext cx="1828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267080" y="26668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52480" y="6858000"/>
            <a:ext cx="1905120" cy="360"/>
            <a:chOff x="1752480" y="6858000"/>
            <a:chExt cx="1905120" cy="360"/>
          </a:xfrm>
        </p:grpSpPr>
        <p:sp>
          <p:nvSpPr>
            <p:cNvPr id="170" name="Line 11"/>
            <p:cNvSpPr/>
            <p:nvPr/>
          </p:nvSpPr>
          <p:spPr>
            <a:xfrm>
              <a:off x="1752480" y="6858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752480" y="68580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2"/>
          <p:cNvSpPr/>
          <p:nvPr/>
        </p:nvSpPr>
        <p:spPr>
          <a:xfrm>
            <a:off x="4347360" y="1089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是中国人，我爱中国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322880" y="1752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学习国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6613560" y="1766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参观小礼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62780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学习国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5934240" y="32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769104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详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4120" y="4648320"/>
            <a:ext cx="1295280" cy="360"/>
            <a:chOff x="5334120" y="4648320"/>
            <a:chExt cx="1295280" cy="360"/>
          </a:xfrm>
        </p:grpSpPr>
        <p:sp>
          <p:nvSpPr>
            <p:cNvPr id="179" name="Line 19"/>
            <p:cNvSpPr/>
            <p:nvPr/>
          </p:nvSpPr>
          <p:spPr>
            <a:xfrm>
              <a:off x="5334120" y="46483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334120" y="464832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20"/>
          <p:cNvSpPr/>
          <p:nvPr/>
        </p:nvSpPr>
        <p:spPr>
          <a:xfrm>
            <a:off x="5709600" y="419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简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01:30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