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355-59BF-4EB2-81F1-F3081480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E63-4482-42CE-A0B0-EFD97F52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61D-2EF8-442C-985D-76952E20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7D6-AA9F-40F7-B636-23C1B4E3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BCC2-4C0E-4326-B469-D6CC7780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2F62-8099-41B2-BB06-AC11F9C5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C430-AD3C-4078-BF88-8EF35FA1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6F93-2610-4495-96CF-9056B14E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C1B4-E396-4F61-8BCB-57965DEC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067C-7A08-44C5-8BE0-A017867B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478E-C6F6-4272-821A-D026516C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BE6-0555-40EC-975A-E78669AA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AA1A-E749-4230-AFCF-4BE2E12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B1EA-8055-4AC0-9EBB-5CA710CE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11BE-51AB-4F54-8A82-E583FBB1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B91D-E11A-42BC-B2CA-0BCE810C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7BDC-9553-47F5-9DE4-FD17006D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3AB47-4146-455B-8984-51625322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FC0A-7267-411B-9AD4-F5906171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726A-B87E-4FA5-B58A-43D875C4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EDE6-E8B5-4EB3-B28F-A965EF9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F4AE-B7F5-4859-B56E-9EA9F925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39D-91EE-4F32-BCD9-5F2B1383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5A70B-BDA9-41F3-B963-034FE0E8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30E9-74AC-4D89-98B7-2A7C567E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3635-2942-4961-BAF9-43318DD9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8191-F4B2-4193-ADE7-E210C368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F99EA-110E-4B5B-8BE2-5F7116DB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1415-EFE8-4251-94C8-444B3467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AE0D-C7A8-4C4C-9CD1-62416F11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9F5-5C9F-4510-A421-F3633025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FB8-7B3C-49B9-AB02-C11B40E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F4E-2E7B-4ADA-9CE2-221CA330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57A-1DF1-4A67-BDFA-CBBDF9E8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CCD-C9CD-4193-8CF9-6B62B98C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2E6-0A04-4368-A30F-A2B0F7CD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F984-4099-4451-AD37-795733748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5A7E-4370-4E25-8FB2-CFF2B588D1C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1BC0-1941-4BC6-A956-852AFE1658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87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9EEB-B71F-435D-82A2-D578361B0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南辕北辙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32000" y="1980720"/>
            <a:ext cx="64404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南辕北辙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讲了一个什么故事？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南辕北辙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中那个做车人是怎么想的？他的朋友又是怎么想的？谁的想法对？为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文本框 8200"/>
          <p:cNvSpPr/>
          <p:nvPr/>
        </p:nvSpPr>
        <p:spPr>
          <a:xfrm>
            <a:off x="2484360" y="458136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476360" y="2276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现在你明白季梁为什么要给魏王讲这个故事吗？可以帮老师接故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B787-6679-4572-9BB2-E4CA65D5F3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692360" y="184464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还知道哪些寓言故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拔苗助长、掩耳盗铃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守株待兔、亡羊补牢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狐假虎威、自相矛盾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滥竽充数、买椟还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叶公好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03:34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1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