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9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E562-DD2A-4C16-9F15-43E5828BC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3E94-FEE6-483C-BE2B-FC01BE1A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91EB93-D4FC-4A1D-B685-BEDEA415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1AAFE5-8EDE-4B9F-A6FC-E85849B4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620313-C3C3-4588-B522-49F07063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AF54A-D673-4C2B-A6A0-AF85A05A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D41D7-B162-4D85-A932-804900BC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E0C7AC-01A6-4633-8F5B-4A4C8B6F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7E1424-0B4F-48BE-B514-C1337EE1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3B1C1E-3915-498E-9DF2-0CEEA73D3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8F8495-5A70-4D67-96AB-1850287DD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8EF5C4-BE13-4F8F-8160-B745D26B2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D8C0-5D57-4897-A653-AF5FC01C4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33E5F2-F25E-4A49-977B-2235B19A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8FEC6-2BD9-4F7E-9B7E-961D8FAE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32AE86-7587-4288-BF7B-B063ADF0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4AF07C-51F3-4F8D-B7F4-2226F830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D274CC-8353-4506-B928-56F701C3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552DC8-761D-45A0-89AE-E37AC2A2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777DB7-0AD4-4C4B-B704-521FC092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E4AB39-BF81-4368-BC33-54463771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DA50C5-FAC2-4FD7-89EC-E729359E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F85555-040C-4E5E-854D-1845E5258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F08E-4B3A-4F79-9820-F12B10BAD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6893AD-A4D1-4DE5-8651-2A9CD9E0B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807935-789A-4778-8731-A663B4CE4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9A4DC-D302-497A-9544-5C474E02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BB368D-381C-4099-9C3E-02DB1150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9FB64-06F2-4B41-9291-79070982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C257DF-1C63-416D-810C-EE9147C7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D578D-1680-4145-9F7B-1F1AED04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8C665E-FF36-4671-A0F0-DEA6DAFC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4E6D1-8B30-4270-BF5C-C9AB9BEB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1EA36-DEE5-4188-A653-BF6796FD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2617-25C6-436A-BFE0-7CBCE495C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4C849-185A-4D9D-83EF-33B368AC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9D82E-D383-4E62-9781-03CD050A8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4551C0-2123-4FAC-B755-E04A9B35F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2E701A-A3D6-4A6A-AC7F-34AB2E690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4AAB5A-9150-4486-9DC5-587CD5C5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3EEF6B-97FD-431B-BE3D-F815EE40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09332C-1C76-4E71-B56B-375BE527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BEBCDF-72AB-4F60-97FA-2EBCACD4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CD6607-1F25-49CF-9074-46F635AB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8EF67B-5079-4D38-952F-CF78841F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3FC3-7DD7-48F1-96E2-9EE2DFD5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17EFEB-0D21-4924-BE67-2AC89A11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7A0B8A-5741-4418-8183-F4AD87E2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CC69F0-4779-4178-A3F0-66F32C76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A01D73-FB1F-4248-BC2B-B4BA29C09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E5CB53-7E12-470D-B046-91C127518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EB392E-D3C9-420D-861F-719526DFA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BE7AC9-BFAA-4F68-A1FD-1C1E996F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00ED51-3664-4B5A-9517-7EF086D3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CE3BA6-3900-43DC-B85C-540B729D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BDFEA8-4DE6-4116-BBF7-4055B670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325E-3DE2-4270-8D7B-EB98C2DE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5CB73D-3D75-4998-BF3E-A72E8328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01C3A8-0E04-437B-A30C-989F19E1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7BC210-3A34-4C55-A17F-11865B4C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1A4A48-FA40-4BC6-B33A-11BA00C8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39B925-82D7-4C01-A3AD-4CD8EF69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82A62A-7ED0-4D92-A25D-B02996936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BAC2D4-2845-4A88-BB0C-60A6C3A5B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4D1F5C-BBE5-4DE4-A49E-405F0287A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9AEFF7-3A27-41D9-BD3F-786AC948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BD23A5-1AAD-41C9-9701-4C672D71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8DE6-60E7-4D9B-9D94-571B12AB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8CBA6A-031D-4502-9108-79D06D3D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D94354-F21C-4A1C-A758-FB0B35B9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04A908-A1B8-4C44-A072-75513AEE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EC4929-8FE0-4760-B9EF-55EDAD9E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51F8F5-1D50-4AE5-A505-29CC0B14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C6E534-02A5-4422-B108-60A0E3C5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C2AC5F-651E-468B-92AB-0E4D7C3D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8B5613-D07C-4169-9D54-32DD7C908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316FDA-FAF1-40D6-AEA8-670F49E94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379EFF-EF24-4957-A059-B8010E78A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04D8A-3343-469F-B9F4-C85C5A45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BBA722-1937-441C-BF3A-CC715C7A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2F4E99-CCD2-4CF2-9DDB-7E0D9FD9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AC7E12-ACDA-461B-A11B-C8BC2C16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E5E718-FB19-4B2C-9242-FF659F1B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F9C020-915A-4FE4-B903-B2BB3037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E7C5C8-8EE4-4216-8311-6AE207CD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44F10E-3E3A-408F-8B30-061F9D4F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7CFED5-E23F-4B19-95D9-C9660CB8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71827D-E3E7-45C9-AFCD-DFCA6BF5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50985D-6A03-4AC2-B94D-3C84E844A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50503-24BA-4754-BA1D-CAEC1C14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723F72-D842-4B55-B78A-8A27CAEF6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D5BA27-3165-44D7-8FF5-A0BEB93BE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C1EBF1-EE73-4B31-AD75-26BF71FF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E27C85-C6E8-472A-AC16-1EF12CDD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2C7BF6-7191-4DD0-B4C0-D6B83435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06FE5C-07FB-45BF-9764-DAB37BDA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F29C52-3AD7-47FE-B121-197BF172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F50883-9DF7-4429-881C-7AAACDB3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8EC463-998C-4BC0-985C-46F8B198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0E209E-6BF4-4C50-971B-971E9A17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E69B-35DE-4F77-9D7B-CFDF4247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8B8032-9D47-48EF-969F-965F40A9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91E09B-6C3C-4AC9-9A72-9AE03081A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CE8982-AC6C-43D5-953C-796720D3F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3312-3A8E-4C55-9CF4-24633104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E58D-3DAA-4597-BBE4-26188360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A33C-1988-457A-BFFD-7C9AFF9A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40B6-8BBF-4F48-ABED-04C85476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67F1D-F093-44EA-A0AF-AC9C9D693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FB94-0DC9-41D4-9F8F-EFC27E991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ABA78-9B61-41A6-A349-F77655ADF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B1926-AFA4-4869-9B4C-0148AB83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2A252-9CC6-46BD-B4B8-AF0052E7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6609E-6429-4224-8C63-758F3283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7FD05-9501-46F0-BF1C-4D194E9B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B724-1980-459A-8F0D-5288BE36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FD8C8-DEB0-43C6-81EE-EC6211A3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CC7D5-F471-433A-9F32-00BD68E8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956C9-C76F-4F39-82AD-972EA559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03C9D-87C0-48B5-8F62-85B6FA66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C9E2E-C476-4075-92F3-8EEF4811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30430-14AA-4841-AE10-5F823AD17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6F09D-F5A5-4042-8E33-2AE008E57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6FEE0-8A05-40DB-B856-40EB9A22F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41741-0EF7-4A57-8330-3224FFFC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8CA2D-CEC3-47A0-B1D3-1184701FE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25E5-20A5-4AD0-81C7-C2B38C9A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C68FA-ECCB-44CF-957A-A87760A7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EBF2C-A0DD-4019-B6B8-6FA0C8B6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3692E-1BB2-4134-8432-54676517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D5CB6-3B33-42AA-B5A4-8C25E051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60C51-F92E-4917-81A0-E8A4F664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8A5AA-09C6-4EA2-8360-908F0DEC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2CB68-80F5-4F1C-9CEF-494A78FE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5607F-6880-4424-8517-F47765384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0F123-78D9-47B9-970C-8738C04F1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7C0C2-D063-4454-ACFB-23B461256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69AF-D2A3-4CD6-90B5-B3394B79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E4685-A9EA-4C43-B07B-7B166580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65DBE-0E87-4F11-8634-13C0856D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46F1E-D989-45D7-91F3-622E1FB3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CBCD6-B243-43E7-939E-C378618E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6D0C8-6459-4B3B-8BFD-9451C156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3A01E-C460-497F-BBD4-4B4DF198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BE8F5-6C99-43F6-A09A-67C713D6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F9C00-27C4-4B8D-AC94-F139381E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EAC59-2E35-4D56-9B4A-94DDBABF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8A521-C71D-46BB-A175-30E0561C7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00DF-F7D0-4F09-AB3C-842C1022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A7AE1-A516-408B-A16E-83C684C82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67C73-4DCC-4E21-A686-4ACAEE2B3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D68E0-3E3B-4018-865D-3BC85766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AA013-F59A-4692-982B-A3276F75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92989-6BB5-47A5-A333-E12CD0CC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02554-7218-403F-A475-8A4939CDF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10178-5F5D-485B-95B3-972F8A1F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20248-40A6-4445-89A2-2051D983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DD907-FA49-4AD3-A7EF-E4D1730E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EA234-2428-4B1B-B135-5E1390E8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BFEB-81FD-433A-8B48-D09918C9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CDD11-BFE2-477E-A756-3133B9B8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332A2-1167-4AB4-B4C6-774CBE3CA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87FC9-E4BA-4ABC-94AC-9B7C80CD7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37DFB-EA31-43C4-8776-48ED470BF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076C8-122D-4D01-BAC2-94DE65149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BC4D5-ABB7-43E5-A17B-03516CEC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BB89E-2468-4F2B-9EAE-034AFDCE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C32F6-4048-4CA6-8E8F-16556E0B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12DDB-BB34-4F89-BF80-6738DE5B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653EC-6ABD-4D12-A32F-AC9740C7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A75D-0A47-4A59-98F2-E40D648F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43FC2-BBB3-44FC-8D1C-70680425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43E9B-C988-4422-A269-CE5A8665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1B9B2-4869-4813-8D4E-2E19650E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D6369-22D0-47E9-9F1E-3D911D0CD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A341D-8578-4650-B7DD-8B07F192E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565B2-5833-47E9-A592-81541B542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36011-981A-4901-A56A-58230083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AA2DE-976D-4AF9-94C5-593BD121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2A58B-E276-4370-8161-508EC872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D7DEA-2CB8-4D4D-BE66-101F8209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3B36-3D61-4E1A-9241-2DB07185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4623A-51F6-4737-B520-E1E6A482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C8E4D-ECAA-452D-A1B1-D08236DA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2C1F3-92EA-4BE2-A879-C3A6BC59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B4004-E0DB-4F85-932F-472771FA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6A771-C99D-41E0-9F14-622C0F95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2B09D-4BE2-4E0B-97C1-141C44B1F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DB8F1-55E7-449E-A250-386A2279A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E2BA0B-4B58-4CBE-B630-3E1003EF4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54FBA6-1736-4901-8E70-1A294902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A1E58-8DA7-4439-B1FC-02764502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027" descr="D:\FRONTPAGE THEMES\ARTSY\ARTHSEPA.PNG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028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B902-4387-4F3D-8207-1C40B251876F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B870-CAE5-426D-9E72-DD1C6C5E2281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94F4-3C61-4605-A07D-76E9D56D75B0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7653-863C-44D5-9A7E-C8D8F791DDAF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7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8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9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7A53-9C57-426A-A87F-713510418692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0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41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42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4B54-36B1-44E0-8C1B-F814D45D3AE3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43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44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45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4D12-A1B6-4077-A513-E074A642463C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46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47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48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0AF2-7954-4726-A214-1C75D9FA0607}" type="slidenum">
              <a:rPr b="0" lang="zh-CN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1DC9-FDA4-43D2-A059-98D3179AFB4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B205-D730-4C5F-A1FA-902B03F9A0B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86" name="Picture 3" descr="D:\FRONTPAGE THEMES\ARTSY\ARTBANNA.PNG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4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4A3C-8666-4ACA-AD2B-E6C11029025A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A405-388F-410E-8FF4-6AB057B0EADA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5DBC-B024-4A4D-B76E-6BF4DFE43B5A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026E-9E95-4F87-BBA8-802CC6D875FE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61FE-DB70-4879-980F-3B7CBADCCBBF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8979-BBC8-4E22-8968-24CFBBC69399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6F89-7E23-478F-B558-7773B6E5EF90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5.png"/><Relationship Id="rId17" Type="http://schemas.openxmlformats.org/officeDocument/2006/relationships/image" Target="../media/image6.jpeg"/><Relationship Id="rId18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8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my.com.cn/image1.asp?img=images/1hk005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my.com.cn/image1.asp?img=images/1hk003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my.com.cn/image1.asp?img=images/1hk002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my.com.cn/image1.asp?img=images/1hk001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矩形 10"/>
          <p:cNvSpPr/>
          <p:nvPr/>
        </p:nvSpPr>
        <p:spPr>
          <a:xfrm>
            <a:off x="2637000" y="184464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63" name="矩形 5" descr=""/>
          <p:cNvPicPr/>
          <p:nvPr/>
        </p:nvPicPr>
        <p:blipFill>
          <a:blip r:embed="rId16"/>
          <a:stretch/>
        </p:blipFill>
        <p:spPr>
          <a:xfrm>
            <a:off x="398520" y="260280"/>
            <a:ext cx="6864120" cy="70164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4" descr="F:\ppt\705a\人教版四年级语文上册《秦兵马俑》PPT课件\48012_20130105222934513396_1 (1).jpg"/>
          <p:cNvPicPr/>
          <p:nvPr/>
        </p:nvPicPr>
        <p:blipFill>
          <a:blip r:embed="rId17"/>
          <a:srcRect l="0" t="3439" r="4832" b="0"/>
          <a:stretch/>
        </p:blipFill>
        <p:spPr>
          <a:xfrm>
            <a:off x="2627280" y="1700280"/>
            <a:ext cx="3313080" cy="4802040"/>
          </a:xfrm>
          <a:prstGeom prst="rect">
            <a:avLst/>
          </a:prstGeom>
          <a:ln w="0">
            <a:noFill/>
          </a:ln>
        </p:spPr>
      </p:pic>
      <p:sp>
        <p:nvSpPr>
          <p:cNvPr id="66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d4d4d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4d4d4d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将军俑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将军俑身材魁梧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头戴金冠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身披铠甲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手握宝剑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昂首挺胸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站在队伍前列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像是在指挥身后的军吏和士兵行进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那神态自若的样子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一看就知道是久经沙场、身负重任的高级将领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02" name="Picture 4" descr="yty23"/>
          <p:cNvPicPr/>
          <p:nvPr/>
        </p:nvPicPr>
        <p:blipFill>
          <a:blip r:embed="rId1"/>
          <a:stretch/>
        </p:blipFill>
        <p:spPr>
          <a:xfrm>
            <a:off x="5029200" y="1523880"/>
            <a:ext cx="1965240" cy="5334120"/>
          </a:xfrm>
          <a:prstGeom prst="rect">
            <a:avLst/>
          </a:prstGeom>
          <a:ln w="0">
            <a:noFill/>
          </a:ln>
        </p:spPr>
      </p:pic>
      <p:sp>
        <p:nvSpPr>
          <p:cNvPr id="703" name="AutoShape 5">
            <a:hlinkClick r:id="" action="ppaction://hlinkshowjump?jump=nextslide"/>
          </p:cNvPr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17806" y="13516"/>
                </a:lnTo>
                <a:lnTo>
                  <a:pt x="3794" y="20522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4" name="AutoShape 6">
            <a:hlinkClick r:id="" action="ppaction://hlinkshowjump?jump=lastslide"/>
          </p:cNvPr>
          <p:cNvSpPr/>
          <p:nvPr/>
        </p:nvSpPr>
        <p:spPr>
          <a:xfrm>
            <a:off x="8458200" y="6095880"/>
            <a:ext cx="228600" cy="38124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81240"/>
              <a:gd name="textAreaBottom" fmla="*/ 366480 h 381240"/>
            </a:gdLst>
            <a:ahLst/>
            <a:rect l="textAreaLeft" t="textAreaTop" r="textAreaRight" b="textAreaBottom"/>
            <a:pathLst>
              <a:path w="21600" h="36000">
                <a:moveTo>
                  <a:pt x="0" y="0"/>
                </a:moveTo>
                <a:lnTo>
                  <a:pt x="21600" y="0"/>
                </a:lnTo>
                <a:lnTo>
                  <a:pt x="21600" y="36000"/>
                </a:lnTo>
                <a:lnTo>
                  <a:pt x="0" y="36000"/>
                </a:lnTo>
                <a:close/>
              </a:path>
              <a:path fill="lightenLess" w="21600" h="36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6000">
                <a:moveTo>
                  <a:pt x="21600" y="0"/>
                </a:moveTo>
                <a:lnTo>
                  <a:pt x="21600" y="36000"/>
                </a:lnTo>
                <a:lnTo>
                  <a:pt x="20200" y="34600"/>
                </a:lnTo>
                <a:lnTo>
                  <a:pt x="20200" y="1400"/>
                </a:lnTo>
                <a:close/>
              </a:path>
              <a:path fill="darkenLess" w="21600" h="36000">
                <a:moveTo>
                  <a:pt x="21600" y="36000"/>
                </a:moveTo>
                <a:lnTo>
                  <a:pt x="0" y="36000"/>
                </a:lnTo>
                <a:lnTo>
                  <a:pt x="1400" y="34600"/>
                </a:lnTo>
                <a:lnTo>
                  <a:pt x="20200" y="34600"/>
                </a:lnTo>
                <a:close/>
              </a:path>
              <a:path fill="lighten" w="21600" h="36000">
                <a:moveTo>
                  <a:pt x="0" y="36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34600"/>
                </a:lnTo>
                <a:close/>
              </a:path>
              <a:path fill="darken" w="21600" h="36000">
                <a:moveTo>
                  <a:pt x="14299" y="18000"/>
                </a:moveTo>
                <a:lnTo>
                  <a:pt x="3794" y="25006"/>
                </a:lnTo>
                <a:lnTo>
                  <a:pt x="3794" y="10994"/>
                </a:lnTo>
                <a:close/>
              </a:path>
              <a:path fill="darken" w="21600" h="36000">
                <a:moveTo>
                  <a:pt x="16144" y="10994"/>
                </a:moveTo>
                <a:lnTo>
                  <a:pt x="16144" y="25006"/>
                </a:lnTo>
                <a:lnTo>
                  <a:pt x="17806" y="25006"/>
                </a:lnTo>
                <a:lnTo>
                  <a:pt x="17806" y="10994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5" name="AutoShape 7">
            <a:hlinkClick r:id="" action="ppaction://hlinkshowjump?jump=firstslide"/>
          </p:cNvPr>
          <p:cNvSpPr/>
          <p:nvPr/>
        </p:nvSpPr>
        <p:spPr>
          <a:xfrm>
            <a:off x="769608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10800" y="6537"/>
                </a:moveTo>
                <a:lnTo>
                  <a:pt x="13376" y="9148"/>
                </a:lnTo>
                <a:lnTo>
                  <a:pt x="13376" y="7407"/>
                </a:lnTo>
                <a:lnTo>
                  <a:pt x="15152" y="7407"/>
                </a:lnTo>
                <a:lnTo>
                  <a:pt x="15152" y="10924"/>
                </a:lnTo>
                <a:lnTo>
                  <a:pt x="17763" y="13500"/>
                </a:lnTo>
                <a:lnTo>
                  <a:pt x="16109" y="13500"/>
                </a:lnTo>
                <a:lnTo>
                  <a:pt x="16109" y="20689"/>
                </a:lnTo>
                <a:lnTo>
                  <a:pt x="5491" y="20689"/>
                </a:lnTo>
                <a:lnTo>
                  <a:pt x="5491" y="13500"/>
                </a:lnTo>
                <a:lnTo>
                  <a:pt x="3837" y="13500"/>
                </a:lnTo>
                <a:close/>
              </a:path>
              <a:path fill="darkenLess" w="21600" h="27000">
                <a:moveTo>
                  <a:pt x="13376" y="9148"/>
                </a:moveTo>
                <a:lnTo>
                  <a:pt x="13376" y="7407"/>
                </a:lnTo>
                <a:lnTo>
                  <a:pt x="15152" y="7407"/>
                </a:lnTo>
                <a:lnTo>
                  <a:pt x="15152" y="10924"/>
                </a:lnTo>
                <a:close/>
              </a:path>
              <a:path fill="darkenLess" w="21600" h="27000">
                <a:moveTo>
                  <a:pt x="9877" y="16999"/>
                </a:moveTo>
                <a:lnTo>
                  <a:pt x="11723" y="16999"/>
                </a:lnTo>
                <a:lnTo>
                  <a:pt x="11723" y="20689"/>
                </a:lnTo>
                <a:lnTo>
                  <a:pt x="16109" y="20689"/>
                </a:lnTo>
                <a:lnTo>
                  <a:pt x="16109" y="13500"/>
                </a:lnTo>
                <a:lnTo>
                  <a:pt x="5491" y="13500"/>
                </a:lnTo>
                <a:lnTo>
                  <a:pt x="5491" y="20689"/>
                </a:lnTo>
                <a:lnTo>
                  <a:pt x="9877" y="20689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武士俑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武士俑高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1.8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米左右，体格健壮，体态匀称。身上穿着战袍，套着铠甲，脚上蹬着前端向上翘起的战靴，头发一律挽成了偏向左侧的发髻。它们有的握着铜戈，有的擎着利剑，有的拿着盾牌。个个目光炯炯，双唇紧闭，神态严峻，好像一场大战就在眼前。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08" name="Picture 4" descr="E:\王志科\1\兵马俑图片\ety24.jpg"/>
          <p:cNvPicPr/>
          <p:nvPr/>
        </p:nvPicPr>
        <p:blipFill>
          <a:blip r:embed="rId1"/>
          <a:stretch/>
        </p:blipFill>
        <p:spPr>
          <a:xfrm>
            <a:off x="4876920" y="1676520"/>
            <a:ext cx="2555640" cy="5181480"/>
          </a:xfrm>
          <a:prstGeom prst="rect">
            <a:avLst/>
          </a:prstGeom>
          <a:ln w="0">
            <a:noFill/>
          </a:ln>
        </p:spPr>
      </p:pic>
      <p:sp>
        <p:nvSpPr>
          <p:cNvPr id="709" name="AutoShape 5">
            <a:hlinkClick r:id="" action="ppaction://hlinkshowjump?jump=nextslide"/>
          </p:cNvPr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17806" y="13516"/>
                </a:lnTo>
                <a:lnTo>
                  <a:pt x="3794" y="20522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0" name="AutoShape 6">
            <a:hlinkClick r:id="" action="ppaction://hlinkshowjump?jump=lastslide"/>
          </p:cNvPr>
          <p:cNvSpPr/>
          <p:nvPr/>
        </p:nvSpPr>
        <p:spPr>
          <a:xfrm>
            <a:off x="8458200" y="6095880"/>
            <a:ext cx="228600" cy="38124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81240"/>
              <a:gd name="textAreaBottom" fmla="*/ 366480 h 381240"/>
            </a:gdLst>
            <a:ahLst/>
            <a:rect l="textAreaLeft" t="textAreaTop" r="textAreaRight" b="textAreaBottom"/>
            <a:pathLst>
              <a:path w="21600" h="36000">
                <a:moveTo>
                  <a:pt x="0" y="0"/>
                </a:moveTo>
                <a:lnTo>
                  <a:pt x="21600" y="0"/>
                </a:lnTo>
                <a:lnTo>
                  <a:pt x="21600" y="36000"/>
                </a:lnTo>
                <a:lnTo>
                  <a:pt x="0" y="36000"/>
                </a:lnTo>
                <a:close/>
              </a:path>
              <a:path fill="lightenLess" w="21600" h="36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6000">
                <a:moveTo>
                  <a:pt x="21600" y="0"/>
                </a:moveTo>
                <a:lnTo>
                  <a:pt x="21600" y="36000"/>
                </a:lnTo>
                <a:lnTo>
                  <a:pt x="20200" y="34600"/>
                </a:lnTo>
                <a:lnTo>
                  <a:pt x="20200" y="1400"/>
                </a:lnTo>
                <a:close/>
              </a:path>
              <a:path fill="darkenLess" w="21600" h="36000">
                <a:moveTo>
                  <a:pt x="21600" y="36000"/>
                </a:moveTo>
                <a:lnTo>
                  <a:pt x="0" y="36000"/>
                </a:lnTo>
                <a:lnTo>
                  <a:pt x="1400" y="34600"/>
                </a:lnTo>
                <a:lnTo>
                  <a:pt x="20200" y="34600"/>
                </a:lnTo>
                <a:close/>
              </a:path>
              <a:path fill="lighten" w="21600" h="36000">
                <a:moveTo>
                  <a:pt x="0" y="36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34600"/>
                </a:lnTo>
                <a:close/>
              </a:path>
              <a:path fill="darken" w="21600" h="36000">
                <a:moveTo>
                  <a:pt x="14299" y="18000"/>
                </a:moveTo>
                <a:lnTo>
                  <a:pt x="3794" y="25006"/>
                </a:lnTo>
                <a:lnTo>
                  <a:pt x="3794" y="10994"/>
                </a:lnTo>
                <a:close/>
              </a:path>
              <a:path fill="darken" w="21600" h="36000">
                <a:moveTo>
                  <a:pt x="16144" y="10994"/>
                </a:moveTo>
                <a:lnTo>
                  <a:pt x="16144" y="25006"/>
                </a:lnTo>
                <a:lnTo>
                  <a:pt x="17806" y="25006"/>
                </a:lnTo>
                <a:lnTo>
                  <a:pt x="17806" y="10994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1" name="AutoShape 7">
            <a:hlinkClick r:id="" action="ppaction://hlinkshowjump?jump=firstslide"/>
          </p:cNvPr>
          <p:cNvSpPr/>
          <p:nvPr/>
        </p:nvSpPr>
        <p:spPr>
          <a:xfrm>
            <a:off x="769608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10800" y="6537"/>
                </a:moveTo>
                <a:lnTo>
                  <a:pt x="13376" y="9148"/>
                </a:lnTo>
                <a:lnTo>
                  <a:pt x="13376" y="7407"/>
                </a:lnTo>
                <a:lnTo>
                  <a:pt x="15152" y="7407"/>
                </a:lnTo>
                <a:lnTo>
                  <a:pt x="15152" y="10924"/>
                </a:lnTo>
                <a:lnTo>
                  <a:pt x="17763" y="13500"/>
                </a:lnTo>
                <a:lnTo>
                  <a:pt x="16109" y="13500"/>
                </a:lnTo>
                <a:lnTo>
                  <a:pt x="16109" y="20689"/>
                </a:lnTo>
                <a:lnTo>
                  <a:pt x="5491" y="20689"/>
                </a:lnTo>
                <a:lnTo>
                  <a:pt x="5491" y="13500"/>
                </a:lnTo>
                <a:lnTo>
                  <a:pt x="3837" y="13500"/>
                </a:lnTo>
                <a:close/>
              </a:path>
              <a:path fill="darkenLess" w="21600" h="27000">
                <a:moveTo>
                  <a:pt x="13376" y="9148"/>
                </a:moveTo>
                <a:lnTo>
                  <a:pt x="13376" y="7407"/>
                </a:lnTo>
                <a:lnTo>
                  <a:pt x="15152" y="7407"/>
                </a:lnTo>
                <a:lnTo>
                  <a:pt x="15152" y="10924"/>
                </a:lnTo>
                <a:close/>
              </a:path>
              <a:path fill="darkenLess" w="21600" h="27000">
                <a:moveTo>
                  <a:pt x="9877" y="16999"/>
                </a:moveTo>
                <a:lnTo>
                  <a:pt x="11723" y="16999"/>
                </a:lnTo>
                <a:lnTo>
                  <a:pt x="11723" y="20689"/>
                </a:lnTo>
                <a:lnTo>
                  <a:pt x="16109" y="20689"/>
                </a:lnTo>
                <a:lnTo>
                  <a:pt x="16109" y="13500"/>
                </a:lnTo>
                <a:lnTo>
                  <a:pt x="5491" y="13500"/>
                </a:lnTo>
                <a:lnTo>
                  <a:pt x="5491" y="20689"/>
                </a:lnTo>
                <a:lnTo>
                  <a:pt x="9877" y="20689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骑兵俑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2971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骑兵俑上身着短甲，下身着紧口裤，足蹬长统马靴，右手执缰绳，左手持弓箭，随时准备上马冲杀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14" name="Picture 4" descr="E:\王志科\1\兵马俑图片\ety25.jpg"/>
          <p:cNvPicPr/>
          <p:nvPr/>
        </p:nvPicPr>
        <p:blipFill>
          <a:blip r:embed="rId1"/>
          <a:stretch/>
        </p:blipFill>
        <p:spPr>
          <a:xfrm>
            <a:off x="4038480" y="1676520"/>
            <a:ext cx="5105520" cy="4873680"/>
          </a:xfrm>
          <a:prstGeom prst="rect">
            <a:avLst/>
          </a:prstGeom>
          <a:ln w="0">
            <a:noFill/>
          </a:ln>
        </p:spPr>
      </p:pic>
      <p:sp>
        <p:nvSpPr>
          <p:cNvPr id="715" name="AutoShape 5">
            <a:hlinkClick r:id="" action="ppaction://hlinkshowjump?jump=nextslide"/>
          </p:cNvPr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17806" y="13516"/>
                </a:lnTo>
                <a:lnTo>
                  <a:pt x="3794" y="20522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6" name="AutoShape 6">
            <a:hlinkClick r:id="" action="ppaction://hlinkshowjump?jump=lastslide"/>
          </p:cNvPr>
          <p:cNvSpPr/>
          <p:nvPr/>
        </p:nvSpPr>
        <p:spPr>
          <a:xfrm>
            <a:off x="8458200" y="6095880"/>
            <a:ext cx="228600" cy="38124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81240"/>
              <a:gd name="textAreaBottom" fmla="*/ 366480 h 381240"/>
            </a:gdLst>
            <a:ahLst/>
            <a:rect l="textAreaLeft" t="textAreaTop" r="textAreaRight" b="textAreaBottom"/>
            <a:pathLst>
              <a:path w="21600" h="36000">
                <a:moveTo>
                  <a:pt x="0" y="0"/>
                </a:moveTo>
                <a:lnTo>
                  <a:pt x="21600" y="0"/>
                </a:lnTo>
                <a:lnTo>
                  <a:pt x="21600" y="36000"/>
                </a:lnTo>
                <a:lnTo>
                  <a:pt x="0" y="36000"/>
                </a:lnTo>
                <a:close/>
              </a:path>
              <a:path fill="lightenLess" w="21600" h="36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6000">
                <a:moveTo>
                  <a:pt x="21600" y="0"/>
                </a:moveTo>
                <a:lnTo>
                  <a:pt x="21600" y="36000"/>
                </a:lnTo>
                <a:lnTo>
                  <a:pt x="20200" y="34600"/>
                </a:lnTo>
                <a:lnTo>
                  <a:pt x="20200" y="1400"/>
                </a:lnTo>
                <a:close/>
              </a:path>
              <a:path fill="darkenLess" w="21600" h="36000">
                <a:moveTo>
                  <a:pt x="21600" y="36000"/>
                </a:moveTo>
                <a:lnTo>
                  <a:pt x="0" y="36000"/>
                </a:lnTo>
                <a:lnTo>
                  <a:pt x="1400" y="34600"/>
                </a:lnTo>
                <a:lnTo>
                  <a:pt x="20200" y="34600"/>
                </a:lnTo>
                <a:close/>
              </a:path>
              <a:path fill="lighten" w="21600" h="36000">
                <a:moveTo>
                  <a:pt x="0" y="36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34600"/>
                </a:lnTo>
                <a:close/>
              </a:path>
              <a:path fill="darken" w="21600" h="36000">
                <a:moveTo>
                  <a:pt x="14299" y="18000"/>
                </a:moveTo>
                <a:lnTo>
                  <a:pt x="3794" y="25006"/>
                </a:lnTo>
                <a:lnTo>
                  <a:pt x="3794" y="10994"/>
                </a:lnTo>
                <a:close/>
              </a:path>
              <a:path fill="darken" w="21600" h="36000">
                <a:moveTo>
                  <a:pt x="16144" y="10994"/>
                </a:moveTo>
                <a:lnTo>
                  <a:pt x="16144" y="25006"/>
                </a:lnTo>
                <a:lnTo>
                  <a:pt x="17806" y="25006"/>
                </a:lnTo>
                <a:lnTo>
                  <a:pt x="17806" y="10994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7" name="AutoShape 7">
            <a:hlinkClick r:id="" action="ppaction://hlinkshowjump?jump=firstslide"/>
          </p:cNvPr>
          <p:cNvSpPr/>
          <p:nvPr/>
        </p:nvSpPr>
        <p:spPr>
          <a:xfrm>
            <a:off x="769608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10800" y="6537"/>
                </a:moveTo>
                <a:lnTo>
                  <a:pt x="13376" y="9148"/>
                </a:lnTo>
                <a:lnTo>
                  <a:pt x="13376" y="7407"/>
                </a:lnTo>
                <a:lnTo>
                  <a:pt x="15152" y="7407"/>
                </a:lnTo>
                <a:lnTo>
                  <a:pt x="15152" y="10924"/>
                </a:lnTo>
                <a:lnTo>
                  <a:pt x="17763" y="13500"/>
                </a:lnTo>
                <a:lnTo>
                  <a:pt x="16109" y="13500"/>
                </a:lnTo>
                <a:lnTo>
                  <a:pt x="16109" y="20689"/>
                </a:lnTo>
                <a:lnTo>
                  <a:pt x="5491" y="20689"/>
                </a:lnTo>
                <a:lnTo>
                  <a:pt x="5491" y="13500"/>
                </a:lnTo>
                <a:lnTo>
                  <a:pt x="3837" y="13500"/>
                </a:lnTo>
                <a:close/>
              </a:path>
              <a:path fill="darkenLess" w="21600" h="27000">
                <a:moveTo>
                  <a:pt x="13376" y="9148"/>
                </a:moveTo>
                <a:lnTo>
                  <a:pt x="13376" y="7407"/>
                </a:lnTo>
                <a:lnTo>
                  <a:pt x="15152" y="7407"/>
                </a:lnTo>
                <a:lnTo>
                  <a:pt x="15152" y="10924"/>
                </a:lnTo>
                <a:close/>
              </a:path>
              <a:path fill="darkenLess" w="21600" h="27000">
                <a:moveTo>
                  <a:pt x="9877" y="16999"/>
                </a:moveTo>
                <a:lnTo>
                  <a:pt x="11723" y="16999"/>
                </a:lnTo>
                <a:lnTo>
                  <a:pt x="11723" y="20689"/>
                </a:lnTo>
                <a:lnTo>
                  <a:pt x="16109" y="20689"/>
                </a:lnTo>
                <a:lnTo>
                  <a:pt x="16109" y="13500"/>
                </a:lnTo>
                <a:lnTo>
                  <a:pt x="5491" y="13500"/>
                </a:lnTo>
                <a:lnTo>
                  <a:pt x="5491" y="20689"/>
                </a:lnTo>
                <a:lnTo>
                  <a:pt x="9877" y="20689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2" descr="ety27"/>
          <p:cNvPicPr/>
          <p:nvPr/>
        </p:nvPicPr>
        <p:blipFill>
          <a:blip r:embed="rId1"/>
          <a:stretch/>
        </p:blipFill>
        <p:spPr>
          <a:xfrm>
            <a:off x="6227640" y="2781360"/>
            <a:ext cx="959040" cy="2514600"/>
          </a:xfrm>
          <a:prstGeom prst="rect">
            <a:avLst/>
          </a:prstGeom>
          <a:ln w="0">
            <a:noFill/>
          </a:ln>
        </p:spPr>
      </p:pic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车兵俑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225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车兵俑则分为驭手和军士，驭手居中而立，驾驭着战车，军士分列在战车两侧，保护着驭手。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21" name="Picture 5" descr="tcm2"/>
          <p:cNvPicPr/>
          <p:nvPr/>
        </p:nvPicPr>
        <p:blipFill>
          <a:blip r:embed="rId2"/>
          <a:stretch/>
        </p:blipFill>
        <p:spPr>
          <a:xfrm>
            <a:off x="3419640" y="2276640"/>
            <a:ext cx="5486400" cy="3549600"/>
          </a:xfrm>
          <a:prstGeom prst="rect">
            <a:avLst/>
          </a:prstGeom>
          <a:ln w="0">
            <a:noFill/>
          </a:ln>
        </p:spPr>
      </p:pic>
      <p:sp>
        <p:nvSpPr>
          <p:cNvPr id="722" name="AutoShape 6">
            <a:hlinkClick r:id="" action="ppaction://hlinkshowjump?jump=nextslide"/>
          </p:cNvPr>
          <p:cNvSpPr/>
          <p:nvPr/>
        </p:nvSpPr>
        <p:spPr>
          <a:xfrm>
            <a:off x="8305920" y="62485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3" name="AutoShape 7">
            <a:hlinkClick r:id="" action="ppaction://hlinkshowjump?jump=lastslide"/>
          </p:cNvPr>
          <p:cNvSpPr/>
          <p:nvPr/>
        </p:nvSpPr>
        <p:spPr>
          <a:xfrm>
            <a:off x="8686800" y="6248520"/>
            <a:ext cx="228600" cy="38088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80880"/>
              <a:gd name="textAreaBottom" fmla="*/ 366120 h 380880"/>
            </a:gdLst>
            <a:ahLst/>
            <a:rect l="textAreaLeft" t="textAreaTop" r="textAreaRight" b="textAreaBottom"/>
            <a:pathLst>
              <a:path w="21600" h="35966">
                <a:moveTo>
                  <a:pt x="0" y="0"/>
                </a:moveTo>
                <a:lnTo>
                  <a:pt x="21600" y="0"/>
                </a:lnTo>
                <a:lnTo>
                  <a:pt x="21600" y="35966"/>
                </a:lnTo>
                <a:lnTo>
                  <a:pt x="0" y="35966"/>
                </a:lnTo>
                <a:close/>
              </a:path>
              <a:path fill="lightenLess" w="21600" h="359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66">
                <a:moveTo>
                  <a:pt x="21600" y="0"/>
                </a:moveTo>
                <a:lnTo>
                  <a:pt x="21600" y="35966"/>
                </a:lnTo>
                <a:lnTo>
                  <a:pt x="20200" y="34566"/>
                </a:lnTo>
                <a:lnTo>
                  <a:pt x="20200" y="1400"/>
                </a:lnTo>
                <a:close/>
              </a:path>
              <a:path fill="darkenLess" w="21600" h="35966">
                <a:moveTo>
                  <a:pt x="21600" y="35966"/>
                </a:moveTo>
                <a:lnTo>
                  <a:pt x="0" y="35966"/>
                </a:lnTo>
                <a:lnTo>
                  <a:pt x="1400" y="34566"/>
                </a:lnTo>
                <a:lnTo>
                  <a:pt x="20200" y="34566"/>
                </a:lnTo>
                <a:close/>
              </a:path>
              <a:path fill="lighten" w="21600" h="35966">
                <a:moveTo>
                  <a:pt x="0" y="35966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66"/>
                </a:lnTo>
                <a:close/>
              </a:path>
              <a:path fill="darken" w="21600" h="35966">
                <a:moveTo>
                  <a:pt x="14299" y="17983"/>
                </a:moveTo>
                <a:lnTo>
                  <a:pt x="3794" y="24990"/>
                </a:lnTo>
                <a:lnTo>
                  <a:pt x="3794" y="10977"/>
                </a:lnTo>
                <a:close/>
              </a:path>
              <a:path fill="darken" w="21600" h="35966">
                <a:moveTo>
                  <a:pt x="16144" y="10977"/>
                </a:moveTo>
                <a:lnTo>
                  <a:pt x="16144" y="24990"/>
                </a:lnTo>
                <a:lnTo>
                  <a:pt x="17806" y="24990"/>
                </a:lnTo>
                <a:lnTo>
                  <a:pt x="17806" y="10977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4" name="AutoShape 8">
            <a:hlinkClick r:id="" action="ppaction://hlinkshowjump?jump=firstslide"/>
          </p:cNvPr>
          <p:cNvSpPr/>
          <p:nvPr/>
        </p:nvSpPr>
        <p:spPr>
          <a:xfrm>
            <a:off x="7924680" y="62485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10800" y="6524"/>
                </a:moveTo>
                <a:lnTo>
                  <a:pt x="13376" y="9135"/>
                </a:lnTo>
                <a:lnTo>
                  <a:pt x="13376" y="7395"/>
                </a:lnTo>
                <a:lnTo>
                  <a:pt x="15152" y="7395"/>
                </a:lnTo>
                <a:lnTo>
                  <a:pt x="15152" y="10911"/>
                </a:lnTo>
                <a:lnTo>
                  <a:pt x="17763" y="13487"/>
                </a:lnTo>
                <a:lnTo>
                  <a:pt x="16109" y="13487"/>
                </a:lnTo>
                <a:lnTo>
                  <a:pt x="16109" y="20677"/>
                </a:lnTo>
                <a:lnTo>
                  <a:pt x="5491" y="20677"/>
                </a:lnTo>
                <a:lnTo>
                  <a:pt x="5491" y="13487"/>
                </a:lnTo>
                <a:lnTo>
                  <a:pt x="3837" y="13487"/>
                </a:lnTo>
                <a:close/>
              </a:path>
              <a:path fill="darkenLess" w="21600" h="26975">
                <a:moveTo>
                  <a:pt x="13376" y="9135"/>
                </a:moveTo>
                <a:lnTo>
                  <a:pt x="13376" y="7395"/>
                </a:lnTo>
                <a:lnTo>
                  <a:pt x="15152" y="7395"/>
                </a:lnTo>
                <a:lnTo>
                  <a:pt x="15152" y="10911"/>
                </a:lnTo>
                <a:close/>
              </a:path>
              <a:path fill="darkenLess" w="21600" h="26975">
                <a:moveTo>
                  <a:pt x="9877" y="16986"/>
                </a:moveTo>
                <a:lnTo>
                  <a:pt x="11723" y="16986"/>
                </a:lnTo>
                <a:lnTo>
                  <a:pt x="11723" y="20677"/>
                </a:lnTo>
                <a:lnTo>
                  <a:pt x="16109" y="20677"/>
                </a:lnTo>
                <a:lnTo>
                  <a:pt x="16109" y="13487"/>
                </a:lnTo>
                <a:lnTo>
                  <a:pt x="5491" y="13487"/>
                </a:lnTo>
                <a:lnTo>
                  <a:pt x="5491" y="20677"/>
                </a:lnTo>
                <a:lnTo>
                  <a:pt x="9877" y="20677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25" name="Picture 9" descr="ety27"/>
          <p:cNvPicPr/>
          <p:nvPr/>
        </p:nvPicPr>
        <p:blipFill>
          <a:blip r:embed="rId3"/>
          <a:stretch/>
        </p:blipFill>
        <p:spPr>
          <a:xfrm>
            <a:off x="7596360" y="3068640"/>
            <a:ext cx="958680" cy="2514600"/>
          </a:xfrm>
          <a:prstGeom prst="rect">
            <a:avLst/>
          </a:prstGeom>
          <a:ln w="0">
            <a:noFill/>
          </a:ln>
        </p:spPr>
      </p:pic>
      <p:sp>
        <p:nvSpPr>
          <p:cNvPr id="726" name="文本框 8194"/>
          <p:cNvSpPr/>
          <p:nvPr/>
        </p:nvSpPr>
        <p:spPr>
          <a:xfrm>
            <a:off x="971640" y="333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cc6600"/>
                </a:solidFill>
                <a:uFillTx/>
                <a:latin typeface="Arial"/>
                <a:hlinkClick r:id="rId4"/>
              </a:rPr>
              <a:t>免费ppt模板</a:t>
            </a:r>
            <a:r>
              <a:rPr b="0" lang="zh-CN" sz="1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弓弩手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31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弓弩手个个张弓搭箭，两眼盯着前方，或立，或跪，随时准备将利箭射出去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29" name="Picture 4" descr="E:\王志科\1\兵马俑图片\ety2.jpg"/>
          <p:cNvPicPr/>
          <p:nvPr/>
        </p:nvPicPr>
        <p:blipFill>
          <a:blip r:embed="rId1"/>
          <a:stretch/>
        </p:blipFill>
        <p:spPr>
          <a:xfrm>
            <a:off x="6431040" y="457200"/>
            <a:ext cx="2712960" cy="609588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5" descr="E:\王志科\1\兵马俑图片\ety1.jpg"/>
          <p:cNvPicPr/>
          <p:nvPr/>
        </p:nvPicPr>
        <p:blipFill>
          <a:blip r:embed="rId2"/>
          <a:stretch/>
        </p:blipFill>
        <p:spPr>
          <a:xfrm>
            <a:off x="3809880" y="1752480"/>
            <a:ext cx="2544840" cy="4648320"/>
          </a:xfrm>
          <a:prstGeom prst="rect">
            <a:avLst/>
          </a:prstGeom>
          <a:ln w="0">
            <a:noFill/>
          </a:ln>
        </p:spPr>
      </p:pic>
      <p:sp>
        <p:nvSpPr>
          <p:cNvPr id="731" name="AutoShape 6">
            <a:hlinkClick r:id="" action="ppaction://hlinkshowjump?jump=nextslide"/>
          </p:cNvPr>
          <p:cNvSpPr/>
          <p:nvPr/>
        </p:nvSpPr>
        <p:spPr>
          <a:xfrm>
            <a:off x="8305920" y="6095880"/>
            <a:ext cx="304560" cy="45720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57200"/>
              <a:gd name="textAreaBottom" fmla="*/ 437760 h 457200"/>
            </a:gdLst>
            <a:ahLst/>
            <a:rect l="textAreaLeft" t="textAreaTop" r="textAreaRight" b="textAreaBottom"/>
            <a:pathLst>
              <a:path w="21600" h="32413">
                <a:moveTo>
                  <a:pt x="0" y="0"/>
                </a:moveTo>
                <a:lnTo>
                  <a:pt x="21600" y="0"/>
                </a:lnTo>
                <a:lnTo>
                  <a:pt x="21600" y="32413"/>
                </a:lnTo>
                <a:lnTo>
                  <a:pt x="0" y="32413"/>
                </a:lnTo>
                <a:close/>
              </a:path>
              <a:path fill="lightenLess" w="21600" h="324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413">
                <a:moveTo>
                  <a:pt x="21600" y="0"/>
                </a:moveTo>
                <a:lnTo>
                  <a:pt x="21600" y="32413"/>
                </a:lnTo>
                <a:lnTo>
                  <a:pt x="20200" y="31013"/>
                </a:lnTo>
                <a:lnTo>
                  <a:pt x="20200" y="1400"/>
                </a:lnTo>
                <a:close/>
              </a:path>
              <a:path fill="darkenLess" w="21600" h="32413">
                <a:moveTo>
                  <a:pt x="21600" y="32413"/>
                </a:moveTo>
                <a:lnTo>
                  <a:pt x="0" y="32413"/>
                </a:lnTo>
                <a:lnTo>
                  <a:pt x="1400" y="31013"/>
                </a:lnTo>
                <a:lnTo>
                  <a:pt x="20200" y="31013"/>
                </a:lnTo>
                <a:close/>
              </a:path>
              <a:path fill="lighten" w="21600" h="32413">
                <a:moveTo>
                  <a:pt x="0" y="32413"/>
                </a:moveTo>
                <a:lnTo>
                  <a:pt x="0" y="0"/>
                </a:lnTo>
                <a:lnTo>
                  <a:pt x="1400" y="1400"/>
                </a:lnTo>
                <a:lnTo>
                  <a:pt x="1400" y="31013"/>
                </a:lnTo>
                <a:close/>
              </a:path>
              <a:path fill="darken" w="21600" h="32413">
                <a:moveTo>
                  <a:pt x="3794" y="9200"/>
                </a:moveTo>
                <a:lnTo>
                  <a:pt x="17806" y="16206"/>
                </a:lnTo>
                <a:lnTo>
                  <a:pt x="3794" y="23213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2" name="AutoShape 7">
            <a:hlinkClick r:id="" action="ppaction://hlinkshowjump?jump=lastslide"/>
          </p:cNvPr>
          <p:cNvSpPr/>
          <p:nvPr/>
        </p:nvSpPr>
        <p:spPr>
          <a:xfrm>
            <a:off x="8686800" y="6172200"/>
            <a:ext cx="228600" cy="38088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80880"/>
              <a:gd name="textAreaBottom" fmla="*/ 366120 h 380880"/>
            </a:gdLst>
            <a:ahLst/>
            <a:rect l="textAreaLeft" t="textAreaTop" r="textAreaRight" b="textAreaBottom"/>
            <a:pathLst>
              <a:path w="21600" h="35966">
                <a:moveTo>
                  <a:pt x="0" y="0"/>
                </a:moveTo>
                <a:lnTo>
                  <a:pt x="21600" y="0"/>
                </a:lnTo>
                <a:lnTo>
                  <a:pt x="21600" y="35966"/>
                </a:lnTo>
                <a:lnTo>
                  <a:pt x="0" y="35966"/>
                </a:lnTo>
                <a:close/>
              </a:path>
              <a:path fill="lightenLess" w="21600" h="359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66">
                <a:moveTo>
                  <a:pt x="21600" y="0"/>
                </a:moveTo>
                <a:lnTo>
                  <a:pt x="21600" y="35966"/>
                </a:lnTo>
                <a:lnTo>
                  <a:pt x="20200" y="34566"/>
                </a:lnTo>
                <a:lnTo>
                  <a:pt x="20200" y="1400"/>
                </a:lnTo>
                <a:close/>
              </a:path>
              <a:path fill="darkenLess" w="21600" h="35966">
                <a:moveTo>
                  <a:pt x="21600" y="35966"/>
                </a:moveTo>
                <a:lnTo>
                  <a:pt x="0" y="35966"/>
                </a:lnTo>
                <a:lnTo>
                  <a:pt x="1400" y="34566"/>
                </a:lnTo>
                <a:lnTo>
                  <a:pt x="20200" y="34566"/>
                </a:lnTo>
                <a:close/>
              </a:path>
              <a:path fill="lighten" w="21600" h="35966">
                <a:moveTo>
                  <a:pt x="0" y="35966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66"/>
                </a:lnTo>
                <a:close/>
              </a:path>
              <a:path fill="darken" w="21600" h="35966">
                <a:moveTo>
                  <a:pt x="14299" y="17983"/>
                </a:moveTo>
                <a:lnTo>
                  <a:pt x="3794" y="24990"/>
                </a:lnTo>
                <a:lnTo>
                  <a:pt x="3794" y="10977"/>
                </a:lnTo>
                <a:close/>
              </a:path>
              <a:path fill="darken" w="21600" h="35966">
                <a:moveTo>
                  <a:pt x="16144" y="10977"/>
                </a:moveTo>
                <a:lnTo>
                  <a:pt x="16144" y="24990"/>
                </a:lnTo>
                <a:lnTo>
                  <a:pt x="17806" y="24990"/>
                </a:lnTo>
                <a:lnTo>
                  <a:pt x="17806" y="10977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3" name="AutoShape 8">
            <a:hlinkClick r:id="" action="ppaction://hlinkshowjump?jump=firstslide"/>
          </p:cNvPr>
          <p:cNvSpPr/>
          <p:nvPr/>
        </p:nvSpPr>
        <p:spPr>
          <a:xfrm>
            <a:off x="7924680" y="61722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10800" y="6524"/>
                </a:moveTo>
                <a:lnTo>
                  <a:pt x="13376" y="9135"/>
                </a:lnTo>
                <a:lnTo>
                  <a:pt x="13376" y="7395"/>
                </a:lnTo>
                <a:lnTo>
                  <a:pt x="15152" y="7395"/>
                </a:lnTo>
                <a:lnTo>
                  <a:pt x="15152" y="10911"/>
                </a:lnTo>
                <a:lnTo>
                  <a:pt x="17763" y="13487"/>
                </a:lnTo>
                <a:lnTo>
                  <a:pt x="16109" y="13487"/>
                </a:lnTo>
                <a:lnTo>
                  <a:pt x="16109" y="20677"/>
                </a:lnTo>
                <a:lnTo>
                  <a:pt x="5491" y="20677"/>
                </a:lnTo>
                <a:lnTo>
                  <a:pt x="5491" y="13487"/>
                </a:lnTo>
                <a:lnTo>
                  <a:pt x="3837" y="13487"/>
                </a:lnTo>
                <a:close/>
              </a:path>
              <a:path fill="darkenLess" w="21600" h="26975">
                <a:moveTo>
                  <a:pt x="13376" y="9135"/>
                </a:moveTo>
                <a:lnTo>
                  <a:pt x="13376" y="7395"/>
                </a:lnTo>
                <a:lnTo>
                  <a:pt x="15152" y="7395"/>
                </a:lnTo>
                <a:lnTo>
                  <a:pt x="15152" y="10911"/>
                </a:lnTo>
                <a:close/>
              </a:path>
              <a:path fill="darkenLess" w="21600" h="26975">
                <a:moveTo>
                  <a:pt x="9877" y="16986"/>
                </a:moveTo>
                <a:lnTo>
                  <a:pt x="11723" y="16986"/>
                </a:lnTo>
                <a:lnTo>
                  <a:pt x="11723" y="20677"/>
                </a:lnTo>
                <a:lnTo>
                  <a:pt x="16109" y="20677"/>
                </a:lnTo>
                <a:lnTo>
                  <a:pt x="16109" y="13487"/>
                </a:lnTo>
                <a:lnTo>
                  <a:pt x="5491" y="13487"/>
                </a:lnTo>
                <a:lnTo>
                  <a:pt x="5491" y="20677"/>
                </a:lnTo>
                <a:lnTo>
                  <a:pt x="9877" y="20677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马俑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225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马俑与真马一般大小，一匹匹形体健壮，肌肉丰满。那跃跃欲试的样子，好像一声令下，就会撒开四蹄，腾空而起，踏上征程。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36" name="Picture 4" descr="E:\王志科\1\兵马俑图片\马.jpg"/>
          <p:cNvPicPr/>
          <p:nvPr/>
        </p:nvPicPr>
        <p:blipFill>
          <a:blip r:embed="rId1"/>
          <a:stretch/>
        </p:blipFill>
        <p:spPr>
          <a:xfrm>
            <a:off x="3200400" y="1933560"/>
            <a:ext cx="5943600" cy="4567320"/>
          </a:xfrm>
          <a:prstGeom prst="rect">
            <a:avLst/>
          </a:prstGeom>
          <a:ln w="0">
            <a:noFill/>
          </a:ln>
        </p:spPr>
      </p:pic>
      <p:sp>
        <p:nvSpPr>
          <p:cNvPr id="737" name="AutoShape 5">
            <a:hlinkClick r:id="" action="ppaction://hlinkshowjump?jump=nextslide"/>
          </p:cNvPr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17806" y="13516"/>
                </a:lnTo>
                <a:lnTo>
                  <a:pt x="3794" y="20522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8" name="AutoShape 6">
            <a:hlinkClick r:id="" action="ppaction://hlinkshowjump?jump=lastslide"/>
          </p:cNvPr>
          <p:cNvSpPr/>
          <p:nvPr/>
        </p:nvSpPr>
        <p:spPr>
          <a:xfrm>
            <a:off x="8458200" y="6095880"/>
            <a:ext cx="228600" cy="38124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81240"/>
              <a:gd name="textAreaBottom" fmla="*/ 366480 h 381240"/>
            </a:gdLst>
            <a:ahLst/>
            <a:rect l="textAreaLeft" t="textAreaTop" r="textAreaRight" b="textAreaBottom"/>
            <a:pathLst>
              <a:path w="21600" h="36000">
                <a:moveTo>
                  <a:pt x="0" y="0"/>
                </a:moveTo>
                <a:lnTo>
                  <a:pt x="21600" y="0"/>
                </a:lnTo>
                <a:lnTo>
                  <a:pt x="21600" y="36000"/>
                </a:lnTo>
                <a:lnTo>
                  <a:pt x="0" y="36000"/>
                </a:lnTo>
                <a:close/>
              </a:path>
              <a:path fill="lightenLess" w="21600" h="36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6000">
                <a:moveTo>
                  <a:pt x="21600" y="0"/>
                </a:moveTo>
                <a:lnTo>
                  <a:pt x="21600" y="36000"/>
                </a:lnTo>
                <a:lnTo>
                  <a:pt x="20200" y="34600"/>
                </a:lnTo>
                <a:lnTo>
                  <a:pt x="20200" y="1400"/>
                </a:lnTo>
                <a:close/>
              </a:path>
              <a:path fill="darkenLess" w="21600" h="36000">
                <a:moveTo>
                  <a:pt x="21600" y="36000"/>
                </a:moveTo>
                <a:lnTo>
                  <a:pt x="0" y="36000"/>
                </a:lnTo>
                <a:lnTo>
                  <a:pt x="1400" y="34600"/>
                </a:lnTo>
                <a:lnTo>
                  <a:pt x="20200" y="34600"/>
                </a:lnTo>
                <a:close/>
              </a:path>
              <a:path fill="lighten" w="21600" h="36000">
                <a:moveTo>
                  <a:pt x="0" y="36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34600"/>
                </a:lnTo>
                <a:close/>
              </a:path>
              <a:path fill="darken" w="21600" h="36000">
                <a:moveTo>
                  <a:pt x="14299" y="18000"/>
                </a:moveTo>
                <a:lnTo>
                  <a:pt x="3794" y="25006"/>
                </a:lnTo>
                <a:lnTo>
                  <a:pt x="3794" y="10994"/>
                </a:lnTo>
                <a:close/>
              </a:path>
              <a:path fill="darken" w="21600" h="36000">
                <a:moveTo>
                  <a:pt x="16144" y="10994"/>
                </a:moveTo>
                <a:lnTo>
                  <a:pt x="16144" y="25006"/>
                </a:lnTo>
                <a:lnTo>
                  <a:pt x="17806" y="25006"/>
                </a:lnTo>
                <a:lnTo>
                  <a:pt x="17806" y="10994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9" name="AutoShape 7">
            <a:hlinkClick r:id="" action="ppaction://hlinkshowjump?jump=firstslide"/>
          </p:cNvPr>
          <p:cNvSpPr/>
          <p:nvPr/>
        </p:nvSpPr>
        <p:spPr>
          <a:xfrm>
            <a:off x="769608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10800" y="6537"/>
                </a:moveTo>
                <a:lnTo>
                  <a:pt x="13376" y="9148"/>
                </a:lnTo>
                <a:lnTo>
                  <a:pt x="13376" y="7407"/>
                </a:lnTo>
                <a:lnTo>
                  <a:pt x="15152" y="7407"/>
                </a:lnTo>
                <a:lnTo>
                  <a:pt x="15152" y="10924"/>
                </a:lnTo>
                <a:lnTo>
                  <a:pt x="17763" y="13500"/>
                </a:lnTo>
                <a:lnTo>
                  <a:pt x="16109" y="13500"/>
                </a:lnTo>
                <a:lnTo>
                  <a:pt x="16109" y="20689"/>
                </a:lnTo>
                <a:lnTo>
                  <a:pt x="5491" y="20689"/>
                </a:lnTo>
                <a:lnTo>
                  <a:pt x="5491" y="13500"/>
                </a:lnTo>
                <a:lnTo>
                  <a:pt x="3837" y="13500"/>
                </a:lnTo>
                <a:close/>
              </a:path>
              <a:path fill="darkenLess" w="21600" h="27000">
                <a:moveTo>
                  <a:pt x="13376" y="9148"/>
                </a:moveTo>
                <a:lnTo>
                  <a:pt x="13376" y="7407"/>
                </a:lnTo>
                <a:lnTo>
                  <a:pt x="15152" y="7407"/>
                </a:lnTo>
                <a:lnTo>
                  <a:pt x="15152" y="10924"/>
                </a:lnTo>
                <a:close/>
              </a:path>
              <a:path fill="darkenLess" w="21600" h="27000">
                <a:moveTo>
                  <a:pt x="9877" y="16999"/>
                </a:moveTo>
                <a:lnTo>
                  <a:pt x="11723" y="16999"/>
                </a:lnTo>
                <a:lnTo>
                  <a:pt x="11723" y="20689"/>
                </a:lnTo>
                <a:lnTo>
                  <a:pt x="16109" y="20689"/>
                </a:lnTo>
                <a:lnTo>
                  <a:pt x="16109" y="13500"/>
                </a:lnTo>
                <a:lnTo>
                  <a:pt x="5491" y="13500"/>
                </a:lnTo>
                <a:lnTo>
                  <a:pt x="5491" y="20689"/>
                </a:lnTo>
                <a:lnTo>
                  <a:pt x="9877" y="20689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0" name="Group 2"/>
          <p:cNvGrpSpPr/>
          <p:nvPr/>
        </p:nvGrpSpPr>
        <p:grpSpPr>
          <a:xfrm>
            <a:off x="1042920" y="4113360"/>
            <a:ext cx="4753080" cy="2185920"/>
            <a:chOff x="1042920" y="4113360"/>
            <a:chExt cx="4753080" cy="2185920"/>
          </a:xfrm>
        </p:grpSpPr>
        <p:pic>
          <p:nvPicPr>
            <p:cNvPr id="741" name="Picture 3" descr="斜头"/>
            <p:cNvPicPr/>
            <p:nvPr/>
          </p:nvPicPr>
          <p:blipFill>
            <a:blip r:embed="rId1"/>
            <a:stretch/>
          </p:blipFill>
          <p:spPr>
            <a:xfrm>
              <a:off x="1042920" y="4138560"/>
              <a:ext cx="1568520" cy="21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Text Box 4"/>
            <p:cNvSpPr/>
            <p:nvPr/>
          </p:nvSpPr>
          <p:spPr>
            <a:xfrm>
              <a:off x="2592360" y="4113360"/>
              <a:ext cx="32036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有的紧握双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拳，勇武干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练，好像随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时准备出征。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43" name="Group 5"/>
          <p:cNvGrpSpPr/>
          <p:nvPr/>
        </p:nvGrpSpPr>
        <p:grpSpPr>
          <a:xfrm>
            <a:off x="900000" y="577800"/>
            <a:ext cx="3962160" cy="2453400"/>
            <a:chOff x="900000" y="577800"/>
            <a:chExt cx="3962160" cy="2453400"/>
          </a:xfrm>
        </p:grpSpPr>
        <p:pic>
          <p:nvPicPr>
            <p:cNvPr id="744" name="Picture 6" descr="深思"/>
            <p:cNvPicPr/>
            <p:nvPr/>
          </p:nvPicPr>
          <p:blipFill>
            <a:blip r:embed="rId2"/>
            <a:stretch/>
          </p:blipFill>
          <p:spPr>
            <a:xfrm>
              <a:off x="1260360" y="793800"/>
              <a:ext cx="154152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Text Box 7"/>
            <p:cNvSpPr/>
            <p:nvPr/>
          </p:nvSpPr>
          <p:spPr>
            <a:xfrm>
              <a:off x="1404720" y="577800"/>
              <a:ext cx="34574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        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有的颔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        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首低垂，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        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若有所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        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思，好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6" name="Text Box 8"/>
            <p:cNvSpPr/>
            <p:nvPr/>
          </p:nvSpPr>
          <p:spPr>
            <a:xfrm>
              <a:off x="900000" y="2449800"/>
              <a:ext cx="345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像在考虑如何相互配合，战胜敌手。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47" name="Group 9"/>
          <p:cNvGrpSpPr/>
          <p:nvPr/>
        </p:nvGrpSpPr>
        <p:grpSpPr>
          <a:xfrm>
            <a:off x="5075280" y="333360"/>
            <a:ext cx="3600360" cy="3431160"/>
            <a:chOff x="5075280" y="333360"/>
            <a:chExt cx="3600360" cy="3431160"/>
          </a:xfrm>
        </p:grpSpPr>
        <p:pic>
          <p:nvPicPr>
            <p:cNvPr id="748" name="Picture 10" descr="发火"/>
            <p:cNvPicPr/>
            <p:nvPr/>
          </p:nvPicPr>
          <p:blipFill>
            <a:blip r:embed="rId3"/>
            <a:stretch/>
          </p:blipFill>
          <p:spPr>
            <a:xfrm>
              <a:off x="5087880" y="407880"/>
              <a:ext cx="157176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Text Box 11"/>
            <p:cNvSpPr/>
            <p:nvPr/>
          </p:nvSpPr>
          <p:spPr>
            <a:xfrm>
              <a:off x="5075280" y="333360"/>
              <a:ext cx="360036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           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有的眼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           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如铜铃，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           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神态庄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           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重，好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0" name="Text Box 12"/>
            <p:cNvSpPr/>
            <p:nvPr/>
          </p:nvSpPr>
          <p:spPr>
            <a:xfrm>
              <a:off x="5317560" y="2208240"/>
              <a:ext cx="2131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像在暗下决心，誓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为秦国统一天下做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殊死拼搏。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1" name="Group 13"/>
          <p:cNvGrpSpPr/>
          <p:nvPr/>
        </p:nvGrpSpPr>
        <p:grpSpPr>
          <a:xfrm>
            <a:off x="5003640" y="4076640"/>
            <a:ext cx="3406680" cy="2197080"/>
            <a:chOff x="5003640" y="4076640"/>
            <a:chExt cx="3406680" cy="2197080"/>
          </a:xfrm>
        </p:grpSpPr>
        <p:pic>
          <p:nvPicPr>
            <p:cNvPr id="752" name="Picture 14" descr="远方"/>
            <p:cNvPicPr/>
            <p:nvPr/>
          </p:nvPicPr>
          <p:blipFill>
            <a:blip r:embed="rId4"/>
            <a:stretch/>
          </p:blipFill>
          <p:spPr>
            <a:xfrm>
              <a:off x="5003640" y="4186440"/>
              <a:ext cx="1585800" cy="20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" name="Text Box 15"/>
            <p:cNvSpPr/>
            <p:nvPr/>
          </p:nvSpPr>
          <p:spPr>
            <a:xfrm>
              <a:off x="7010280" y="4076640"/>
              <a:ext cx="14000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有的凝视远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方，好像在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思念家乡的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亲人。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54" name="AutoShape 16">
            <a:hlinkClick r:id="" action="ppaction://hlinkshowjump?jump=nextslide"/>
          </p:cNvPr>
          <p:cNvSpPr/>
          <p:nvPr/>
        </p:nvSpPr>
        <p:spPr>
          <a:xfrm>
            <a:off x="8305920" y="62485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神态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57" name="Picture 4" descr="E:\王志科\1\兵马俑图片\低头.jpg"/>
          <p:cNvPicPr/>
          <p:nvPr/>
        </p:nvPicPr>
        <p:blipFill>
          <a:blip r:embed="rId1"/>
          <a:stretch/>
        </p:blipFill>
        <p:spPr>
          <a:xfrm>
            <a:off x="6781680" y="0"/>
            <a:ext cx="2382840" cy="342900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5" descr="E:\王志科\1\兵马俑图片\愁眉苦脸.jpg"/>
          <p:cNvPicPr/>
          <p:nvPr/>
        </p:nvPicPr>
        <p:blipFill>
          <a:blip r:embed="rId2"/>
          <a:stretch/>
        </p:blipFill>
        <p:spPr>
          <a:xfrm>
            <a:off x="4572000" y="0"/>
            <a:ext cx="2300400" cy="342900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6" descr="E:\王志科\1\兵马俑图片\出征.jpg"/>
          <p:cNvPicPr/>
          <p:nvPr/>
        </p:nvPicPr>
        <p:blipFill>
          <a:blip r:embed="rId3"/>
          <a:stretch/>
        </p:blipFill>
        <p:spPr>
          <a:xfrm>
            <a:off x="2438280" y="0"/>
            <a:ext cx="2162160" cy="342900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7" descr="E:\王志科\1\兵马俑图片\打仗.jpg"/>
          <p:cNvPicPr/>
          <p:nvPr/>
        </p:nvPicPr>
        <p:blipFill>
          <a:blip r:embed="rId4"/>
          <a:stretch/>
        </p:blipFill>
        <p:spPr>
          <a:xfrm>
            <a:off x="228600" y="0"/>
            <a:ext cx="2197080" cy="342900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8" descr="E:\王志科\1\兵马俑图片\光头.jpg"/>
          <p:cNvPicPr/>
          <p:nvPr/>
        </p:nvPicPr>
        <p:blipFill>
          <a:blip r:embed="rId5"/>
          <a:stretch/>
        </p:blipFill>
        <p:spPr>
          <a:xfrm>
            <a:off x="228600" y="3429000"/>
            <a:ext cx="2200320" cy="342900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9" descr="E:\王志科\1\兵马俑图片\老头.jpg"/>
          <p:cNvPicPr/>
          <p:nvPr/>
        </p:nvPicPr>
        <p:blipFill>
          <a:blip r:embed="rId6"/>
          <a:stretch/>
        </p:blipFill>
        <p:spPr>
          <a:xfrm>
            <a:off x="4724280" y="3429000"/>
            <a:ext cx="2357640" cy="3429000"/>
          </a:xfrm>
          <a:prstGeom prst="rect">
            <a:avLst/>
          </a:prstGeom>
          <a:ln w="0">
            <a:noFill/>
          </a:ln>
        </p:spPr>
      </p:pic>
      <p:sp>
        <p:nvSpPr>
          <p:cNvPr id="763" name="AutoShape 10">
            <a:hlinkClick r:id="" action="ppaction://hlinkshowjump?jump=nextslide"/>
          </p:cNvPr>
          <p:cNvSpPr/>
          <p:nvPr/>
        </p:nvSpPr>
        <p:spPr>
          <a:xfrm>
            <a:off x="8534520" y="647712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  <a:path fill="darken" w="21600" h="27006">
                <a:moveTo>
                  <a:pt x="3794" y="6497"/>
                </a:moveTo>
                <a:lnTo>
                  <a:pt x="17806" y="13503"/>
                </a:lnTo>
                <a:lnTo>
                  <a:pt x="3794" y="20510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4" name="AutoShape 11">
            <a:hlinkClick r:id="" action="ppaction://hlinkshowjump?jump=lastslide"/>
          </p:cNvPr>
          <p:cNvSpPr/>
          <p:nvPr/>
        </p:nvSpPr>
        <p:spPr>
          <a:xfrm>
            <a:off x="8915400" y="6477120"/>
            <a:ext cx="228600" cy="38088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80880"/>
              <a:gd name="textAreaBottom" fmla="*/ 366120 h 380880"/>
            </a:gdLst>
            <a:ahLst/>
            <a:rect l="textAreaLeft" t="textAreaTop" r="textAreaRight" b="textAreaBottom"/>
            <a:pathLst>
              <a:path w="21600" h="35966">
                <a:moveTo>
                  <a:pt x="0" y="0"/>
                </a:moveTo>
                <a:lnTo>
                  <a:pt x="21600" y="0"/>
                </a:lnTo>
                <a:lnTo>
                  <a:pt x="21600" y="35966"/>
                </a:lnTo>
                <a:lnTo>
                  <a:pt x="0" y="35966"/>
                </a:lnTo>
                <a:close/>
              </a:path>
              <a:path fill="lightenLess" w="21600" h="359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66">
                <a:moveTo>
                  <a:pt x="21600" y="0"/>
                </a:moveTo>
                <a:lnTo>
                  <a:pt x="21600" y="35966"/>
                </a:lnTo>
                <a:lnTo>
                  <a:pt x="20200" y="34566"/>
                </a:lnTo>
                <a:lnTo>
                  <a:pt x="20200" y="1400"/>
                </a:lnTo>
                <a:close/>
              </a:path>
              <a:path fill="darkenLess" w="21600" h="35966">
                <a:moveTo>
                  <a:pt x="21600" y="35966"/>
                </a:moveTo>
                <a:lnTo>
                  <a:pt x="0" y="35966"/>
                </a:lnTo>
                <a:lnTo>
                  <a:pt x="1400" y="34566"/>
                </a:lnTo>
                <a:lnTo>
                  <a:pt x="20200" y="34566"/>
                </a:lnTo>
                <a:close/>
              </a:path>
              <a:path fill="lighten" w="21600" h="35966">
                <a:moveTo>
                  <a:pt x="0" y="35966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66"/>
                </a:lnTo>
                <a:close/>
              </a:path>
              <a:path fill="darken" w="21600" h="35966">
                <a:moveTo>
                  <a:pt x="14299" y="17983"/>
                </a:moveTo>
                <a:lnTo>
                  <a:pt x="3794" y="24990"/>
                </a:lnTo>
                <a:lnTo>
                  <a:pt x="3794" y="10977"/>
                </a:lnTo>
                <a:close/>
              </a:path>
              <a:path fill="darken" w="21600" h="35966">
                <a:moveTo>
                  <a:pt x="16144" y="10977"/>
                </a:moveTo>
                <a:lnTo>
                  <a:pt x="16144" y="24990"/>
                </a:lnTo>
                <a:lnTo>
                  <a:pt x="17806" y="24990"/>
                </a:lnTo>
                <a:lnTo>
                  <a:pt x="17806" y="10977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5" name="AutoShape 12">
            <a:hlinkClick r:id="" action="ppaction://hlinkshowjump?jump=firstslide"/>
          </p:cNvPr>
          <p:cNvSpPr/>
          <p:nvPr/>
        </p:nvSpPr>
        <p:spPr>
          <a:xfrm>
            <a:off x="8077320" y="647712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  <a:path fill="darken" w="21600" h="27006">
                <a:moveTo>
                  <a:pt x="10800" y="6540"/>
                </a:moveTo>
                <a:lnTo>
                  <a:pt x="13376" y="9151"/>
                </a:lnTo>
                <a:lnTo>
                  <a:pt x="13376" y="7411"/>
                </a:lnTo>
                <a:lnTo>
                  <a:pt x="15152" y="7411"/>
                </a:lnTo>
                <a:lnTo>
                  <a:pt x="15152" y="10927"/>
                </a:lnTo>
                <a:lnTo>
                  <a:pt x="17763" y="13503"/>
                </a:lnTo>
                <a:lnTo>
                  <a:pt x="16109" y="13503"/>
                </a:lnTo>
                <a:lnTo>
                  <a:pt x="16109" y="20692"/>
                </a:lnTo>
                <a:lnTo>
                  <a:pt x="5491" y="20692"/>
                </a:lnTo>
                <a:lnTo>
                  <a:pt x="5491" y="13503"/>
                </a:lnTo>
                <a:lnTo>
                  <a:pt x="3837" y="13503"/>
                </a:lnTo>
                <a:close/>
              </a:path>
              <a:path fill="darkenLess" w="21600" h="27006">
                <a:moveTo>
                  <a:pt x="13376" y="9151"/>
                </a:moveTo>
                <a:lnTo>
                  <a:pt x="13376" y="7411"/>
                </a:lnTo>
                <a:lnTo>
                  <a:pt x="15152" y="7411"/>
                </a:lnTo>
                <a:lnTo>
                  <a:pt x="15152" y="10927"/>
                </a:lnTo>
                <a:close/>
              </a:path>
              <a:path fill="darkenLess" w="21600" h="27006">
                <a:moveTo>
                  <a:pt x="9877" y="17002"/>
                </a:moveTo>
                <a:lnTo>
                  <a:pt x="11723" y="17002"/>
                </a:lnTo>
                <a:lnTo>
                  <a:pt x="11723" y="20692"/>
                </a:lnTo>
                <a:lnTo>
                  <a:pt x="16109" y="20692"/>
                </a:lnTo>
                <a:lnTo>
                  <a:pt x="16109" y="13503"/>
                </a:lnTo>
                <a:lnTo>
                  <a:pt x="5491" y="13503"/>
                </a:lnTo>
                <a:lnTo>
                  <a:pt x="5491" y="20692"/>
                </a:lnTo>
                <a:lnTo>
                  <a:pt x="9877" y="20692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66" name="Picture 13" descr="E:\王志科\1\兵马俑图片\思考.jpg"/>
          <p:cNvPicPr/>
          <p:nvPr/>
        </p:nvPicPr>
        <p:blipFill>
          <a:blip r:embed="rId7"/>
          <a:stretch/>
        </p:blipFill>
        <p:spPr>
          <a:xfrm>
            <a:off x="2438280" y="3429000"/>
            <a:ext cx="2298960" cy="342900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14" descr="E:\王志科\1\兵马俑图片\铜铃.jpg"/>
          <p:cNvPicPr/>
          <p:nvPr/>
        </p:nvPicPr>
        <p:blipFill>
          <a:blip r:embed="rId8"/>
          <a:stretch/>
        </p:blipFill>
        <p:spPr>
          <a:xfrm>
            <a:off x="6983280" y="3429000"/>
            <a:ext cx="2160720" cy="3429000"/>
          </a:xfrm>
          <a:prstGeom prst="rect">
            <a:avLst/>
          </a:prstGeom>
          <a:ln w="0">
            <a:noFill/>
          </a:ln>
        </p:spPr>
      </p:pic>
      <p:sp>
        <p:nvSpPr>
          <p:cNvPr id="768" name="AutoShape 15">
            <a:hlinkClick r:id="" action="ppaction://hlinkshowjump?jump=nextslide"/>
          </p:cNvPr>
          <p:cNvSpPr/>
          <p:nvPr/>
        </p:nvSpPr>
        <p:spPr>
          <a:xfrm>
            <a:off x="861048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自选题：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请你谈谈学了本课后的感受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请你观察书上的插图（或上网寻找有关图片资料），展开想象，描述你感兴趣的一个兵马俑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1" name="AutoShape 4">
            <a:hlinkClick r:id="" action="ppaction://hlinkshowjump?jump=nextslide"/>
          </p:cNvPr>
          <p:cNvSpPr/>
          <p:nvPr/>
        </p:nvSpPr>
        <p:spPr>
          <a:xfrm>
            <a:off x="8305920" y="62485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cc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D835-8707-4DD4-AC8C-F1229A71B80C}" type="slidenum">
              <a:rPr b="0" lang="zh-CN" sz="1400" spc="-1" strike="noStrike">
                <a:solidFill>
                  <a:srgbClr val="ffff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68" name="Picture 4" descr="E:\王志科\1\兵马俑图片\欢迎登陆秦始皇兵马俑博物馆网站.files\1hk01.jpg"/>
          <p:cNvPicPr/>
          <p:nvPr/>
        </p:nvPicPr>
        <p:blipFill>
          <a:blip r:embed="rId1"/>
          <a:stretch/>
        </p:blipFill>
        <p:spPr>
          <a:xfrm>
            <a:off x="685800" y="304920"/>
            <a:ext cx="7772400" cy="5894280"/>
          </a:xfrm>
          <a:prstGeom prst="rect">
            <a:avLst/>
          </a:prstGeom>
          <a:ln w="0">
            <a:noFill/>
          </a:ln>
        </p:spPr>
      </p:pic>
      <p:sp>
        <p:nvSpPr>
          <p:cNvPr id="669" name="AutoShape 5">
            <a:hlinkClick r:id="" action="ppaction://hlinkshowjump?jump=nextslide"/>
          </p:cNvPr>
          <p:cNvSpPr/>
          <p:nvPr/>
        </p:nvSpPr>
        <p:spPr>
          <a:xfrm>
            <a:off x="8305920" y="62485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世界八大奇迹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埃及金字塔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巴比伦的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空中花园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以弗所（小亚细亚）的阿泰密斯神殿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奥林匹亚的宙斯神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哈利卡纳苏（小亚细亚）的摩索拉斯陵墓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地中海罗得岛上的太阳神巨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亚历山大城的灯塔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中国兵马俑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8" name="AutoShape 4">
            <a:hlinkClick r:id="" action="ppaction://hlinkshowjump?jump=nextslide"/>
          </p:cNvPr>
          <p:cNvSpPr/>
          <p:nvPr/>
        </p:nvSpPr>
        <p:spPr>
          <a:xfrm>
            <a:off x="8305920" y="62485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2" name="Rectangle 5">
            <a:hlinkClick r:id="rId1"/>
          </p:cNvPr>
          <p:cNvSpPr/>
          <p:nvPr/>
        </p:nvSpPr>
        <p:spPr>
          <a:xfrm>
            <a:off x="304812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73" name="Picture 6" descr="E:\王志科\1\兵马俑图片\新建文件夹\1.jpg"/>
          <p:cNvPicPr/>
          <p:nvPr/>
        </p:nvPicPr>
        <p:blipFill>
          <a:blip r:embed="rId2"/>
          <a:stretch/>
        </p:blipFill>
        <p:spPr>
          <a:xfrm>
            <a:off x="0" y="-57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4" name="AutoShape 7">
            <a:hlinkClick r:id="" action="ppaction://hlinkshowjump?jump=nextslide"/>
          </p:cNvPr>
          <p:cNvSpPr/>
          <p:nvPr/>
        </p:nvSpPr>
        <p:spPr>
          <a:xfrm>
            <a:off x="8305920" y="62485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7" name="Rectangle 5">
            <a:hlinkClick r:id="rId1"/>
          </p:cNvPr>
          <p:cNvSpPr/>
          <p:nvPr/>
        </p:nvSpPr>
        <p:spPr>
          <a:xfrm>
            <a:off x="304812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78" name="Picture 6" descr="E:\王志科\1\兵马俑图片\新建文件夹\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9" name="AutoShape 7">
            <a:hlinkClick r:id="" action="ppaction://hlinkshowjump?jump=nextslide"/>
          </p:cNvPr>
          <p:cNvSpPr/>
          <p:nvPr/>
        </p:nvSpPr>
        <p:spPr>
          <a:xfrm>
            <a:off x="8305920" y="62485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2" name="Rectangle 5">
            <a:hlinkClick r:id="rId1"/>
          </p:cNvPr>
          <p:cNvSpPr/>
          <p:nvPr/>
        </p:nvSpPr>
        <p:spPr>
          <a:xfrm>
            <a:off x="304812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83" name="Picture 6" descr="E:\王志科\1\兵马俑图片\新建文件夹\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4" name="AutoShape 7">
            <a:hlinkClick r:id="" action="ppaction://hlinkshowjump?jump=nextslide"/>
          </p:cNvPr>
          <p:cNvSpPr/>
          <p:nvPr/>
        </p:nvSpPr>
        <p:spPr>
          <a:xfrm>
            <a:off x="8305920" y="62485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7" name="Rectangle 5">
            <a:hlinkClick r:id="rId1"/>
          </p:cNvPr>
          <p:cNvSpPr/>
          <p:nvPr/>
        </p:nvSpPr>
        <p:spPr>
          <a:xfrm>
            <a:off x="304812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88" name="Picture 6" descr="E:\王志科\1\兵马俑图片\新建文件夹\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9" name="AutoShape 7">
            <a:hlinkClick r:id="" action="ppaction://hlinkshowjump?jump=nextslide"/>
          </p:cNvPr>
          <p:cNvSpPr/>
          <p:nvPr/>
        </p:nvSpPr>
        <p:spPr>
          <a:xfrm>
            <a:off x="8305920" y="62485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92" name="Picture 4" descr="E:\王志科\1\兵马俑图片\新建文件夹\5.jpg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93" name="AutoShape 5">
            <a:hlinkClick r:id="" action="ppaction://hlinkshowjump?jump=nextslide"/>
          </p:cNvPr>
          <p:cNvSpPr/>
          <p:nvPr/>
        </p:nvSpPr>
        <p:spPr>
          <a:xfrm>
            <a:off x="8305920" y="62485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4" name="文本框 8194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cc6600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cc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Picture 2" descr="E:\王志科\1\兵马俑图片\新建文件夹\1.jpg"/>
          <p:cNvPicPr/>
          <p:nvPr/>
        </p:nvPicPr>
        <p:blipFill>
          <a:blip r:embed="rId1"/>
          <a:stretch/>
        </p:blipFill>
        <p:spPr>
          <a:xfrm>
            <a:off x="0" y="-87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6" name="AutoShape 3">
            <a:hlinkClick r:id="" action="ppaction://hlinkshowjump?jump=nextslide"/>
          </p:cNvPr>
          <p:cNvSpPr/>
          <p:nvPr/>
        </p:nvSpPr>
        <p:spPr>
          <a:xfrm>
            <a:off x="8305920" y="62485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自学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4-9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自然段，完成：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读一读，划出描写兵马俑外貌、神态、动作的词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议一议，你喜欢哪一类兵马俑，为什么？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演一演，根据书上的描写摆一个造型，其他同学猜猜演的是什么俑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9" name="AutoShape 4">
            <a:hlinkClick r:id="" action="ppaction://hlinkshowjump?jump=nextslide"/>
          </p:cNvPr>
          <p:cNvSpPr/>
          <p:nvPr/>
        </p:nvSpPr>
        <p:spPr>
          <a:xfrm>
            <a:off x="8305920" y="62485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9T01:49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1:59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