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1933-3D9B-44A1-AF02-73EF51BE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1462-348B-43C4-93B6-61CE35AA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244-92A1-4B95-BA28-4594DC7F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F565-A36D-47B1-9BE9-A6029CB1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8D20-1FAA-4479-A004-666DE5A3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072C-E7AB-4C64-B354-F6700B2D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ABD9-C4B4-4325-80B2-AB7474C8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812F-D8D5-4107-90FE-DFC50F84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A48E-78C7-4946-B04C-9EE6E9D5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70FE-4174-4F2B-8E59-55D93B57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6BBD-F6BB-4F4A-A85D-E5CA7AA3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1DD9-66F7-44F7-A921-54D2D098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7FD4-2A37-4CFC-87CB-76948B7C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1909-FBFC-411E-AD5B-EE747F3E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50B5-4D0F-4348-8FA6-607DDEA3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5309-CD7D-473C-811B-2833AE95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407A-E874-44F9-853D-F0661CE2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109A5-483D-4DCD-9F57-A4770C7D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72C5D-EA19-4092-88D7-D7D99F3E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4AE8C-D489-4FA4-B30B-414B8FEB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3C80A-820E-4016-984E-6379F4B4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794EE-A46E-45C9-BA79-881B4BF7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FD42-D7E7-4F95-ABC2-06418C9A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481CE-2434-4A70-99B7-49FD987A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26C6A-9EB2-43D2-8D40-AB4EAB6C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B9717-3A99-4182-B583-27CFECD8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D6BA5-9604-47B9-94CA-FFF61ECE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BF7A8-8C9B-4CF2-B8CE-0084AF21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CC9B1-D210-44BD-9B72-2BE7329C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F7F63-7959-487D-A387-552768F4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620-ED67-4700-A62E-67B804B8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391E-3A2A-4061-936E-D7015CAC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91E6-421E-47E9-95E4-28AF2058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C7E5-53FC-4FEC-9BE7-F8AEAF1A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8141-C423-4ED5-A9BE-6DEC37DB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8DCD-EA65-4D11-86D1-17432D13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027" descr="D:\FRONTPAGE THEMES\ARTSY\ARTHSEPA.PNG"/>
            <p:cNvPicPr/>
            <p:nvPr/>
          </p:nvPicPr>
          <p:blipFill>
            <a:blip r:embed="rId2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P:\!Themes\Artsy\Arthsepa.gif"/>
            <p:cNvPicPr/>
            <p:nvPr/>
          </p:nvPicPr>
          <p:blipFill>
            <a:blip r:embed="rId3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8707-7EAD-4E58-9592-5A2C8B6DD723}" type="slidenum">
              <a:rPr b="0" lang="zh-CN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9828-43E8-4BB2-956C-BC579808DCC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1F1D-B8CA-4D71-8C6A-BD98864E36F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86" name="Picture 1027" descr="D:\FRONTPAGE THEMES\ARTSY\ARTHSEPA.PNG"/>
            <p:cNvPicPr/>
            <p:nvPr/>
          </p:nvPicPr>
          <p:blipFill>
            <a:blip r:embed="rId2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1028" descr="P:\!Themes\Artsy\Arthsepa.gif"/>
            <p:cNvPicPr/>
            <p:nvPr/>
          </p:nvPicPr>
          <p:blipFill>
            <a:blip r:embed="rId3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Group 1026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89" name="Picture 1027" descr="D:\FRONTPAGE THEMES\ARTSY\ARTBANNA.PNG"/>
            <p:cNvPicPr/>
            <p:nvPr/>
          </p:nvPicPr>
          <p:blipFill>
            <a:blip r:embed="rId4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028" descr="P:\!Themes\Artsy\Arthsepa.gif"/>
            <p:cNvPicPr/>
            <p:nvPr/>
          </p:nvPicPr>
          <p:blipFill>
            <a:blip r:embed="rId5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3E6F-352E-4FE5-B0B3-465D55BAA0CA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my.com.cn/image1.asp?img=images/1hk005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my.com.cn/image1.asp?img=images/1hk003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my.com.cn/image1.asp?img=images/1hk002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my.com.cn/image1.asp?img=images/1hk001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2132280"/>
            <a:ext cx="7772400" cy="70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方正超粗黑简体"/>
                <a:ea typeface="方正超粗黑简体"/>
              </a:rPr>
              <a:t>秦兵马俑语文课件</a:t>
            </a:r>
            <a:r>
              <a:rPr b="0" lang="en-US" sz="4000" spc="-1" strike="noStrike">
                <a:solidFill>
                  <a:srgbClr val="ff0000"/>
                </a:solidFill>
                <a:latin typeface="方正超粗黑简体"/>
                <a:ea typeface="方正超粗黑简体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方正超粗黑简体"/>
                <a:ea typeface="方正超粗黑简体"/>
              </a:rPr>
              <a:t>模板下载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将军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将军俑身材魁梧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头戴金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身披铠甲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手握宝剑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昂首挺胸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站在队伍前列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像是在指挥身后的军吏和士兵行进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那神态自若的样子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一看就知道是久经沙场、身负重任的高级将领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0" name="Picture 4" descr="yty23"/>
          <p:cNvPicPr/>
          <p:nvPr/>
        </p:nvPicPr>
        <p:blipFill>
          <a:blip r:embed="rId1"/>
          <a:stretch/>
        </p:blipFill>
        <p:spPr>
          <a:xfrm>
            <a:off x="5029200" y="1523880"/>
            <a:ext cx="1965240" cy="533412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5">
            <a:hlinkClick r:id="" action="ppaction://hlinkshowjump?jump=nextslide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17806" y="13516"/>
                </a:lnTo>
                <a:lnTo>
                  <a:pt x="3794" y="20522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AutoShape 6">
            <a:hlinkClick r:id="" action="ppaction://hlinkshowjump?jump=lastslide"/>
          </p:cNvPr>
          <p:cNvSpPr/>
          <p:nvPr/>
        </p:nvSpPr>
        <p:spPr>
          <a:xfrm>
            <a:off x="8458200" y="6095880"/>
            <a:ext cx="228600" cy="38124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1240"/>
              <a:gd name="textAreaBottom" fmla="*/ 366480 h 381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00" y="34600"/>
                </a:lnTo>
                <a:lnTo>
                  <a:pt x="20200" y="140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400" y="34600"/>
                </a:lnTo>
                <a:lnTo>
                  <a:pt x="20200" y="3460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00"/>
                </a:lnTo>
                <a:close/>
              </a:path>
              <a:path fill="darken" w="21600" h="36000">
                <a:moveTo>
                  <a:pt x="14299" y="18000"/>
                </a:moveTo>
                <a:lnTo>
                  <a:pt x="3794" y="25006"/>
                </a:lnTo>
                <a:lnTo>
                  <a:pt x="3794" y="10994"/>
                </a:lnTo>
                <a:close/>
              </a:path>
              <a:path fill="darken" w="21600" h="36000">
                <a:moveTo>
                  <a:pt x="16144" y="10994"/>
                </a:moveTo>
                <a:lnTo>
                  <a:pt x="16144" y="25006"/>
                </a:lnTo>
                <a:lnTo>
                  <a:pt x="17806" y="25006"/>
                </a:lnTo>
                <a:lnTo>
                  <a:pt x="17806" y="10994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AutoShape 7">
            <a:hlinkClick r:id="" action="ppaction://hlinkshowjump?jump=firstslide"/>
          </p:cNvPr>
          <p:cNvSpPr/>
          <p:nvPr/>
        </p:nvSpPr>
        <p:spPr>
          <a:xfrm>
            <a:off x="769608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6537"/>
                </a:moveTo>
                <a:lnTo>
                  <a:pt x="13376" y="9148"/>
                </a:ln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lnTo>
                  <a:pt x="17763" y="13500"/>
                </a:lnTo>
                <a:lnTo>
                  <a:pt x="16109" y="13500"/>
                </a:lnTo>
                <a:lnTo>
                  <a:pt x="16109" y="20689"/>
                </a:lnTo>
                <a:lnTo>
                  <a:pt x="5491" y="20689"/>
                </a:lnTo>
                <a:lnTo>
                  <a:pt x="5491" y="13500"/>
                </a:lnTo>
                <a:lnTo>
                  <a:pt x="3837" y="13500"/>
                </a:lnTo>
                <a:close/>
              </a:path>
              <a:path fill="darkenLess" w="21600" h="27000">
                <a:moveTo>
                  <a:pt x="13376" y="9148"/>
                </a:move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close/>
              </a:path>
              <a:path fill="darkenLess" w="21600" h="27000">
                <a:moveTo>
                  <a:pt x="9877" y="16999"/>
                </a:moveTo>
                <a:lnTo>
                  <a:pt x="11723" y="16999"/>
                </a:lnTo>
                <a:lnTo>
                  <a:pt x="11723" y="20689"/>
                </a:lnTo>
                <a:lnTo>
                  <a:pt x="16109" y="20689"/>
                </a:lnTo>
                <a:lnTo>
                  <a:pt x="16109" y="13500"/>
                </a:lnTo>
                <a:lnTo>
                  <a:pt x="5491" y="13500"/>
                </a:lnTo>
                <a:lnTo>
                  <a:pt x="5491" y="20689"/>
                </a:lnTo>
                <a:lnTo>
                  <a:pt x="9877" y="20689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武士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武士俑高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.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米左右，体格健壮，体态匀称。身上穿着战袍，套着铠甲，脚上蹬着前端向上翘起的战靴，头发一律挽成了偏向左侧的发髻。它们有的握着铜戈，有的擎着利剑，有的拿着盾牌。个个目光炯炯，双唇紧闭，神态严峻，好像一场大战就在眼前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6" name="Picture 4" descr="E:\王志科\1\兵马俑图片\ety24.jpg"/>
          <p:cNvPicPr/>
          <p:nvPr/>
        </p:nvPicPr>
        <p:blipFill>
          <a:blip r:embed="rId1"/>
          <a:stretch/>
        </p:blipFill>
        <p:spPr>
          <a:xfrm>
            <a:off x="4876920" y="1676520"/>
            <a:ext cx="2555640" cy="518148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5">
            <a:hlinkClick r:id="" action="ppaction://hlinkshowjump?jump=nextslide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17806" y="13516"/>
                </a:lnTo>
                <a:lnTo>
                  <a:pt x="3794" y="20522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AutoShape 6">
            <a:hlinkClick r:id="" action="ppaction://hlinkshowjump?jump=lastslide"/>
          </p:cNvPr>
          <p:cNvSpPr/>
          <p:nvPr/>
        </p:nvSpPr>
        <p:spPr>
          <a:xfrm>
            <a:off x="8458200" y="6095880"/>
            <a:ext cx="228600" cy="38124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1240"/>
              <a:gd name="textAreaBottom" fmla="*/ 366480 h 381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00" y="34600"/>
                </a:lnTo>
                <a:lnTo>
                  <a:pt x="20200" y="140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400" y="34600"/>
                </a:lnTo>
                <a:lnTo>
                  <a:pt x="20200" y="3460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00"/>
                </a:lnTo>
                <a:close/>
              </a:path>
              <a:path fill="darken" w="21600" h="36000">
                <a:moveTo>
                  <a:pt x="14299" y="18000"/>
                </a:moveTo>
                <a:lnTo>
                  <a:pt x="3794" y="25006"/>
                </a:lnTo>
                <a:lnTo>
                  <a:pt x="3794" y="10994"/>
                </a:lnTo>
                <a:close/>
              </a:path>
              <a:path fill="darken" w="21600" h="36000">
                <a:moveTo>
                  <a:pt x="16144" y="10994"/>
                </a:moveTo>
                <a:lnTo>
                  <a:pt x="16144" y="25006"/>
                </a:lnTo>
                <a:lnTo>
                  <a:pt x="17806" y="25006"/>
                </a:lnTo>
                <a:lnTo>
                  <a:pt x="17806" y="10994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AutoShape 7">
            <a:hlinkClick r:id="" action="ppaction://hlinkshowjump?jump=firstslide"/>
          </p:cNvPr>
          <p:cNvSpPr/>
          <p:nvPr/>
        </p:nvSpPr>
        <p:spPr>
          <a:xfrm>
            <a:off x="769608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6537"/>
                </a:moveTo>
                <a:lnTo>
                  <a:pt x="13376" y="9148"/>
                </a:ln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lnTo>
                  <a:pt x="17763" y="13500"/>
                </a:lnTo>
                <a:lnTo>
                  <a:pt x="16109" y="13500"/>
                </a:lnTo>
                <a:lnTo>
                  <a:pt x="16109" y="20689"/>
                </a:lnTo>
                <a:lnTo>
                  <a:pt x="5491" y="20689"/>
                </a:lnTo>
                <a:lnTo>
                  <a:pt x="5491" y="13500"/>
                </a:lnTo>
                <a:lnTo>
                  <a:pt x="3837" y="13500"/>
                </a:lnTo>
                <a:close/>
              </a:path>
              <a:path fill="darkenLess" w="21600" h="27000">
                <a:moveTo>
                  <a:pt x="13376" y="9148"/>
                </a:move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close/>
              </a:path>
              <a:path fill="darkenLess" w="21600" h="27000">
                <a:moveTo>
                  <a:pt x="9877" y="16999"/>
                </a:moveTo>
                <a:lnTo>
                  <a:pt x="11723" y="16999"/>
                </a:lnTo>
                <a:lnTo>
                  <a:pt x="11723" y="20689"/>
                </a:lnTo>
                <a:lnTo>
                  <a:pt x="16109" y="20689"/>
                </a:lnTo>
                <a:lnTo>
                  <a:pt x="16109" y="13500"/>
                </a:lnTo>
                <a:lnTo>
                  <a:pt x="5491" y="13500"/>
                </a:lnTo>
                <a:lnTo>
                  <a:pt x="5491" y="20689"/>
                </a:lnTo>
                <a:lnTo>
                  <a:pt x="9877" y="20689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骑兵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971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骑兵俑上身着短甲，下身着紧口裤，足蹬长统马靴，右手执缰绳，左手持弓箭，随时准备上马冲杀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2" name="Picture 4" descr="E:\王志科\1\兵马俑图片\ety25.jpg"/>
          <p:cNvPicPr/>
          <p:nvPr/>
        </p:nvPicPr>
        <p:blipFill>
          <a:blip r:embed="rId1"/>
          <a:stretch/>
        </p:blipFill>
        <p:spPr>
          <a:xfrm>
            <a:off x="4038480" y="1676520"/>
            <a:ext cx="5105520" cy="487368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5">
            <a:hlinkClick r:id="" action="ppaction://hlinkshowjump?jump=nextslide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17806" y="13516"/>
                </a:lnTo>
                <a:lnTo>
                  <a:pt x="3794" y="20522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AutoShape 6">
            <a:hlinkClick r:id="" action="ppaction://hlinkshowjump?jump=lastslide"/>
          </p:cNvPr>
          <p:cNvSpPr/>
          <p:nvPr/>
        </p:nvSpPr>
        <p:spPr>
          <a:xfrm>
            <a:off x="8458200" y="6095880"/>
            <a:ext cx="228600" cy="38124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1240"/>
              <a:gd name="textAreaBottom" fmla="*/ 366480 h 381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00" y="34600"/>
                </a:lnTo>
                <a:lnTo>
                  <a:pt x="20200" y="140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400" y="34600"/>
                </a:lnTo>
                <a:lnTo>
                  <a:pt x="20200" y="3460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00"/>
                </a:lnTo>
                <a:close/>
              </a:path>
              <a:path fill="darken" w="21600" h="36000">
                <a:moveTo>
                  <a:pt x="14299" y="18000"/>
                </a:moveTo>
                <a:lnTo>
                  <a:pt x="3794" y="25006"/>
                </a:lnTo>
                <a:lnTo>
                  <a:pt x="3794" y="10994"/>
                </a:lnTo>
                <a:close/>
              </a:path>
              <a:path fill="darken" w="21600" h="36000">
                <a:moveTo>
                  <a:pt x="16144" y="10994"/>
                </a:moveTo>
                <a:lnTo>
                  <a:pt x="16144" y="25006"/>
                </a:lnTo>
                <a:lnTo>
                  <a:pt x="17806" y="25006"/>
                </a:lnTo>
                <a:lnTo>
                  <a:pt x="17806" y="10994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AutoShape 7">
            <a:hlinkClick r:id="" action="ppaction://hlinkshowjump?jump=firstslide"/>
          </p:cNvPr>
          <p:cNvSpPr/>
          <p:nvPr/>
        </p:nvSpPr>
        <p:spPr>
          <a:xfrm>
            <a:off x="769608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6537"/>
                </a:moveTo>
                <a:lnTo>
                  <a:pt x="13376" y="9148"/>
                </a:ln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lnTo>
                  <a:pt x="17763" y="13500"/>
                </a:lnTo>
                <a:lnTo>
                  <a:pt x="16109" y="13500"/>
                </a:lnTo>
                <a:lnTo>
                  <a:pt x="16109" y="20689"/>
                </a:lnTo>
                <a:lnTo>
                  <a:pt x="5491" y="20689"/>
                </a:lnTo>
                <a:lnTo>
                  <a:pt x="5491" y="13500"/>
                </a:lnTo>
                <a:lnTo>
                  <a:pt x="3837" y="13500"/>
                </a:lnTo>
                <a:close/>
              </a:path>
              <a:path fill="darkenLess" w="21600" h="27000">
                <a:moveTo>
                  <a:pt x="13376" y="9148"/>
                </a:move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close/>
              </a:path>
              <a:path fill="darkenLess" w="21600" h="27000">
                <a:moveTo>
                  <a:pt x="9877" y="16999"/>
                </a:moveTo>
                <a:lnTo>
                  <a:pt x="11723" y="16999"/>
                </a:lnTo>
                <a:lnTo>
                  <a:pt x="11723" y="20689"/>
                </a:lnTo>
                <a:lnTo>
                  <a:pt x="16109" y="20689"/>
                </a:lnTo>
                <a:lnTo>
                  <a:pt x="16109" y="13500"/>
                </a:lnTo>
                <a:lnTo>
                  <a:pt x="5491" y="13500"/>
                </a:lnTo>
                <a:lnTo>
                  <a:pt x="5491" y="20689"/>
                </a:lnTo>
                <a:lnTo>
                  <a:pt x="9877" y="20689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ety27"/>
          <p:cNvPicPr/>
          <p:nvPr/>
        </p:nvPicPr>
        <p:blipFill>
          <a:blip r:embed="rId1"/>
          <a:stretch/>
        </p:blipFill>
        <p:spPr>
          <a:xfrm>
            <a:off x="6227640" y="2781360"/>
            <a:ext cx="959040" cy="2514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车兵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225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车兵俑则分为驭手和军士，驭手居中而立，驾驭着战车，军士分列在战车两侧，保护着驭手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9" name="Picture 5" descr="tcm2"/>
          <p:cNvPicPr/>
          <p:nvPr/>
        </p:nvPicPr>
        <p:blipFill>
          <a:blip r:embed="rId2"/>
          <a:stretch/>
        </p:blipFill>
        <p:spPr>
          <a:xfrm>
            <a:off x="3419640" y="2276640"/>
            <a:ext cx="5486400" cy="354960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6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AutoShape 7">
            <a:hlinkClick r:id="" action="ppaction://hlinkshowjump?jump=lastslide"/>
          </p:cNvPr>
          <p:cNvSpPr/>
          <p:nvPr/>
        </p:nvSpPr>
        <p:spPr>
          <a:xfrm>
            <a:off x="8686800" y="624852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14299" y="17983"/>
                </a:moveTo>
                <a:lnTo>
                  <a:pt x="3794" y="24990"/>
                </a:lnTo>
                <a:lnTo>
                  <a:pt x="3794" y="10977"/>
                </a:lnTo>
                <a:close/>
              </a:path>
              <a:path fill="darken" w="21600" h="35966">
                <a:moveTo>
                  <a:pt x="16144" y="10977"/>
                </a:moveTo>
                <a:lnTo>
                  <a:pt x="16144" y="24990"/>
                </a:lnTo>
                <a:lnTo>
                  <a:pt x="17806" y="24990"/>
                </a:lnTo>
                <a:lnTo>
                  <a:pt x="17806" y="10977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AutoShape 8">
            <a:hlinkClick r:id="" action="ppaction://hlinkshowjump?jump=firstslide"/>
          </p:cNvPr>
          <p:cNvSpPr/>
          <p:nvPr/>
        </p:nvSpPr>
        <p:spPr>
          <a:xfrm>
            <a:off x="7924680" y="624852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3" name="Picture 9" descr="ety27"/>
          <p:cNvPicPr/>
          <p:nvPr/>
        </p:nvPicPr>
        <p:blipFill>
          <a:blip r:embed="rId3"/>
          <a:stretch/>
        </p:blipFill>
        <p:spPr>
          <a:xfrm>
            <a:off x="7596360" y="3068640"/>
            <a:ext cx="958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弓弩手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31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弓弩手个个张弓搭箭，两眼盯着前方，或立，或跪，随时准备将利箭射出去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6" name="Picture 4" descr="E:\王志科\1\兵马俑图片\ety2.jpg"/>
          <p:cNvPicPr/>
          <p:nvPr/>
        </p:nvPicPr>
        <p:blipFill>
          <a:blip r:embed="rId1"/>
          <a:stretch/>
        </p:blipFill>
        <p:spPr>
          <a:xfrm>
            <a:off x="6431040" y="457200"/>
            <a:ext cx="2712960" cy="6095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E:\王志科\1\兵马俑图片\ety1.jpg"/>
          <p:cNvPicPr/>
          <p:nvPr/>
        </p:nvPicPr>
        <p:blipFill>
          <a:blip r:embed="rId2"/>
          <a:stretch/>
        </p:blipFill>
        <p:spPr>
          <a:xfrm>
            <a:off x="3809880" y="1752480"/>
            <a:ext cx="2544840" cy="464832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>
            <a:hlinkClick r:id="" action="ppaction://hlinkshowjump?jump=nextslide"/>
          </p:cNvPr>
          <p:cNvSpPr/>
          <p:nvPr/>
        </p:nvSpPr>
        <p:spPr>
          <a:xfrm>
            <a:off x="8305920" y="6095880"/>
            <a:ext cx="304560" cy="45720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413">
                <a:moveTo>
                  <a:pt x="0" y="0"/>
                </a:moveTo>
                <a:lnTo>
                  <a:pt x="21600" y="0"/>
                </a:lnTo>
                <a:lnTo>
                  <a:pt x="21600" y="32413"/>
                </a:lnTo>
                <a:lnTo>
                  <a:pt x="0" y="32413"/>
                </a:lnTo>
                <a:close/>
              </a:path>
              <a:path fill="lightenLess" w="21600" h="32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13">
                <a:moveTo>
                  <a:pt x="21600" y="0"/>
                </a:moveTo>
                <a:lnTo>
                  <a:pt x="21600" y="32413"/>
                </a:lnTo>
                <a:lnTo>
                  <a:pt x="20200" y="31013"/>
                </a:lnTo>
                <a:lnTo>
                  <a:pt x="20200" y="1400"/>
                </a:lnTo>
                <a:close/>
              </a:path>
              <a:path fill="darkenLess" w="21600" h="32413">
                <a:moveTo>
                  <a:pt x="21600" y="32413"/>
                </a:moveTo>
                <a:lnTo>
                  <a:pt x="0" y="32413"/>
                </a:lnTo>
                <a:lnTo>
                  <a:pt x="1400" y="31013"/>
                </a:lnTo>
                <a:lnTo>
                  <a:pt x="20200" y="31013"/>
                </a:lnTo>
                <a:close/>
              </a:path>
              <a:path fill="lighten" w="21600" h="32413">
                <a:moveTo>
                  <a:pt x="0" y="32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13"/>
                </a:lnTo>
                <a:close/>
              </a:path>
              <a:path fill="darken" w="21600" h="32413">
                <a:moveTo>
                  <a:pt x="3794" y="9200"/>
                </a:moveTo>
                <a:lnTo>
                  <a:pt x="17806" y="16206"/>
                </a:lnTo>
                <a:lnTo>
                  <a:pt x="3794" y="23213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AutoShape 7">
            <a:hlinkClick r:id="" action="ppaction://hlinkshowjump?jump=lastslide"/>
          </p:cNvPr>
          <p:cNvSpPr/>
          <p:nvPr/>
        </p:nvSpPr>
        <p:spPr>
          <a:xfrm>
            <a:off x="8686800" y="617220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14299" y="17983"/>
                </a:moveTo>
                <a:lnTo>
                  <a:pt x="3794" y="24990"/>
                </a:lnTo>
                <a:lnTo>
                  <a:pt x="3794" y="10977"/>
                </a:lnTo>
                <a:close/>
              </a:path>
              <a:path fill="darken" w="21600" h="35966">
                <a:moveTo>
                  <a:pt x="16144" y="10977"/>
                </a:moveTo>
                <a:lnTo>
                  <a:pt x="16144" y="24990"/>
                </a:lnTo>
                <a:lnTo>
                  <a:pt x="17806" y="24990"/>
                </a:lnTo>
                <a:lnTo>
                  <a:pt x="17806" y="10977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AutoShape 8">
            <a:hlinkClick r:id="" action="ppaction://hlinkshowjump?jump=firstslide"/>
          </p:cNvPr>
          <p:cNvSpPr/>
          <p:nvPr/>
        </p:nvSpPr>
        <p:spPr>
          <a:xfrm>
            <a:off x="7924680" y="617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马俑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225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马俑与真马一般大小，一匹匹形体健壮，肌肉丰满。那跃跃欲试的样子，好像一声令下，就会撒开四蹄，腾空而起，踏上征程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3" name="Picture 4" descr="E:\王志科\1\兵马俑图片\马.jpg"/>
          <p:cNvPicPr/>
          <p:nvPr/>
        </p:nvPicPr>
        <p:blipFill>
          <a:blip r:embed="rId1"/>
          <a:stretch/>
        </p:blipFill>
        <p:spPr>
          <a:xfrm>
            <a:off x="3200400" y="1933560"/>
            <a:ext cx="5943600" cy="456732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5">
            <a:hlinkClick r:id="" action="ppaction://hlinkshowjump?jump=nextslide"/>
          </p:cNvPr>
          <p:cNvSpPr/>
          <p:nvPr/>
        </p:nvSpPr>
        <p:spPr>
          <a:xfrm>
            <a:off x="8077320" y="6095880"/>
            <a:ext cx="304560" cy="38124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32">
                <a:moveTo>
                  <a:pt x="0" y="0"/>
                </a:moveTo>
                <a:lnTo>
                  <a:pt x="21600" y="0"/>
                </a:lnTo>
                <a:lnTo>
                  <a:pt x="21600" y="27032"/>
                </a:lnTo>
                <a:lnTo>
                  <a:pt x="0" y="27032"/>
                </a:lnTo>
                <a:close/>
              </a:path>
              <a:path fill="lightenLess" w="21600" h="27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2">
                <a:moveTo>
                  <a:pt x="21600" y="0"/>
                </a:moveTo>
                <a:lnTo>
                  <a:pt x="21600" y="27032"/>
                </a:lnTo>
                <a:lnTo>
                  <a:pt x="20200" y="25632"/>
                </a:lnTo>
                <a:lnTo>
                  <a:pt x="20200" y="1400"/>
                </a:lnTo>
                <a:close/>
              </a:path>
              <a:path fill="darkenLess" w="21600" h="27032">
                <a:moveTo>
                  <a:pt x="21600" y="27032"/>
                </a:moveTo>
                <a:lnTo>
                  <a:pt x="0" y="27032"/>
                </a:lnTo>
                <a:lnTo>
                  <a:pt x="1400" y="25632"/>
                </a:lnTo>
                <a:lnTo>
                  <a:pt x="20200" y="25632"/>
                </a:lnTo>
                <a:close/>
              </a:path>
              <a:path fill="lighten" w="21600" h="27032">
                <a:moveTo>
                  <a:pt x="0" y="27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2"/>
                </a:lnTo>
                <a:close/>
              </a:path>
              <a:path fill="darken" w="21600" h="27032">
                <a:moveTo>
                  <a:pt x="3794" y="6509"/>
                </a:moveTo>
                <a:lnTo>
                  <a:pt x="17806" y="13516"/>
                </a:lnTo>
                <a:lnTo>
                  <a:pt x="3794" y="20522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AutoShape 6">
            <a:hlinkClick r:id="" action="ppaction://hlinkshowjump?jump=lastslide"/>
          </p:cNvPr>
          <p:cNvSpPr/>
          <p:nvPr/>
        </p:nvSpPr>
        <p:spPr>
          <a:xfrm>
            <a:off x="8458200" y="6095880"/>
            <a:ext cx="228600" cy="38124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1240"/>
              <a:gd name="textAreaBottom" fmla="*/ 366480 h 381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00" y="34600"/>
                </a:lnTo>
                <a:lnTo>
                  <a:pt x="20200" y="140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400" y="34600"/>
                </a:lnTo>
                <a:lnTo>
                  <a:pt x="20200" y="3460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00"/>
                </a:lnTo>
                <a:close/>
              </a:path>
              <a:path fill="darken" w="21600" h="36000">
                <a:moveTo>
                  <a:pt x="14299" y="18000"/>
                </a:moveTo>
                <a:lnTo>
                  <a:pt x="3794" y="25006"/>
                </a:lnTo>
                <a:lnTo>
                  <a:pt x="3794" y="10994"/>
                </a:lnTo>
                <a:close/>
              </a:path>
              <a:path fill="darken" w="21600" h="36000">
                <a:moveTo>
                  <a:pt x="16144" y="10994"/>
                </a:moveTo>
                <a:lnTo>
                  <a:pt x="16144" y="25006"/>
                </a:lnTo>
                <a:lnTo>
                  <a:pt x="17806" y="25006"/>
                </a:lnTo>
                <a:lnTo>
                  <a:pt x="17806" y="10994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AutoShape 7">
            <a:hlinkClick r:id="" action="ppaction://hlinkshowjump?jump=firstslide"/>
          </p:cNvPr>
          <p:cNvSpPr/>
          <p:nvPr/>
        </p:nvSpPr>
        <p:spPr>
          <a:xfrm>
            <a:off x="7696080" y="6095880"/>
            <a:ext cx="304920" cy="38124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1240"/>
              <a:gd name="textAreaBottom" fmla="*/ 361800 h 381240"/>
            </a:gdLst>
            <a:ahLst/>
            <a:rect l="textAreaLeft" t="textAreaTop" r="textAreaRight" b="textAreaBottom"/>
            <a:pathLst>
              <a:path w="21600" h="27000">
                <a:moveTo>
                  <a:pt x="0" y="0"/>
                </a:moveTo>
                <a:lnTo>
                  <a:pt x="21600" y="0"/>
                </a:lnTo>
                <a:lnTo>
                  <a:pt x="21600" y="27000"/>
                </a:lnTo>
                <a:lnTo>
                  <a:pt x="0" y="27000"/>
                </a:lnTo>
                <a:close/>
              </a:path>
              <a:path fill="lightenLess" w="21600" h="27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0">
                <a:moveTo>
                  <a:pt x="21600" y="0"/>
                </a:moveTo>
                <a:lnTo>
                  <a:pt x="21600" y="27000"/>
                </a:lnTo>
                <a:lnTo>
                  <a:pt x="20200" y="25600"/>
                </a:lnTo>
                <a:lnTo>
                  <a:pt x="20200" y="1400"/>
                </a:lnTo>
                <a:close/>
              </a:path>
              <a:path fill="darkenLess" w="21600" h="27000">
                <a:moveTo>
                  <a:pt x="21600" y="27000"/>
                </a:moveTo>
                <a:lnTo>
                  <a:pt x="0" y="27000"/>
                </a:lnTo>
                <a:lnTo>
                  <a:pt x="1400" y="25600"/>
                </a:lnTo>
                <a:lnTo>
                  <a:pt x="20200" y="25600"/>
                </a:lnTo>
                <a:close/>
              </a:path>
              <a:path fill="lighten" w="21600" h="27000">
                <a:moveTo>
                  <a:pt x="0" y="27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0"/>
                </a:lnTo>
                <a:close/>
              </a:path>
              <a:path fill="darken" w="21600" h="27000">
                <a:moveTo>
                  <a:pt x="10800" y="6537"/>
                </a:moveTo>
                <a:lnTo>
                  <a:pt x="13376" y="9148"/>
                </a:ln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lnTo>
                  <a:pt x="17763" y="13500"/>
                </a:lnTo>
                <a:lnTo>
                  <a:pt x="16109" y="13500"/>
                </a:lnTo>
                <a:lnTo>
                  <a:pt x="16109" y="20689"/>
                </a:lnTo>
                <a:lnTo>
                  <a:pt x="5491" y="20689"/>
                </a:lnTo>
                <a:lnTo>
                  <a:pt x="5491" y="13500"/>
                </a:lnTo>
                <a:lnTo>
                  <a:pt x="3837" y="13500"/>
                </a:lnTo>
                <a:close/>
              </a:path>
              <a:path fill="darkenLess" w="21600" h="27000">
                <a:moveTo>
                  <a:pt x="13376" y="9148"/>
                </a:moveTo>
                <a:lnTo>
                  <a:pt x="13376" y="7407"/>
                </a:lnTo>
                <a:lnTo>
                  <a:pt x="15152" y="7407"/>
                </a:lnTo>
                <a:lnTo>
                  <a:pt x="15152" y="10924"/>
                </a:lnTo>
                <a:close/>
              </a:path>
              <a:path fill="darkenLess" w="21600" h="27000">
                <a:moveTo>
                  <a:pt x="9877" y="16999"/>
                </a:moveTo>
                <a:lnTo>
                  <a:pt x="11723" y="16999"/>
                </a:lnTo>
                <a:lnTo>
                  <a:pt x="11723" y="20689"/>
                </a:lnTo>
                <a:lnTo>
                  <a:pt x="16109" y="20689"/>
                </a:lnTo>
                <a:lnTo>
                  <a:pt x="16109" y="13500"/>
                </a:lnTo>
                <a:lnTo>
                  <a:pt x="5491" y="13500"/>
                </a:lnTo>
                <a:lnTo>
                  <a:pt x="5491" y="20689"/>
                </a:lnTo>
                <a:lnTo>
                  <a:pt x="9877" y="20689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1042920" y="4113360"/>
            <a:ext cx="4753080" cy="2185920"/>
            <a:chOff x="1042920" y="4113360"/>
            <a:chExt cx="4753080" cy="2185920"/>
          </a:xfrm>
        </p:grpSpPr>
        <p:pic>
          <p:nvPicPr>
            <p:cNvPr id="208" name="Picture 3" descr="斜头"/>
            <p:cNvPicPr/>
            <p:nvPr/>
          </p:nvPicPr>
          <p:blipFill>
            <a:blip r:embed="rId1"/>
            <a:stretch/>
          </p:blipFill>
          <p:spPr>
            <a:xfrm>
              <a:off x="1042920" y="4138560"/>
              <a:ext cx="156852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4"/>
            <p:cNvSpPr/>
            <p:nvPr/>
          </p:nvSpPr>
          <p:spPr>
            <a:xfrm>
              <a:off x="2592360" y="4113360"/>
              <a:ext cx="32036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有的紧握双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拳，勇武干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练，好像随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时准备出征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0" name="Group 5"/>
          <p:cNvGrpSpPr/>
          <p:nvPr/>
        </p:nvGrpSpPr>
        <p:grpSpPr>
          <a:xfrm>
            <a:off x="900000" y="577800"/>
            <a:ext cx="3962160" cy="2453400"/>
            <a:chOff x="900000" y="577800"/>
            <a:chExt cx="3962160" cy="2453400"/>
          </a:xfrm>
        </p:grpSpPr>
        <p:pic>
          <p:nvPicPr>
            <p:cNvPr id="211" name="Picture 6" descr="深思"/>
            <p:cNvPicPr/>
            <p:nvPr/>
          </p:nvPicPr>
          <p:blipFill>
            <a:blip r:embed="rId2"/>
            <a:stretch/>
          </p:blipFill>
          <p:spPr>
            <a:xfrm>
              <a:off x="1260360" y="793800"/>
              <a:ext cx="15415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7"/>
            <p:cNvSpPr/>
            <p:nvPr/>
          </p:nvSpPr>
          <p:spPr>
            <a:xfrm>
              <a:off x="1404720" y="577800"/>
              <a:ext cx="34574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有的颔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首低垂，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若有所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思，好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Text Box 8"/>
            <p:cNvSpPr/>
            <p:nvPr/>
          </p:nvSpPr>
          <p:spPr>
            <a:xfrm>
              <a:off x="900000" y="2449800"/>
              <a:ext cx="34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像在考虑如何相互配合，战胜敌手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4" name="Group 9"/>
          <p:cNvGrpSpPr/>
          <p:nvPr/>
        </p:nvGrpSpPr>
        <p:grpSpPr>
          <a:xfrm>
            <a:off x="5075280" y="333360"/>
            <a:ext cx="3600360" cy="3431160"/>
            <a:chOff x="5075280" y="333360"/>
            <a:chExt cx="3600360" cy="3431160"/>
          </a:xfrm>
        </p:grpSpPr>
        <p:pic>
          <p:nvPicPr>
            <p:cNvPr id="215" name="Picture 10" descr="发火"/>
            <p:cNvPicPr/>
            <p:nvPr/>
          </p:nvPicPr>
          <p:blipFill>
            <a:blip r:embed="rId3"/>
            <a:stretch/>
          </p:blipFill>
          <p:spPr>
            <a:xfrm>
              <a:off x="5087880" y="407880"/>
              <a:ext cx="157176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11"/>
            <p:cNvSpPr/>
            <p:nvPr/>
          </p:nvSpPr>
          <p:spPr>
            <a:xfrm>
              <a:off x="5075280" y="333360"/>
              <a:ext cx="36003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有的眼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如铜铃，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神态庄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      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重，好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Text Box 12"/>
            <p:cNvSpPr/>
            <p:nvPr/>
          </p:nvSpPr>
          <p:spPr>
            <a:xfrm>
              <a:off x="5317560" y="2208240"/>
              <a:ext cx="2131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像在暗下决心，誓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为秦国统一天下做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殊死拼搏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8" name="Group 13"/>
          <p:cNvGrpSpPr/>
          <p:nvPr/>
        </p:nvGrpSpPr>
        <p:grpSpPr>
          <a:xfrm>
            <a:off x="5003640" y="4076640"/>
            <a:ext cx="3406680" cy="2197080"/>
            <a:chOff x="5003640" y="4076640"/>
            <a:chExt cx="3406680" cy="2197080"/>
          </a:xfrm>
        </p:grpSpPr>
        <p:pic>
          <p:nvPicPr>
            <p:cNvPr id="219" name="Picture 14" descr="远方"/>
            <p:cNvPicPr/>
            <p:nvPr/>
          </p:nvPicPr>
          <p:blipFill>
            <a:blip r:embed="rId4"/>
            <a:stretch/>
          </p:blipFill>
          <p:spPr>
            <a:xfrm>
              <a:off x="5003640" y="4186440"/>
              <a:ext cx="158580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5"/>
            <p:cNvSpPr/>
            <p:nvPr/>
          </p:nvSpPr>
          <p:spPr>
            <a:xfrm>
              <a:off x="7010280" y="4076640"/>
              <a:ext cx="14000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有的凝视远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方，好像在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思念家乡的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亲人。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1" name="AutoShape 16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文本框 8200"/>
          <p:cNvSpPr/>
          <p:nvPr/>
        </p:nvSpPr>
        <p:spPr>
          <a:xfrm>
            <a:off x="2411280" y="3645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6600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神态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5" name="Picture 4" descr="E:\王志科\1\兵马俑图片\低头.jpg"/>
          <p:cNvPicPr/>
          <p:nvPr/>
        </p:nvPicPr>
        <p:blipFill>
          <a:blip r:embed="rId1"/>
          <a:stretch/>
        </p:blipFill>
        <p:spPr>
          <a:xfrm>
            <a:off x="6781680" y="0"/>
            <a:ext cx="2382840" cy="3429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E:\王志科\1\兵马俑图片\愁眉苦脸.jpg"/>
          <p:cNvPicPr/>
          <p:nvPr/>
        </p:nvPicPr>
        <p:blipFill>
          <a:blip r:embed="rId2"/>
          <a:stretch/>
        </p:blipFill>
        <p:spPr>
          <a:xfrm>
            <a:off x="4572000" y="0"/>
            <a:ext cx="2300400" cy="3429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E:\王志科\1\兵马俑图片\出征.jpg"/>
          <p:cNvPicPr/>
          <p:nvPr/>
        </p:nvPicPr>
        <p:blipFill>
          <a:blip r:embed="rId3"/>
          <a:stretch/>
        </p:blipFill>
        <p:spPr>
          <a:xfrm>
            <a:off x="2438280" y="0"/>
            <a:ext cx="2162160" cy="3429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E:\王志科\1\兵马俑图片\打仗.jpg"/>
          <p:cNvPicPr/>
          <p:nvPr/>
        </p:nvPicPr>
        <p:blipFill>
          <a:blip r:embed="rId4"/>
          <a:stretch/>
        </p:blipFill>
        <p:spPr>
          <a:xfrm>
            <a:off x="228600" y="0"/>
            <a:ext cx="2197080" cy="3429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E:\王志科\1\兵马俑图片\光头.jpg"/>
          <p:cNvPicPr/>
          <p:nvPr/>
        </p:nvPicPr>
        <p:blipFill>
          <a:blip r:embed="rId5"/>
          <a:stretch/>
        </p:blipFill>
        <p:spPr>
          <a:xfrm>
            <a:off x="228600" y="3429000"/>
            <a:ext cx="2200320" cy="3429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E:\王志科\1\兵马俑图片\老头.jpg"/>
          <p:cNvPicPr/>
          <p:nvPr/>
        </p:nvPicPr>
        <p:blipFill>
          <a:blip r:embed="rId6"/>
          <a:stretch/>
        </p:blipFill>
        <p:spPr>
          <a:xfrm>
            <a:off x="4724280" y="3429000"/>
            <a:ext cx="2357640" cy="342900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10">
            <a:hlinkClick r:id="" action="ppaction://hlinkshowjump?jump=nextslide"/>
          </p:cNvPr>
          <p:cNvSpPr/>
          <p:nvPr/>
        </p:nvSpPr>
        <p:spPr>
          <a:xfrm>
            <a:off x="8534520" y="6477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6497"/>
                </a:moveTo>
                <a:lnTo>
                  <a:pt x="17806" y="13503"/>
                </a:lnTo>
                <a:lnTo>
                  <a:pt x="3794" y="20510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AutoShape 11">
            <a:hlinkClick r:id="" action="ppaction://hlinkshowjump?jump=lastslide"/>
          </p:cNvPr>
          <p:cNvSpPr/>
          <p:nvPr/>
        </p:nvSpPr>
        <p:spPr>
          <a:xfrm>
            <a:off x="8915400" y="647712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14299" y="17983"/>
                </a:moveTo>
                <a:lnTo>
                  <a:pt x="3794" y="24990"/>
                </a:lnTo>
                <a:lnTo>
                  <a:pt x="3794" y="10977"/>
                </a:lnTo>
                <a:close/>
              </a:path>
              <a:path fill="darken" w="21600" h="35966">
                <a:moveTo>
                  <a:pt x="16144" y="10977"/>
                </a:moveTo>
                <a:lnTo>
                  <a:pt x="16144" y="24990"/>
                </a:lnTo>
                <a:lnTo>
                  <a:pt x="17806" y="24990"/>
                </a:lnTo>
                <a:lnTo>
                  <a:pt x="17806" y="10977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AutoShape 12">
            <a:hlinkClick r:id="" action="ppaction://hlinkshowjump?jump=firstslide"/>
          </p:cNvPr>
          <p:cNvSpPr/>
          <p:nvPr/>
        </p:nvSpPr>
        <p:spPr>
          <a:xfrm>
            <a:off x="8077320" y="6477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10800" y="6540"/>
                </a:moveTo>
                <a:lnTo>
                  <a:pt x="13376" y="9151"/>
                </a:lnTo>
                <a:lnTo>
                  <a:pt x="13376" y="7411"/>
                </a:lnTo>
                <a:lnTo>
                  <a:pt x="15152" y="7411"/>
                </a:lnTo>
                <a:lnTo>
                  <a:pt x="15152" y="10927"/>
                </a:lnTo>
                <a:lnTo>
                  <a:pt x="17763" y="13503"/>
                </a:lnTo>
                <a:lnTo>
                  <a:pt x="16109" y="13503"/>
                </a:lnTo>
                <a:lnTo>
                  <a:pt x="16109" y="20692"/>
                </a:lnTo>
                <a:lnTo>
                  <a:pt x="5491" y="20692"/>
                </a:lnTo>
                <a:lnTo>
                  <a:pt x="5491" y="13503"/>
                </a:lnTo>
                <a:lnTo>
                  <a:pt x="3837" y="13503"/>
                </a:lnTo>
                <a:close/>
              </a:path>
              <a:path fill="darkenLess" w="21600" h="27006">
                <a:moveTo>
                  <a:pt x="13376" y="9151"/>
                </a:moveTo>
                <a:lnTo>
                  <a:pt x="13376" y="7411"/>
                </a:lnTo>
                <a:lnTo>
                  <a:pt x="15152" y="7411"/>
                </a:lnTo>
                <a:lnTo>
                  <a:pt x="15152" y="10927"/>
                </a:lnTo>
                <a:close/>
              </a:path>
              <a:path fill="darkenLess" w="21600" h="27006">
                <a:moveTo>
                  <a:pt x="9877" y="17002"/>
                </a:moveTo>
                <a:lnTo>
                  <a:pt x="11723" y="17002"/>
                </a:lnTo>
                <a:lnTo>
                  <a:pt x="11723" y="20692"/>
                </a:lnTo>
                <a:lnTo>
                  <a:pt x="16109" y="20692"/>
                </a:lnTo>
                <a:lnTo>
                  <a:pt x="16109" y="13503"/>
                </a:lnTo>
                <a:lnTo>
                  <a:pt x="5491" y="13503"/>
                </a:lnTo>
                <a:lnTo>
                  <a:pt x="5491" y="20692"/>
                </a:lnTo>
                <a:lnTo>
                  <a:pt x="9877" y="20692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4" name="Picture 13" descr="E:\王志科\1\兵马俑图片\思考.jpg"/>
          <p:cNvPicPr/>
          <p:nvPr/>
        </p:nvPicPr>
        <p:blipFill>
          <a:blip r:embed="rId7"/>
          <a:stretch/>
        </p:blipFill>
        <p:spPr>
          <a:xfrm>
            <a:off x="2438280" y="3429000"/>
            <a:ext cx="2298960" cy="3429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4" descr="E:\王志科\1\兵马俑图片\铜铃.jpg"/>
          <p:cNvPicPr/>
          <p:nvPr/>
        </p:nvPicPr>
        <p:blipFill>
          <a:blip r:embed="rId8"/>
          <a:stretch/>
        </p:blipFill>
        <p:spPr>
          <a:xfrm>
            <a:off x="6983280" y="3429000"/>
            <a:ext cx="2160720" cy="342900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15">
            <a:hlinkClick r:id="" action="ppaction://hlinkshowjump?jump=nextslide"/>
          </p:cNvPr>
          <p:cNvSpPr/>
          <p:nvPr/>
        </p:nvSpPr>
        <p:spPr>
          <a:xfrm>
            <a:off x="86104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自选题：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请你谈谈学了本课后的感受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请你观察书上的插图（或上网寻找有关图片资料），展开想象，描述你感兴趣的一个兵马俑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AutoShape 4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39D9-C224-439A-8877-E7614EA87AED}" type="slidenum">
              <a:rPr b="0" lang="zh-CN" sz="1400" spc="-1" strike="noStrike">
                <a:solidFill>
                  <a:srgbClr val="ffff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8"/>
          <p:cNvSpPr/>
          <p:nvPr/>
        </p:nvSpPr>
        <p:spPr>
          <a:xfrm>
            <a:off x="1979640" y="9079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7" name="Picture 4" descr="E:\王志科\1\兵马俑图片\欢迎登陆秦始皇兵马俑博物馆网站.files\1hk01.jpg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58942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世界八大奇迹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埃及金字塔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巴比伦的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空中花园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以弗所（小亚细亚）的阿泰密斯神殿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奥林匹亚的宙斯神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哈利卡纳苏（小亚细亚）的摩索拉斯陵墓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地中海罗得岛上的太阳神巨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亚历山大城的灯塔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中国兵马俑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AutoShape 4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Rectangle 5">
            <a:hlinkClick r:id="rId1"/>
          </p:cNvPr>
          <p:cNvSpPr/>
          <p:nvPr/>
        </p:nvSpPr>
        <p:spPr>
          <a:xfrm>
            <a:off x="3048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Picture 6" descr="E:\王志科\1\兵马俑图片\新建文件夹\1.jpg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7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Rectangle 5">
            <a:hlinkClick r:id="rId1"/>
          </p:cNvPr>
          <p:cNvSpPr/>
          <p:nvPr/>
        </p:nvSpPr>
        <p:spPr>
          <a:xfrm>
            <a:off x="3048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Picture 6" descr="E:\王志科\1\兵马俑图片\新建文件夹\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7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Rectangle 5">
            <a:hlinkClick r:id="rId1"/>
          </p:cNvPr>
          <p:cNvSpPr/>
          <p:nvPr/>
        </p:nvSpPr>
        <p:spPr>
          <a:xfrm>
            <a:off x="3048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2" name="Picture 6" descr="E:\王志科\1\兵马俑图片\新建文件夹\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7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Rectangle 5">
            <a:hlinkClick r:id="rId1"/>
          </p:cNvPr>
          <p:cNvSpPr/>
          <p:nvPr/>
        </p:nvSpPr>
        <p:spPr>
          <a:xfrm>
            <a:off x="3048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Picture 6" descr="E:\王志科\1\兵马俑图片\新建文件夹\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1" name="Picture 4" descr="E:\王志科\1\兵马俑图片\新建文件夹\5.jpg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5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E:\王志科\1\兵马俑图片\新建文件夹\1.jpg"/>
          <p:cNvPicPr/>
          <p:nvPr/>
        </p:nvPicPr>
        <p:blipFill>
          <a:blip r:embed="rId1"/>
          <a:stretch/>
        </p:blipFill>
        <p:spPr>
          <a:xfrm>
            <a:off x="0" y="-87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3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自学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4-9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自然段，完成：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读一读，划出描写兵马俑外貌、神态、动作的词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议一议，你喜欢哪一类兵马俑，为什么？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演一演，根据书上的描写摆一个造型，其他同学猜猜演的是什么俑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AutoShape 4">
            <a:hlinkClick r:id="" action="ppaction://hlinkshowjump?jump=nextslide"/>
          </p:cNvPr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33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9T14:12:1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2:00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