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C425-23F6-4731-B900-9BE44E0C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1814-56FA-4DAC-908F-22EC1727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041-A9E3-4F6A-94E9-0FC53117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C2D1-6C36-4F59-A7F7-8CEBC1F8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E831-18E8-4458-A00B-6E6977CA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6E15-4C9E-412B-8B37-F841236C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D704-E8D4-42F7-9076-94B9F294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1C1A-8611-48CB-A1BD-187682BB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CC90-1F8D-4260-8BE3-84F61A75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3E85-3C8C-4297-966A-C77BC11D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6102-E935-4457-B1D8-11C4879B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4462-B124-408D-B5FA-3FB9EDA1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0561-20A8-4F7E-ABF2-367AE8F2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09F0-C272-4D6D-BA63-66521058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8145-3B02-4CCD-AA79-20239850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95A4-1766-4A2A-B7C3-A3DC5DE1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D91D-62C4-488C-B626-414C4F5E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0CA-7BAE-43C0-983A-E7185FE0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468C-7461-418A-8064-27EA844E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A4FE-D84B-4260-81A5-9B2FC8D2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C8B-1D48-4821-87E6-D6BDD624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54C-DB1F-44C4-BEF8-4542CE7F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B455-C436-4893-B399-BF7E2D1F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4283-D080-4E90-A6EB-862D9C2D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47B9-8D57-4D4B-A886-F5167D973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5536-D371-4C09-A560-C92D5870E75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C73A-F4EA-4B12-9E6C-674FF025DF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763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窃读记语文课件</a:t>
            </a:r>
            <a:r>
              <a:rPr b="0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模板下载</a:t>
            </a:r>
            <a:br>
              <a:rPr sz="96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林海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6"/>
          <p:cNvSpPr/>
          <p:nvPr/>
        </p:nvSpPr>
        <p:spPr>
          <a:xfrm>
            <a:off x="28440" y="6605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lin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4495680" y="136440"/>
            <a:ext cx="464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国现代著名女作家。生于日本大坂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岁随父母返台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岁来到北京，在北京度过了童年与青年时期，在北京，她完成了从学生到新闻记者、从少女到为人妻母的转变，北京是她文学之路的起点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，举家迁往台湾，在台湾仍以办报、办刊、写作、出版为主，联络了大批在台的文化界人士，提携了大量台湾的文学青年，出版了众多文学名作，被称为台湾文学“祖母级的人物”。林海音对北京有着深厚的情感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城南旧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书既是她童年生活的写照，更是当年北京平民生活的写真，也是她最具影响的作品。林海音以她的成就、她的为人、她的号召力，成为联接大陆与台湾文学之间的桥梁、中国与世界文坛的桥梁。她的作品被译为多种文字，她的一生荣获众多文学奖项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“第三届世界华文作家大会”荣获“终身成就奖”。有评论认为，林海音的去世，是台湾文学一个时代的结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2518560" y="23760"/>
            <a:ext cx="201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林海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1918—200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04920" y="187200"/>
            <a:ext cx="86868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林海音作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冬青树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55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绿藻与咸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57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晓云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59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城南旧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6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婚姻的故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63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烛芯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65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做客美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66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两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6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薇薇的周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68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72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林海音自选集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75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剪影话文坛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84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家住书坊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87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林海音童话集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87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一家之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88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金鲤鱼的百裥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93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奶奶的傻瓜相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94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往事悠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95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英子的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96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我们看海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96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驴打滚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96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林海音文集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99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城南旧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000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林海音作品集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以上为林海音部分作品名录，不包括其编选的作品集，出版年代为首次出版时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80880" y="457200"/>
            <a:ext cx="8197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炒菜    锅勺   踮起    脚尖  腋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恶狼    贪婪   惧怕    倾盆大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充足    饥肠辘辘   支撑   屋檐  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皱起眉头    一碗书柜    依依不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194"/>
          <p:cNvSpPr/>
          <p:nvPr/>
        </p:nvSpPr>
        <p:spPr>
          <a:xfrm>
            <a:off x="990720" y="28195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885320" y="914400"/>
            <a:ext cx="550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急忙打开书，一页，两页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像一匹恶狼，贪婪地读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很快乐，也很惧怕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这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窃读的滋味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A68C-B85D-4DF9-89A7-D1BC66DD0B2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769400" y="1371600"/>
            <a:ext cx="559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记住，你们是吃饭长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的，也是读书长大的！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01:4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01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1</vt:r8>
  </property>
</Properties>
</file>