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3.wmf" ContentType="image/x-wmf"/>
  <Override PartName="/ppt/media/image15.jpeg" ContentType="image/jpeg"/>
  <Override PartName="/ppt/media/type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  <p:custShowLst>
    <p:custShow name="自定义放映1" id="0">
      <p:sldLst>
        <p:sld r:id="rId5"/>
        <p:sld r:id="rId8"/>
        <p:sld r:id="rId9"/>
        <p:sld r:id="rId10"/>
        <p:sld r:id="rId11"/>
        <p:sld r:id="rId12"/>
        <p:sld r:id="rId13"/>
        <p:sld r:id="rId14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FA6-1736-4E38-9238-D53188B3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2BD-3043-41C1-86DA-A28D54CE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19E-71C6-4BDC-BD0B-B7F6E987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F75-0716-45B6-9552-0B938757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8672-752F-42A9-9AE9-6E5C39E9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3C43-448D-48BB-98A0-0CD42749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5CAF-18D7-4AA5-868D-44D7F959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64B4-D1EA-440C-AF5C-D66B3040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2A93-173C-414F-B1E7-01801230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22A0-94C0-4198-AA71-E30411D4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D910-22D1-422E-AC49-883528D3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E4E-AD90-4160-B072-6A083C54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7F93-01F2-44D8-9958-B6B1ABE3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1B63-3ED5-40FA-BEF8-4C408E2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48B2-B286-4C56-9AEC-DCA3569A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7571-203C-4CA7-8865-2913F397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6481-DB9C-4841-992D-344FDE78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F74-D1CA-4681-9179-6978421B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728-8E08-465C-9A9C-99028082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2B7-B024-4045-BAEF-F94AC4C0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4E1-9ECA-41BD-8225-ABE6D131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A75-17FC-4DF6-A6C0-BB37605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E2C-3E13-41DB-9832-6BD4436C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8877-4EEC-4DDE-84AF-DD6B497C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181-76D3-4ECE-A50C-1B7CD62CB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07BA-FC7E-4C2E-8E36-5B1DE961ED3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8E07-7111-44C6-BE65-5A7516B064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image" Target="../media/image2.png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hyperlink" Target="http://www.eeppt.com/moban/" TargetMode="External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0" t="0" r="0" b="39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七律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长征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课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轻音乐《山溪》.mp3" descr=""/>
          <p:cNvPicPr/>
          <p:nvPr/>
        </p:nvPicPr>
        <p:blipFill>
          <a:blip r:embed="rId2"/>
          <a:stretch/>
        </p:blipFill>
        <p:spPr>
          <a:xfrm>
            <a:off x="81532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29" descr="BD05219_"/>
          <p:cNvPicPr/>
          <p:nvPr/>
        </p:nvPicPr>
        <p:blipFill>
          <a:blip r:embed="rId3"/>
          <a:stretch/>
        </p:blipFill>
        <p:spPr>
          <a:xfrm>
            <a:off x="6821640" y="4038480"/>
            <a:ext cx="2322360" cy="281952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48720" y="609480"/>
            <a:ext cx="129528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大渡桥铁索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5676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大渡桥横铁索寒 2"/>
          <p:cNvPicPr/>
          <p:nvPr/>
        </p:nvPicPr>
        <p:blipFill>
          <a:blip r:embed="rId1"/>
          <a:stretch/>
        </p:blipFill>
        <p:spPr>
          <a:xfrm>
            <a:off x="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飞夺泸定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桥 1"/>
          <p:cNvPicPr/>
          <p:nvPr/>
        </p:nvPicPr>
        <p:blipFill>
          <a:blip r:embed="rId1"/>
          <a:stretch/>
        </p:blipFill>
        <p:spPr>
          <a:xfrm>
            <a:off x="0" y="1219320"/>
            <a:ext cx="4572000" cy="5638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夺桥 3"/>
          <p:cNvPicPr/>
          <p:nvPr/>
        </p:nvPicPr>
        <p:blipFill>
          <a:blip r:embed="rId2"/>
          <a:stretch/>
        </p:blipFill>
        <p:spPr>
          <a:xfrm>
            <a:off x="4648320" y="1219320"/>
            <a:ext cx="4495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A1BD-8B5B-436A-89B9-C0C42F8B32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更喜岷山千里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岷山"/>
          <p:cNvPicPr/>
          <p:nvPr/>
        </p:nvPicPr>
        <p:blipFill>
          <a:blip r:embed="rId1"/>
          <a:stretch/>
        </p:blipFill>
        <p:spPr>
          <a:xfrm>
            <a:off x="4876920" y="990720"/>
            <a:ext cx="4267080" cy="586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雪山图"/>
          <p:cNvPicPr/>
          <p:nvPr/>
        </p:nvPicPr>
        <p:blipFill>
          <a:blip r:embed="rId2"/>
          <a:stretch/>
        </p:blipFill>
        <p:spPr>
          <a:xfrm>
            <a:off x="0" y="990720"/>
            <a:ext cx="4876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4859280" y="242100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七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长征</a:t>
            </a:r>
            <a:br>
              <a:rPr sz="44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毛泽东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3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诗朗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军不怕远征难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水千山只等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岭逶迤腾细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乌蒙磅礴走泥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沙水拍云崖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渡桥横铁索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喜岷山千里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军过后尽开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6"/>
          <a:stretch/>
        </p:blipFill>
        <p:spPr>
          <a:xfrm>
            <a:off x="4343400" y="1905120"/>
            <a:ext cx="4495680" cy="4647960"/>
          </a:xfrm>
          <a:prstGeom prst="rect">
            <a:avLst/>
          </a:prstGeom>
          <a:ln w="0">
            <a:noFill/>
          </a:ln>
        </p:spPr>
      </p:pic>
      <p:pic>
        <p:nvPicPr>
          <p:cNvPr id="91" name="轻音乐《山溪》.mp3" descr=""/>
          <p:cNvPicPr/>
          <p:nvPr/>
        </p:nvPicPr>
        <p:blipFill>
          <a:blip r:embed="rId17"/>
          <a:stretch/>
        </p:blipFill>
        <p:spPr>
          <a:xfrm>
            <a:off x="7848720" y="312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500"/>
                            </p:stCondLst>
                            <p:childTnLst>
                              <p:par>
                                <p:cTn id="54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4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、时代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3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年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3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年，在毛泽东同志正确路线指引下，红军取得了四次反“围剿”的胜利。以后，由于王明的错误路线排斥了毛泽东同志的正确领导，造成第五次反“围剿”的失败。红军不得不离开中央苏区根据地，开始长征，北上抗日。长征途中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3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月，党中央召开了遵义会议，确立了毛泽东同志的领导地位，结束了王明路线的统治，从此，中国革命转危为安，从胜利走向胜利。党中央领导的中国工农红军第一方面军，经过福建、江西、广东、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----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等十一个省。爬雪山、过草地，历经艰难，行程二万五千里，终于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3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月胜利到达陕北根据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75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9760" y="685800"/>
            <a:ext cx="152388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长征路线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长征路线图"/>
          <p:cNvPicPr/>
          <p:nvPr/>
        </p:nvPicPr>
        <p:blipFill>
          <a:blip r:embed="rId1"/>
          <a:stretch/>
        </p:blipFill>
        <p:spPr>
          <a:xfrm>
            <a:off x="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、学唱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长征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歌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红军不怕远征难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万水千山只等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五岭逶迤腾细浪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乌蒙磅礴走泥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金沙水拍云崖暖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大渡桥横铁索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更喜岷山千里雪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军过后尽开颜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七律-长征.mp3" descr=""/>
          <p:cNvPicPr/>
          <p:nvPr/>
        </p:nvPicPr>
        <p:blipFill>
          <a:blip r:embed="rId1"/>
          <a:stretch/>
        </p:blipFill>
        <p:spPr>
          <a:xfrm>
            <a:off x="7238880" y="4572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大渡桥横铁索寒 2"/>
          <p:cNvPicPr/>
          <p:nvPr/>
        </p:nvPicPr>
        <p:blipFill>
          <a:blip r:embed="rId2"/>
          <a:stretch/>
        </p:blipFill>
        <p:spPr>
          <a:xfrm>
            <a:off x="3809880" y="1219320"/>
            <a:ext cx="251460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岷山"/>
          <p:cNvPicPr/>
          <p:nvPr/>
        </p:nvPicPr>
        <p:blipFill>
          <a:blip r:embed="rId3"/>
          <a:stretch/>
        </p:blipFill>
        <p:spPr>
          <a:xfrm>
            <a:off x="6400800" y="39625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乌蒙磅礴"/>
          <p:cNvPicPr/>
          <p:nvPr/>
        </p:nvPicPr>
        <p:blipFill>
          <a:blip r:embed="rId4"/>
          <a:stretch/>
        </p:blipFill>
        <p:spPr>
          <a:xfrm>
            <a:off x="3809880" y="3962520"/>
            <a:ext cx="251460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金沙江"/>
          <p:cNvPicPr/>
          <p:nvPr/>
        </p:nvPicPr>
        <p:blipFill>
          <a:blip r:embed="rId5"/>
          <a:stretch/>
        </p:blipFill>
        <p:spPr>
          <a:xfrm>
            <a:off x="6400800" y="121932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8197"/>
          <p:cNvSpPr/>
          <p:nvPr/>
        </p:nvSpPr>
        <p:spPr>
          <a:xfrm>
            <a:off x="2266920" y="836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1"/>
                            </p:stCondLst>
                            <p:childTnLst>
                              <p:par>
                                <p:cTn id="10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1"/>
                            </p:stCondLst>
                            <p:childTnLst>
                              <p:par>
                                <p:cTn id="11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1"/>
                            </p:stCondLst>
                            <p:childTnLst>
                              <p:par>
                                <p:cTn id="114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1"/>
                            </p:stCondLst>
                            <p:childTnLst>
                              <p:par>
                                <p:cTn id="118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501"/>
                            </p:stCondLst>
                            <p:childTnLst>
                              <p:par>
                                <p:cTn id="12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1"/>
                            </p:stCondLst>
                            <p:childTnLst>
                              <p:par>
                                <p:cTn id="12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1"/>
                            </p:stCondLst>
                            <p:childTnLst>
                              <p:par>
                                <p:cTn id="13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1"/>
                            </p:stCondLst>
                            <p:childTnLst>
                              <p:par>
                                <p:cTn id="134" dur="indefinite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501"/>
                            </p:stCondLst>
                            <p:childTnLst>
                              <p:par>
                                <p:cTn id="139" dur="indefinite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8001"/>
                            </p:stCondLst>
                            <p:childTnLst>
                              <p:par>
                                <p:cTn id="144" dur="indefinite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4501"/>
                            </p:stCondLst>
                            <p:childTnLst>
                              <p:par>
                                <p:cTn id="149" dur="indefinite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诗句赏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句：红军不怕远征难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万水千山只等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概述了红军长征经历的千难万险以及面对困难的态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、三、四句从万水千山中挑选了几个典型的例子，生动具体地描绘了红军战胜艰难险阻的英雄气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五岭逶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五岭逶迤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乌蒙磅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800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乌蒙山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0720" y="76212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金沙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567684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金沙江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3:43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0Z</dcterms:modified>
  <cp:revision>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