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E5D-2438-4398-AF6B-84FDF2C2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358-CB55-4A73-B173-CDD8312F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28D8-70D3-426F-9E39-0E1976B6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848-0960-4F3A-BA67-9F6B6A90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1B37-1B28-4C04-A231-AEBFD80D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B777-CB32-4C68-95FB-1E0CB20F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846F-25E8-4E0A-8136-FCBEEAF3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E2AC-CB92-4D6B-ACD6-CF7390C1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CF1C-0052-4C23-AD42-467BF701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EA33-470A-4C29-A69B-A9F11249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C57A-951D-4C8E-B881-EBAD2612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9C4-AA3E-4E88-9079-A41EA683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0846-4931-4F4F-BE54-4400D70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9921-DC99-4949-A267-E28753C1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516-9EFB-43BA-9D95-FEAE3FE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F3B1-36D1-4B76-A32A-65019742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85F4-4D4A-4E4F-BBC5-FC37C36B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5FD-3597-4BC1-AC17-465E3711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F71-4197-4440-95E1-2C0431D8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447-C251-41C8-A918-3A75B3CB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4F36-0EDA-4EAA-BF89-2335FC3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8A1-8AE9-4C6C-9337-EE9A9ACB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E2C-015C-4A13-BF81-50BE67AB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EB7B-DBFB-44A0-BACD-E078D95F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E8B8-7365-4E98-B235-1F3AB60863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85AC-18B5-49D4-B0D4-9FF0C661C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DB0F-6D93-490B-9264-571C5D588FC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13F8-07B1-447C-9433-467B189E95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插图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1116000" y="838080"/>
            <a:ext cx="67676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七月的天山课件</a:t>
            </a:r>
            <a:r>
              <a:rPr b="0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模板打包下载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6"/>
          <p:cNvSpPr/>
          <p:nvPr/>
        </p:nvSpPr>
        <p:spPr>
          <a:xfrm>
            <a:off x="3059280" y="1268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05123122361826512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u=1454191501,4025431834&amp;gp=48"/>
          <p:cNvPicPr/>
          <p:nvPr/>
        </p:nvPicPr>
        <p:blipFill>
          <a:blip r:embed="rId1"/>
          <a:stretch/>
        </p:blipFill>
        <p:spPr>
          <a:xfrm>
            <a:off x="755640" y="372960"/>
            <a:ext cx="734544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u=1762376237,3113674859&amp;gp=30"/>
          <p:cNvPicPr/>
          <p:nvPr/>
        </p:nvPicPr>
        <p:blipFill>
          <a:blip r:embed="rId1"/>
          <a:stretch/>
        </p:blipFill>
        <p:spPr>
          <a:xfrm>
            <a:off x="684360" y="512640"/>
            <a:ext cx="7704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u=2157089520,3382673286&amp;gp=6"/>
          <p:cNvPicPr/>
          <p:nvPr/>
        </p:nvPicPr>
        <p:blipFill>
          <a:blip r:embed="rId1"/>
          <a:stretch/>
        </p:blipFill>
        <p:spPr>
          <a:xfrm>
            <a:off x="755640" y="573120"/>
            <a:ext cx="76327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=348078281,990560503&amp;gp=-8"/>
          <p:cNvPicPr/>
          <p:nvPr/>
        </p:nvPicPr>
        <p:blipFill>
          <a:blip r:embed="rId1"/>
          <a:stretch/>
        </p:blipFill>
        <p:spPr>
          <a:xfrm>
            <a:off x="611280" y="455760"/>
            <a:ext cx="76327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u=2293974885,3771244852&amp;gp=22"/>
          <p:cNvPicPr/>
          <p:nvPr/>
        </p:nvPicPr>
        <p:blipFill>
          <a:blip r:embed="rId1"/>
          <a:stretch/>
        </p:blipFill>
        <p:spPr>
          <a:xfrm>
            <a:off x="395280" y="654120"/>
            <a:ext cx="8137440" cy="540684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u=3798728013,139200520&amp;gp=48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E15E-CD96-45E8-9931-FE45059399D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画出描写方位变化的句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作者在写作顺序上和景物描写上有什么特点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出生字、新词，读准字音，理  解新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通句子，看看作者写了哪些景物，给你留下了怎样的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不懂的地方作上记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绸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缎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涧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视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皑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马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蹄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溅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绵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马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缎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涧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俯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皑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蹄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延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作者在第二自然段中写了哪些景物？找出有关语句读一读，看一看作者是如何把景物写具体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蓝天衬着高耸的巨大的雪峰，太阳下，雪峰间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云影就像白缎上绣了几朵银灰色的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山融化的雪水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悬的山涧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峭壁断崖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飞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来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像千百条闪耀的银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这飞泻下来的雪水，在山脚汇成冲激的溪流，浪花往上抛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形成千万朵盛开的白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200"/>
          <p:cNvSpPr/>
          <p:nvPr/>
        </p:nvSpPr>
        <p:spPr>
          <a:xfrm>
            <a:off x="2482920" y="5734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沿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白皑皑群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雪线以下，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蜿蜒无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翠绿的原始森林，密密的塔松像撑天的巨伞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重重叠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枝丫，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斑斑点点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细碎的日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马走在花海中，显得格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矫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浮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花海上，也显得格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精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4:0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7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