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4.jpeg" ContentType="image/jpeg"/>
  <Override PartName="/ppt/media/WHOOSH.WAV" ContentType="audio/x-wav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C52-A304-45B8-B3FB-731A5FE4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98F-5331-442C-950D-823A4E7C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109A1-D83A-417A-B5C1-454607BC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DC32B-856F-49EF-BF7E-9F718D5A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09A9A-AA59-4FD5-B0FA-73077264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64F93-A015-4680-9795-51ACA04F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07D78-2261-4F15-B1B3-1FFB6A17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C0310-72B2-4F93-BB34-DB3E0945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AF102-59B6-46F2-B609-F31A27E7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88E6D-95F9-4EBA-A26C-D9CD6A0C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B26A9-D499-4523-8D11-D87041F9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E24BB-1940-4F83-A47A-1794BC81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97FC-D2E6-4550-98B2-069EAD29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88215-4EB2-4423-83F5-9223E529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FBB2C-59DA-4F39-BDF4-9E66AA08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DEC69-F510-47D3-A77C-687457F6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F6083-DEBE-488A-B970-E52501C1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3A41F-CC5A-4816-BB82-37F2EDF4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02675-4E11-4A34-9224-3F999A07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CD09D-8424-4882-8A8E-313BFADD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36822-037E-40CA-A227-9D728DAD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1576E-56AE-428B-B24E-506DE265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64AF2-2407-4794-80F6-FA074D2D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BA1-C8B1-4736-BE8F-4675C7D7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C68A2-EF6C-4AEC-B4A4-0AA601FB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E12C2-90E7-4E3C-AA40-F8F4EAB0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5AB39-0CFD-422B-B4A0-74867FA1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84E3B-C9D4-4E57-8B6B-E4C87EAC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D8929-89AD-4A24-B8E2-1C35C06E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E4F7E-2B30-4670-B9FC-B8F21338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B8A98-E76B-4739-957E-80DC1BBB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B2AE2-1D41-4679-B6C6-E9990C3F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7B7E6-A029-477C-B899-A0901540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A8701-056D-41CD-8D5C-80896BA5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797D-F301-464E-9DB7-36EAAA2A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F2CB9-F6DC-44E8-AC1B-B8EDBB0B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4FD29-A54D-4420-B9F6-C7FCDC9C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DB33A-AECA-4493-847E-9A0CD189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D2735-EA31-425C-A4A1-26F4FD62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0B727-7DFA-4C27-A982-E77B44C5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F7BC3-5A2D-426E-A859-01C30658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17E81-1180-400E-839E-BA975194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A9F30-9E91-4D8A-8BC4-55B2E453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2978F-2F02-4F79-AF34-6A5AF650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4D22D-23A0-48A2-B1E5-84F3F074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4727-1342-4F41-87BA-4CC1B87C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EFDD9-5155-4155-B196-21845BF4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15DD6-B9DB-4B45-A255-9243AF4E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36D4E-8740-4FFE-9667-24B91FF2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6AC92-1DA5-4574-9DA3-3126BD19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D2DAA-F5CD-4519-857C-C689E3F1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DD1A6-0F71-4AAF-9994-89D56EB1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E4F2D-65DD-4FEB-B677-1D20579A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CA313-708F-4096-94F0-54F77C50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D1161-5E54-450B-A6F5-2F8EA76A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ABA5D-BC3E-4B2B-B588-2836D22E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EB34-B456-4A77-9902-17B93DCA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4A103-6733-4C37-A65F-85A9A0F2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95789-3B14-4CF5-82C8-79A979AC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219C3-C95C-4818-A93D-D817F0CA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10E6B-34DE-4962-A69E-25D09817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E3FE2-DD9C-416C-B315-EF2BB275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D05B6-667F-48A0-973C-EB758F05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715A7-C99C-4E93-AA61-B499B271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8BC0-AF63-4962-A3A5-58ABF601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09EB-067B-47DA-A0B1-BC7BB590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B4C7-5AB0-43D6-BDEA-B8FBC6A9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D26E-F7BC-40D8-A60E-2D55EFDD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4B7-6FDE-410E-B9BD-96E26FB7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5ACD-202B-4F4E-B451-9CE8FBBA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FBBF-6B5F-4E95-AA44-2966310F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E1B8-5C6C-499D-BC88-107EA7B4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D225-5507-42F5-AEBA-96772C25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7C49-878F-485C-ACA7-1891CE35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B119-A841-4619-8821-835925C7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2AC47-A578-4CC8-B439-7D14A686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8DB8-CEE7-46E5-925E-25C4F405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69F4D-B4B8-4E07-B2F3-BF3FF761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1826E-8110-41A5-8DD0-E1A87F59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F706-8853-46E0-AB93-8ED1B735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4D71F-86D8-4C60-AE5B-B092FD35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1824-1880-41EA-8B2D-076BE6B0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C766-1222-42C5-83FD-54E6B907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B15B7-424A-4534-B01A-1F60C576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3C89-0DFF-45F4-B469-799D9811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50115-3CBA-4B49-BA96-7070B745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CE05C-879A-41B6-A268-68B94A38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FCAEF-F76B-4D57-9E35-3DB42370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ADA9A-B548-4E00-8E11-7C734736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FC775-8F48-4968-847B-5F2B4514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593-7D5A-4574-B4CB-600C01A9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155D4-D3FA-4037-8AFF-9B418091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B3797-039E-42EB-9749-5518B847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F63C9-90E0-4AC8-9D12-218FC9BE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D6C65-89BC-44C7-AB85-3C0EC6BE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24097-0746-4D09-8A60-1E4A09B1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84D61-C228-4A52-83F8-51040104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A2B56-0132-4060-AA7F-52034649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AB03A-58FE-4EFB-917A-E15B07F8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E51AB-3DA5-4760-808F-80C2A49B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4FDCB-7E3B-4332-A4C2-8A4E0BB4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351-FF65-43B7-8A69-1EA2F2F0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6B3B2-0CBC-43DA-B41A-BC7FD472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E5074-B601-4ED5-9DE5-F85DFD99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6FDAB-81A8-452F-9F61-81887DE6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A3018-04E9-4856-BF04-595C28DD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4706F-26B9-4708-B11E-97662AD4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EE8B2-6FBD-45ED-8552-A7247563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CD561-2261-4F5A-A3D6-2DC1917A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F1898-9135-4654-9328-3BE97105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EB2D1-75C0-4A6B-AE08-3D1B2022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97A24-AADD-46A3-8A4F-EBCBF280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225-8733-45E6-B43D-64F01344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FC5ED-C1FC-4DEE-B1B2-BBDA509A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1049E-56B3-4B19-B674-A095DED9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454CE-9D29-4B7C-9D45-FE3B90A3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3B6E3-3F39-49B4-BEFE-06B55BBF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EDF56-616A-427A-90BE-61B782E9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F0D9F-C345-4ABD-8A4F-8AD11593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2C297-DAB1-47FE-B4A5-C4D8B265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C6187-403E-41CF-8722-2739CC42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C5326-5BC4-4CE6-8CF8-C9DB48C4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DEA23-D9E5-4E39-8EEA-56F85114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F2B-526B-4849-BB06-97448A39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38CE3-8A4C-4830-8A4D-4ADECBD2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3BB44-F8ED-4796-94B9-92A00FB7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D730D-B833-4AFB-8231-BD2DF3EF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0C896-47A5-4957-BC2C-F0732E0D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99ECA-8C95-4E2F-8629-A3D35D20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69F22-8660-4E93-8F9E-68BDE79C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00FF1-F40A-48FC-BCE8-35D4268E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F2A54-C010-478B-9F7E-77AC3D77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632F8-028A-4E99-8FE0-F5EFEF44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E1AFD-2E53-4448-B124-34ABFBC5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BD6-7FEA-4161-8FBB-027762A2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04BF8-C233-44D3-8527-E8E64DF6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3E419-3348-4435-A306-5337B766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84FCC-C7D8-48BB-A897-D760CC64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14235-6A1D-41DA-9657-597A2C15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57984-68FF-4D35-B027-40FE63E6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7CB62-2FFC-4413-BD68-0B2CC917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59A9E-89D7-4D12-82C0-B04DBF57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C22F0-2E08-42FE-AB06-ED492760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1F192-7FDC-4EEB-842B-5BE110A1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6B61A-5976-475F-AEF0-6F5074F3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F9B-4C90-4E86-AF86-39B24A0C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FCFBF-A2DC-41BD-83EC-B9E6FECD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E4A88-61E6-4082-8A2F-48849D5F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D0895-4830-49B0-9A49-A7CB40B9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91E77-EE62-43C7-B9FC-F1C60887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41389-DA9A-448A-BB79-9DBF688D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35E26-E646-4538-95D4-BEE716E7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4CFEB-63F3-4032-BE98-E70B8C36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29FF4-DEF3-4DBD-AF9E-376D34BC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6CAF7-DDBE-44E3-9D23-FEC79003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07A87-39E9-49AC-A451-9E8C183B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015920" y="1600200"/>
            <a:ext cx="7670880" cy="360"/>
            <a:chOff x="1015920" y="1600200"/>
            <a:chExt cx="7670880" cy="360"/>
          </a:xfrm>
        </p:grpSpPr>
        <p:sp>
          <p:nvSpPr>
            <p:cNvPr id="2" name="Line 3"/>
            <p:cNvSpPr/>
            <p:nvPr/>
          </p:nvSpPr>
          <p:spPr>
            <a:xfrm>
              <a:off x="1015920" y="1600200"/>
              <a:ext cx="7670880" cy="0"/>
            </a:xfrm>
            <a:prstGeom prst="line">
              <a:avLst/>
            </a:prstGeom>
            <a:ln w="3240">
              <a:solidFill>
                <a:srgbClr val="cbbd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 txBox="1"/>
            <p:nvPr/>
          </p:nvSpPr>
          <p:spPr>
            <a:xfrm>
              <a:off x="1015920" y="1600200"/>
              <a:ext cx="767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" name="Picture 4" descr="A:\minispir.GIF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5" descr="A:\minispir.GIF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216A-0A02-4267-AA3C-1C2FF51A0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B5DF-8BE8-4965-BD38-B1F652503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2E78-01F9-4770-87E7-378F94534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FD1D-BD94-4F07-9DBE-2B0794D17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6B6B-13FF-44C3-B2C3-A4E0F4916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81DE-4142-4BD0-9586-E2B43C54519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333F-2061-4C53-A6D6-90316D82B25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A:\minispir.GIF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A:\minispir.GIF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6A33-F3E5-4CF4-850F-DE41E6BB0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9DE0-6173-4414-A701-79CC4AC37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06CD-DC29-44D1-9E9B-B5446EF28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C8AA-E83D-4491-8C74-1994DF2CF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7357-AE05-4F90-920A-3B6DF7AC4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F352-33F3-47E4-8D47-A8F2853C7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C997-D2EB-4C49-A63D-337547DFC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z.sm.fj.cninfo.net/jxzy/tp/dltp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hyperlink" Target="http://www.bjww.gov.cn/msgj/gb/m4.htm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www.gansutong.com/wjys/wjys/whys/gsww/ccbwg/ccbwg.htm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WordArt 6"/>
          <p:cNvSpPr txBox="1"/>
          <p:nvPr/>
        </p:nvSpPr>
        <p:spPr>
          <a:xfrm>
            <a:off x="1384200" y="695160"/>
            <a:ext cx="65437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e3d18f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华文新魏"/>
              </a:rPr>
              <a:t>人教版长城课件</a:t>
            </a:r>
            <a:r>
              <a:rPr b="1" lang="en-US" sz="4000" spc="-1" strike="noStrike">
                <a:ln w="0">
                  <a:noFill/>
                </a:ln>
                <a:solidFill>
                  <a:srgbClr val="e3d18f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华文新魏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e3d18f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华文新魏"/>
              </a:rPr>
              <a:t>模板下载</a:t>
            </a:r>
            <a:endParaRPr b="1" lang="en-US" sz="4000" spc="-1" strike="noStrike">
              <a:ln w="0">
                <a:noFill/>
              </a:ln>
              <a:solidFill>
                <a:srgbClr val="e3d18f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250920" y="415800"/>
            <a:ext cx="44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d18f"/>
                </a:solidFill>
                <a:latin typeface="黑体"/>
                <a:ea typeface="黑体"/>
              </a:rPr>
              <a:t>人教版小学语文四年级上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C053-21BD-41AE-B14E-E8EC76653A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19f9"/>
                </a:solidFill>
                <a:latin typeface="Times New Roman"/>
              </a:rPr>
              <a:t>学习评价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066680" y="1752480"/>
          <a:ext cx="7315200" cy="46306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812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zh-CN" sz="16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评价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小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汇报形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汇报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汇报效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探究</a:t>
                      </a: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探究</a:t>
                      </a: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探究</a:t>
                      </a: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探究</a:t>
                      </a: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7"/>
          <p:cNvSpPr/>
          <p:nvPr/>
        </p:nvSpPr>
        <p:spPr>
          <a:xfrm>
            <a:off x="1187280" y="2708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E:\方启德\课件材料\chmap.jpg"/>
          <p:cNvPicPr/>
          <p:nvPr/>
        </p:nvPicPr>
        <p:blipFill>
          <a:blip r:embed="rId1"/>
          <a:stretch/>
        </p:blipFill>
        <p:spPr>
          <a:xfrm>
            <a:off x="762120" y="2362320"/>
            <a:ext cx="8076960" cy="39193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19f9"/>
                </a:solidFill>
                <a:latin typeface="Times New Roman"/>
              </a:rPr>
              <a:t>教材简析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580920" y="304920"/>
            <a:ext cx="4953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19f9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fa1843"/>
                </a:solidFill>
                <a:latin typeface="Times New Roman"/>
              </a:rPr>
              <a:t>这篇看图学文按由远及近、由整体到部分的顺序介绍了长城气势雄伟的远景和高大坚固的近景，使学生认识到长城是我国古代劳动人民血汗和智慧的结晶，是世界历史上的伟大奇迹，激发学生民族自豪感，使学生受到爱国主义教育。</a:t>
            </a:r>
            <a:r>
              <a:rPr b="0" lang="zh-CN" sz="2800" spc="-1" strike="noStrike">
                <a:solidFill>
                  <a:srgbClr val="fa1843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184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19f9"/>
                </a:solidFill>
                <a:latin typeface="Times New Roman"/>
              </a:rPr>
              <a:t>教学目标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．</a:t>
            </a:r>
            <a:r>
              <a:rPr b="0" lang="zh-CN" sz="3200" spc="-1" strike="noStrike">
                <a:solidFill>
                  <a:srgbClr val="fa1843"/>
                </a:solidFill>
                <a:latin typeface="Times New Roman"/>
              </a:rPr>
              <a:t>认知目标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：掌握本课生字、生词，了解长城的概貌、构造、历史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．</a:t>
            </a:r>
            <a:r>
              <a:rPr b="0" lang="zh-CN" sz="3200" spc="-1" strike="noStrike">
                <a:solidFill>
                  <a:srgbClr val="fa1843"/>
                </a:solidFill>
                <a:latin typeface="Times New Roman"/>
              </a:rPr>
              <a:t>智能目标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：指导学生图文对照，学习由远及近、由整体到部分的观察方法，培养观察能力和良好的观察习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．</a:t>
            </a:r>
            <a:r>
              <a:rPr b="0" lang="zh-CN" sz="3200" spc="-1" strike="noStrike">
                <a:solidFill>
                  <a:srgbClr val="fa1843"/>
                </a:solidFill>
                <a:latin typeface="Times New Roman"/>
              </a:rPr>
              <a:t>情感目标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：通过读文讨论，激发学生的民族自豪感和爱国主义情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19f9"/>
                </a:solidFill>
                <a:latin typeface="Times New Roman"/>
              </a:rPr>
              <a:t>主题学习的探究任务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、远看长城是什么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、长城的构造是什么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、为什么说“长城是人类历史上的一个伟大奇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、长城到底给中华民族带来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19f9"/>
                </a:solidFill>
                <a:latin typeface="Times New Roman"/>
              </a:rPr>
              <a:t>学习方式指导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90720" y="167616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919f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、自己和几个兴趣相同的同学一起，组成一个研究小组来共同来开展研究。由组长给小组成员明确分工，有的负责图片的收集整理，有的负责历史记载资料的收集整理，有的负责</a:t>
            </a:r>
            <a:r>
              <a:rPr b="0" lang="zh-CN" sz="2800" spc="-1" strike="noStrike">
                <a:solidFill>
                  <a:srgbClr val="2919f9"/>
                </a:solidFill>
                <a:latin typeface="Times New Roman"/>
              </a:rPr>
              <a:t>音像</a:t>
            </a: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资料的收集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919f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、选定一个研究方面，收集学习资料。可查阅书籍，也可通过老师提供的链接，查阅关于长城的网站，或者在</a:t>
            </a:r>
            <a:r>
              <a:rPr b="0" lang="en-US" sz="2400" spc="-1" strike="noStrike">
                <a:solidFill>
                  <a:srgbClr val="2919f9"/>
                </a:solidFill>
                <a:latin typeface="Times New Roman"/>
              </a:rPr>
              <a:t>Internet</a:t>
            </a: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上自己用搜索引擎，收集资料，进行收集、整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919f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、分析、筛选资料，以一定的方式（例如：手抄报、演示文稿或网页）设计完成小组的汇报讲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文本框 8194"/>
          <p:cNvSpPr/>
          <p:nvPr/>
        </p:nvSpPr>
        <p:spPr>
          <a:xfrm>
            <a:off x="1835280" y="134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60066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Oval 9"/>
          <p:cNvSpPr/>
          <p:nvPr/>
        </p:nvSpPr>
        <p:spPr>
          <a:xfrm>
            <a:off x="990720" y="533520"/>
            <a:ext cx="1676160" cy="914400"/>
          </a:xfrm>
          <a:prstGeom prst="ellipse">
            <a:avLst/>
          </a:prstGeom>
          <a:solidFill>
            <a:srgbClr val="fa184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066320" y="24922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19f9"/>
                </a:solidFill>
                <a:latin typeface="Times New Roman"/>
              </a:rPr>
              <a:t>远看长城是什么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10" descr="E:\方启德\课件材料\$greatwall02.jpg"/>
          <p:cNvPicPr/>
          <p:nvPr/>
        </p:nvPicPr>
        <p:blipFill>
          <a:blip r:embed="rId1"/>
          <a:stretch/>
        </p:blipFill>
        <p:spPr>
          <a:xfrm>
            <a:off x="5613480" y="4437000"/>
            <a:ext cx="3225600" cy="2187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1" descr="E:\方启德\课件材料\新建 文件夹\01-3.jpg"/>
          <p:cNvPicPr/>
          <p:nvPr/>
        </p:nvPicPr>
        <p:blipFill>
          <a:blip r:embed="rId2"/>
          <a:stretch/>
        </p:blipFill>
        <p:spPr>
          <a:xfrm>
            <a:off x="4775040" y="36972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2" descr="E:\方启德\课件材料\新建 文件夹\cc00130jsl.jpg"/>
          <p:cNvPicPr/>
          <p:nvPr/>
        </p:nvPicPr>
        <p:blipFill>
          <a:blip r:embed="rId3"/>
          <a:stretch/>
        </p:blipFill>
        <p:spPr>
          <a:xfrm>
            <a:off x="6705720" y="380880"/>
            <a:ext cx="1981080" cy="133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Oval 5"/>
          <p:cNvSpPr/>
          <p:nvPr/>
        </p:nvSpPr>
        <p:spPr>
          <a:xfrm>
            <a:off x="990720" y="533520"/>
            <a:ext cx="1676160" cy="914400"/>
          </a:xfrm>
          <a:prstGeom prst="ellipse">
            <a:avLst/>
          </a:prstGeom>
          <a:solidFill>
            <a:srgbClr val="fa184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66320" y="17524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19f9"/>
                </a:solidFill>
                <a:latin typeface="Times New Roman"/>
              </a:rPr>
              <a:t>长城的构造是什么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6" descr="E:\方启德\课件材料\新建 文件夹\21.jpg"/>
          <p:cNvPicPr/>
          <p:nvPr/>
        </p:nvPicPr>
        <p:blipFill>
          <a:blip r:embed="rId1"/>
          <a:stretch/>
        </p:blipFill>
        <p:spPr>
          <a:xfrm>
            <a:off x="2743200" y="304920"/>
            <a:ext cx="2590920" cy="14475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E:\方启德\课件材料\新建 文件夹\55.jpg"/>
          <p:cNvPicPr/>
          <p:nvPr/>
        </p:nvPicPr>
        <p:blipFill>
          <a:blip r:embed="rId2"/>
          <a:stretch/>
        </p:blipFill>
        <p:spPr>
          <a:xfrm>
            <a:off x="5715000" y="304920"/>
            <a:ext cx="2895480" cy="217152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12"/>
          <p:cNvGrpSpPr/>
          <p:nvPr/>
        </p:nvGrpSpPr>
        <p:grpSpPr>
          <a:xfrm>
            <a:off x="1143000" y="4952880"/>
            <a:ext cx="7543440" cy="1089720"/>
            <a:chOff x="1143000" y="4952880"/>
            <a:chExt cx="7543440" cy="1089720"/>
          </a:xfrm>
        </p:grpSpPr>
        <p:grpSp>
          <p:nvGrpSpPr>
            <p:cNvPr id="569" name=""/>
            <p:cNvGrpSpPr/>
            <p:nvPr/>
          </p:nvGrpSpPr>
          <p:grpSpPr>
            <a:xfrm>
              <a:off x="2008440" y="5631840"/>
              <a:ext cx="309240" cy="360"/>
              <a:chOff x="2008440" y="5631840"/>
              <a:chExt cx="309240" cy="360"/>
            </a:xfrm>
          </p:grpSpPr>
          <p:sp>
            <p:nvSpPr>
              <p:cNvPr id="570" name="Line 13"/>
              <p:cNvSpPr/>
              <p:nvPr/>
            </p:nvSpPr>
            <p:spPr>
              <a:xfrm>
                <a:off x="2008440" y="5631840"/>
                <a:ext cx="30924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 txBox="1"/>
              <p:nvPr/>
            </p:nvSpPr>
            <p:spPr>
              <a:xfrm>
                <a:off x="2008440" y="5631840"/>
                <a:ext cx="309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2317320" y="5385960"/>
              <a:ext cx="360" cy="245520"/>
              <a:chOff x="2317320" y="5385960"/>
              <a:chExt cx="360" cy="245520"/>
            </a:xfrm>
          </p:grpSpPr>
          <p:sp>
            <p:nvSpPr>
              <p:cNvPr id="573" name="Line 14"/>
              <p:cNvSpPr/>
              <p:nvPr/>
            </p:nvSpPr>
            <p:spPr>
              <a:xfrm flipV="1">
                <a:off x="231768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 txBox="1"/>
              <p:nvPr/>
            </p:nvSpPr>
            <p:spPr>
              <a:xfrm rot="10800000">
                <a:off x="231732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317680" y="5385960"/>
              <a:ext cx="370800" cy="360"/>
              <a:chOff x="2317680" y="5385960"/>
              <a:chExt cx="370800" cy="360"/>
            </a:xfrm>
          </p:grpSpPr>
          <p:sp>
            <p:nvSpPr>
              <p:cNvPr id="576" name="Line 15"/>
              <p:cNvSpPr/>
              <p:nvPr/>
            </p:nvSpPr>
            <p:spPr>
              <a:xfrm>
                <a:off x="2317680" y="5385960"/>
                <a:ext cx="37080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 txBox="1"/>
              <p:nvPr/>
            </p:nvSpPr>
            <p:spPr>
              <a:xfrm>
                <a:off x="2317680" y="5385960"/>
                <a:ext cx="370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688840" y="5385960"/>
              <a:ext cx="360" cy="245520"/>
              <a:chOff x="2688840" y="5385960"/>
              <a:chExt cx="360" cy="245520"/>
            </a:xfrm>
          </p:grpSpPr>
          <p:sp>
            <p:nvSpPr>
              <p:cNvPr id="579" name="Line 16"/>
              <p:cNvSpPr/>
              <p:nvPr/>
            </p:nvSpPr>
            <p:spPr>
              <a:xfrm>
                <a:off x="268884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 txBox="1"/>
              <p:nvPr/>
            </p:nvSpPr>
            <p:spPr>
              <a:xfrm>
                <a:off x="268884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688840" y="5631840"/>
              <a:ext cx="308880" cy="360"/>
              <a:chOff x="2688840" y="5631840"/>
              <a:chExt cx="308880" cy="360"/>
            </a:xfrm>
          </p:grpSpPr>
          <p:sp>
            <p:nvSpPr>
              <p:cNvPr id="582" name="Line 17"/>
              <p:cNvSpPr/>
              <p:nvPr/>
            </p:nvSpPr>
            <p:spPr>
              <a:xfrm>
                <a:off x="2688840" y="5631840"/>
                <a:ext cx="30888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 txBox="1"/>
              <p:nvPr/>
            </p:nvSpPr>
            <p:spPr>
              <a:xfrm>
                <a:off x="2688840" y="5631840"/>
                <a:ext cx="308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688840" y="5631840"/>
              <a:ext cx="308880" cy="360"/>
              <a:chOff x="2688840" y="5631840"/>
              <a:chExt cx="308880" cy="360"/>
            </a:xfrm>
          </p:grpSpPr>
          <p:sp>
            <p:nvSpPr>
              <p:cNvPr id="585" name="Line 18"/>
              <p:cNvSpPr/>
              <p:nvPr/>
            </p:nvSpPr>
            <p:spPr>
              <a:xfrm>
                <a:off x="2688840" y="5631840"/>
                <a:ext cx="30888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 txBox="1"/>
              <p:nvPr/>
            </p:nvSpPr>
            <p:spPr>
              <a:xfrm>
                <a:off x="2688840" y="5631840"/>
                <a:ext cx="308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997360" y="5385960"/>
              <a:ext cx="360" cy="245520"/>
              <a:chOff x="2997360" y="5385960"/>
              <a:chExt cx="360" cy="245520"/>
            </a:xfrm>
          </p:grpSpPr>
          <p:sp>
            <p:nvSpPr>
              <p:cNvPr id="588" name="Line 19"/>
              <p:cNvSpPr/>
              <p:nvPr/>
            </p:nvSpPr>
            <p:spPr>
              <a:xfrm flipV="1">
                <a:off x="299772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 txBox="1"/>
              <p:nvPr/>
            </p:nvSpPr>
            <p:spPr>
              <a:xfrm rot="10800000">
                <a:off x="299736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997720" y="5385960"/>
              <a:ext cx="370800" cy="360"/>
              <a:chOff x="2997720" y="5385960"/>
              <a:chExt cx="370800" cy="360"/>
            </a:xfrm>
          </p:grpSpPr>
          <p:sp>
            <p:nvSpPr>
              <p:cNvPr id="591" name="Line 20"/>
              <p:cNvSpPr/>
              <p:nvPr/>
            </p:nvSpPr>
            <p:spPr>
              <a:xfrm>
                <a:off x="2997720" y="5385960"/>
                <a:ext cx="37080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 txBox="1"/>
              <p:nvPr/>
            </p:nvSpPr>
            <p:spPr>
              <a:xfrm>
                <a:off x="2997720" y="5385960"/>
                <a:ext cx="370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3368880" y="5385960"/>
              <a:ext cx="360" cy="245520"/>
              <a:chOff x="3368880" y="5385960"/>
              <a:chExt cx="360" cy="245520"/>
            </a:xfrm>
          </p:grpSpPr>
          <p:sp>
            <p:nvSpPr>
              <p:cNvPr id="594" name="Line 21"/>
              <p:cNvSpPr/>
              <p:nvPr/>
            </p:nvSpPr>
            <p:spPr>
              <a:xfrm>
                <a:off x="336888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 txBox="1"/>
              <p:nvPr/>
            </p:nvSpPr>
            <p:spPr>
              <a:xfrm>
                <a:off x="336888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368880" y="5631840"/>
              <a:ext cx="308880" cy="360"/>
              <a:chOff x="3368880" y="5631840"/>
              <a:chExt cx="308880" cy="360"/>
            </a:xfrm>
          </p:grpSpPr>
          <p:sp>
            <p:nvSpPr>
              <p:cNvPr id="597" name="Line 22"/>
              <p:cNvSpPr/>
              <p:nvPr/>
            </p:nvSpPr>
            <p:spPr>
              <a:xfrm>
                <a:off x="3368880" y="5631840"/>
                <a:ext cx="30888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 txBox="1"/>
              <p:nvPr/>
            </p:nvSpPr>
            <p:spPr>
              <a:xfrm>
                <a:off x="3368880" y="5631840"/>
                <a:ext cx="308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368880" y="5631840"/>
              <a:ext cx="308880" cy="360"/>
              <a:chOff x="3368880" y="5631840"/>
              <a:chExt cx="308880" cy="360"/>
            </a:xfrm>
          </p:grpSpPr>
          <p:sp>
            <p:nvSpPr>
              <p:cNvPr id="600" name="Line 23"/>
              <p:cNvSpPr/>
              <p:nvPr/>
            </p:nvSpPr>
            <p:spPr>
              <a:xfrm>
                <a:off x="3368880" y="5631840"/>
                <a:ext cx="30888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 txBox="1"/>
              <p:nvPr/>
            </p:nvSpPr>
            <p:spPr>
              <a:xfrm>
                <a:off x="3368880" y="5631840"/>
                <a:ext cx="308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677760" y="5385960"/>
              <a:ext cx="360" cy="245520"/>
              <a:chOff x="3677760" y="5385960"/>
              <a:chExt cx="360" cy="245520"/>
            </a:xfrm>
          </p:grpSpPr>
          <p:sp>
            <p:nvSpPr>
              <p:cNvPr id="603" name="Line 24"/>
              <p:cNvSpPr/>
              <p:nvPr/>
            </p:nvSpPr>
            <p:spPr>
              <a:xfrm flipV="1">
                <a:off x="367812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 txBox="1"/>
              <p:nvPr/>
            </p:nvSpPr>
            <p:spPr>
              <a:xfrm rot="10800000">
                <a:off x="367776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3678120" y="5385960"/>
              <a:ext cx="370800" cy="360"/>
              <a:chOff x="3678120" y="5385960"/>
              <a:chExt cx="370800" cy="360"/>
            </a:xfrm>
          </p:grpSpPr>
          <p:sp>
            <p:nvSpPr>
              <p:cNvPr id="606" name="Line 25"/>
              <p:cNvSpPr/>
              <p:nvPr/>
            </p:nvSpPr>
            <p:spPr>
              <a:xfrm>
                <a:off x="3678120" y="5385960"/>
                <a:ext cx="37080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 txBox="1"/>
              <p:nvPr/>
            </p:nvSpPr>
            <p:spPr>
              <a:xfrm>
                <a:off x="3678120" y="5385960"/>
                <a:ext cx="370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4048920" y="5385960"/>
              <a:ext cx="360" cy="245520"/>
              <a:chOff x="4048920" y="5385960"/>
              <a:chExt cx="360" cy="245520"/>
            </a:xfrm>
          </p:grpSpPr>
          <p:sp>
            <p:nvSpPr>
              <p:cNvPr id="609" name="Line 26"/>
              <p:cNvSpPr/>
              <p:nvPr/>
            </p:nvSpPr>
            <p:spPr>
              <a:xfrm>
                <a:off x="404892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 txBox="1"/>
              <p:nvPr/>
            </p:nvSpPr>
            <p:spPr>
              <a:xfrm>
                <a:off x="404892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4048920" y="5631840"/>
              <a:ext cx="309240" cy="360"/>
              <a:chOff x="4048920" y="5631840"/>
              <a:chExt cx="309240" cy="360"/>
            </a:xfrm>
          </p:grpSpPr>
          <p:sp>
            <p:nvSpPr>
              <p:cNvPr id="612" name="Line 27"/>
              <p:cNvSpPr/>
              <p:nvPr/>
            </p:nvSpPr>
            <p:spPr>
              <a:xfrm>
                <a:off x="4048920" y="5631840"/>
                <a:ext cx="30924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 txBox="1"/>
              <p:nvPr/>
            </p:nvSpPr>
            <p:spPr>
              <a:xfrm>
                <a:off x="4048920" y="5631840"/>
                <a:ext cx="309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4048920" y="5631840"/>
              <a:ext cx="309240" cy="360"/>
              <a:chOff x="4048920" y="5631840"/>
              <a:chExt cx="309240" cy="360"/>
            </a:xfrm>
          </p:grpSpPr>
          <p:sp>
            <p:nvSpPr>
              <p:cNvPr id="615" name="Line 28"/>
              <p:cNvSpPr/>
              <p:nvPr/>
            </p:nvSpPr>
            <p:spPr>
              <a:xfrm>
                <a:off x="4048920" y="5631840"/>
                <a:ext cx="30924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 txBox="1"/>
              <p:nvPr/>
            </p:nvSpPr>
            <p:spPr>
              <a:xfrm>
                <a:off x="4048920" y="5631840"/>
                <a:ext cx="309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4358160" y="5385960"/>
              <a:ext cx="360" cy="245520"/>
              <a:chOff x="4358160" y="5385960"/>
              <a:chExt cx="360" cy="245520"/>
            </a:xfrm>
          </p:grpSpPr>
          <p:sp>
            <p:nvSpPr>
              <p:cNvPr id="618" name="Line 29"/>
              <p:cNvSpPr/>
              <p:nvPr/>
            </p:nvSpPr>
            <p:spPr>
              <a:xfrm flipV="1">
                <a:off x="435852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 txBox="1"/>
              <p:nvPr/>
            </p:nvSpPr>
            <p:spPr>
              <a:xfrm rot="10800000">
                <a:off x="435816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4358520" y="5385960"/>
              <a:ext cx="370800" cy="360"/>
              <a:chOff x="4358520" y="5385960"/>
              <a:chExt cx="370800" cy="360"/>
            </a:xfrm>
          </p:grpSpPr>
          <p:sp>
            <p:nvSpPr>
              <p:cNvPr id="621" name="Line 30"/>
              <p:cNvSpPr/>
              <p:nvPr/>
            </p:nvSpPr>
            <p:spPr>
              <a:xfrm>
                <a:off x="4358520" y="5385960"/>
                <a:ext cx="37080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 txBox="1"/>
              <p:nvPr/>
            </p:nvSpPr>
            <p:spPr>
              <a:xfrm>
                <a:off x="4358520" y="5385960"/>
                <a:ext cx="370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4729320" y="5385960"/>
              <a:ext cx="360" cy="245520"/>
              <a:chOff x="4729320" y="5385960"/>
              <a:chExt cx="360" cy="245520"/>
            </a:xfrm>
          </p:grpSpPr>
          <p:sp>
            <p:nvSpPr>
              <p:cNvPr id="624" name="Line 31"/>
              <p:cNvSpPr/>
              <p:nvPr/>
            </p:nvSpPr>
            <p:spPr>
              <a:xfrm>
                <a:off x="472932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 txBox="1"/>
              <p:nvPr/>
            </p:nvSpPr>
            <p:spPr>
              <a:xfrm>
                <a:off x="472932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4729320" y="5631840"/>
              <a:ext cx="308880" cy="360"/>
              <a:chOff x="4729320" y="5631840"/>
              <a:chExt cx="308880" cy="360"/>
            </a:xfrm>
          </p:grpSpPr>
          <p:sp>
            <p:nvSpPr>
              <p:cNvPr id="627" name="Line 32"/>
              <p:cNvSpPr/>
              <p:nvPr/>
            </p:nvSpPr>
            <p:spPr>
              <a:xfrm>
                <a:off x="4729320" y="5631840"/>
                <a:ext cx="30888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 txBox="1"/>
              <p:nvPr/>
            </p:nvSpPr>
            <p:spPr>
              <a:xfrm>
                <a:off x="4729320" y="5631840"/>
                <a:ext cx="308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4729320" y="5631840"/>
              <a:ext cx="308880" cy="360"/>
              <a:chOff x="4729320" y="5631840"/>
              <a:chExt cx="308880" cy="360"/>
            </a:xfrm>
          </p:grpSpPr>
          <p:sp>
            <p:nvSpPr>
              <p:cNvPr id="630" name="Line 33"/>
              <p:cNvSpPr/>
              <p:nvPr/>
            </p:nvSpPr>
            <p:spPr>
              <a:xfrm>
                <a:off x="4729320" y="5631840"/>
                <a:ext cx="30888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 txBox="1"/>
              <p:nvPr/>
            </p:nvSpPr>
            <p:spPr>
              <a:xfrm>
                <a:off x="4729320" y="5631840"/>
                <a:ext cx="308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5038200" y="5385960"/>
              <a:ext cx="360" cy="245520"/>
              <a:chOff x="5038200" y="5385960"/>
              <a:chExt cx="360" cy="245520"/>
            </a:xfrm>
          </p:grpSpPr>
          <p:sp>
            <p:nvSpPr>
              <p:cNvPr id="633" name="Line 34"/>
              <p:cNvSpPr/>
              <p:nvPr/>
            </p:nvSpPr>
            <p:spPr>
              <a:xfrm flipV="1">
                <a:off x="503856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 rot="10800000">
                <a:off x="503820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5038560" y="5385960"/>
              <a:ext cx="370800" cy="360"/>
              <a:chOff x="5038560" y="5385960"/>
              <a:chExt cx="370800" cy="360"/>
            </a:xfrm>
          </p:grpSpPr>
          <p:sp>
            <p:nvSpPr>
              <p:cNvPr id="636" name="Line 35"/>
              <p:cNvSpPr/>
              <p:nvPr/>
            </p:nvSpPr>
            <p:spPr>
              <a:xfrm>
                <a:off x="5038560" y="5385960"/>
                <a:ext cx="37080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 txBox="1"/>
              <p:nvPr/>
            </p:nvSpPr>
            <p:spPr>
              <a:xfrm>
                <a:off x="5038560" y="5385960"/>
                <a:ext cx="370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5409360" y="5385960"/>
              <a:ext cx="360" cy="245520"/>
              <a:chOff x="5409360" y="5385960"/>
              <a:chExt cx="360" cy="245520"/>
            </a:xfrm>
          </p:grpSpPr>
          <p:sp>
            <p:nvSpPr>
              <p:cNvPr id="639" name="Line 36"/>
              <p:cNvSpPr/>
              <p:nvPr/>
            </p:nvSpPr>
            <p:spPr>
              <a:xfrm>
                <a:off x="540936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 txBox="1"/>
              <p:nvPr/>
            </p:nvSpPr>
            <p:spPr>
              <a:xfrm>
                <a:off x="540936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5409360" y="5631840"/>
              <a:ext cx="308880" cy="360"/>
              <a:chOff x="5409360" y="5631840"/>
              <a:chExt cx="308880" cy="360"/>
            </a:xfrm>
          </p:grpSpPr>
          <p:sp>
            <p:nvSpPr>
              <p:cNvPr id="642" name="Line 37"/>
              <p:cNvSpPr/>
              <p:nvPr/>
            </p:nvSpPr>
            <p:spPr>
              <a:xfrm>
                <a:off x="5409360" y="5631840"/>
                <a:ext cx="30888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 txBox="1"/>
              <p:nvPr/>
            </p:nvSpPr>
            <p:spPr>
              <a:xfrm>
                <a:off x="5409360" y="5631840"/>
                <a:ext cx="308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Rectangle 38"/>
            <p:cNvSpPr/>
            <p:nvPr/>
          </p:nvSpPr>
          <p:spPr>
            <a:xfrm>
              <a:off x="2441520" y="5681160"/>
              <a:ext cx="123480" cy="97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3121560" y="5681160"/>
              <a:ext cx="123840" cy="97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3801960" y="5681160"/>
              <a:ext cx="123480" cy="97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4482000" y="5681160"/>
              <a:ext cx="123480" cy="97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5162040" y="5681160"/>
              <a:ext cx="123840" cy="97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AutoShape 43"/>
            <p:cNvSpPr/>
            <p:nvPr/>
          </p:nvSpPr>
          <p:spPr>
            <a:xfrm>
              <a:off x="2132280" y="4952880"/>
              <a:ext cx="792000" cy="630000"/>
            </a:xfrm>
            <a:custGeom>
              <a:avLst/>
              <a:gdLst/>
              <a:ahLst/>
              <a:rect l="l" t="t" r="r" b="b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44"/>
            <p:cNvSpPr/>
            <p:nvPr/>
          </p:nvSpPr>
          <p:spPr>
            <a:xfrm>
              <a:off x="1143000" y="5090760"/>
              <a:ext cx="105084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efde3"/>
                  </a:solidFill>
                  <a:latin typeface="Times New Roman"/>
                </a:rPr>
                <a:t>瞭望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AutoShape 45"/>
            <p:cNvSpPr/>
            <p:nvPr/>
          </p:nvSpPr>
          <p:spPr>
            <a:xfrm>
              <a:off x="5657040" y="5582880"/>
              <a:ext cx="988920" cy="313200"/>
            </a:xfrm>
            <a:prstGeom prst="leftArrow">
              <a:avLst>
                <a:gd name="adj1" fmla="val 50000"/>
                <a:gd name="adj2" fmla="val 78908"/>
              </a:avLst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46"/>
            <p:cNvSpPr/>
            <p:nvPr/>
          </p:nvSpPr>
          <p:spPr>
            <a:xfrm>
              <a:off x="6771240" y="5582880"/>
              <a:ext cx="191520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射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AutoShape 47"/>
          <p:cNvSpPr/>
          <p:nvPr/>
        </p:nvSpPr>
        <p:spPr>
          <a:xfrm>
            <a:off x="4038480" y="4495680"/>
            <a:ext cx="1905120" cy="762120"/>
          </a:xfrm>
          <a:prstGeom prst="downArrowCallout">
            <a:avLst>
              <a:gd name="adj1" fmla="val 70139"/>
              <a:gd name="adj2" fmla="val 62494"/>
              <a:gd name="adj3" fmla="val 16657"/>
              <a:gd name="adj4" fmla="val 66667"/>
            </a:avLst>
          </a:prstGeom>
          <a:solidFill>
            <a:srgbClr val="ed75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垛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60066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Oval 4"/>
          <p:cNvSpPr/>
          <p:nvPr/>
        </p:nvSpPr>
        <p:spPr>
          <a:xfrm>
            <a:off x="990720" y="533520"/>
            <a:ext cx="1676160" cy="914400"/>
          </a:xfrm>
          <a:prstGeom prst="ellipse">
            <a:avLst/>
          </a:prstGeom>
          <a:solidFill>
            <a:srgbClr val="fa184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19f9"/>
                </a:solidFill>
                <a:latin typeface="Times New Roman"/>
              </a:rPr>
              <a:t>为什么说“长城是人类历史上的            一个伟大奇迹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6" descr="E:\方启德\课件材料\新建 文件夹\112206_sml.jpg"/>
          <p:cNvPicPr/>
          <p:nvPr/>
        </p:nvPicPr>
        <p:blipFill>
          <a:blip r:embed="rId1"/>
          <a:stretch/>
        </p:blipFill>
        <p:spPr>
          <a:xfrm>
            <a:off x="7380360" y="4205160"/>
            <a:ext cx="1496880" cy="24638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7" descr="E:\方启德\课件材料\新建 文件夹\cc00055smt.jpg"/>
          <p:cNvPicPr/>
          <p:nvPr/>
        </p:nvPicPr>
        <p:blipFill>
          <a:blip r:embed="rId2"/>
          <a:stretch/>
        </p:blipFill>
        <p:spPr>
          <a:xfrm>
            <a:off x="1187280" y="4224240"/>
            <a:ext cx="3616560" cy="24526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8" descr="E:\方启德\课件材料\新建 文件夹\cc00072jsl.jpg"/>
          <p:cNvPicPr/>
          <p:nvPr/>
        </p:nvPicPr>
        <p:blipFill>
          <a:blip r:embed="rId3"/>
          <a:stretch/>
        </p:blipFill>
        <p:spPr>
          <a:xfrm>
            <a:off x="4952880" y="304920"/>
            <a:ext cx="2057400" cy="14475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9" descr="E:\方启德\课件材料\新建 文件夹\Cc-020.jpg"/>
          <p:cNvPicPr/>
          <p:nvPr/>
        </p:nvPicPr>
        <p:blipFill>
          <a:blip r:embed="rId4"/>
          <a:stretch/>
        </p:blipFill>
        <p:spPr>
          <a:xfrm>
            <a:off x="6934320" y="304920"/>
            <a:ext cx="1828800" cy="144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4" descr="DL003000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228600"/>
            <a:ext cx="1543320" cy="25909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秦始皇"/>
          <p:cNvPicPr/>
          <p:nvPr/>
        </p:nvPicPr>
        <p:blipFill>
          <a:blip r:embed="rId3"/>
          <a:stretch/>
        </p:blipFill>
        <p:spPr>
          <a:xfrm>
            <a:off x="7162920" y="3886200"/>
            <a:ext cx="1646280" cy="2671920"/>
          </a:xfrm>
          <a:prstGeom prst="rect">
            <a:avLst/>
          </a:prstGeom>
          <a:ln w="0">
            <a:noFill/>
          </a:ln>
        </p:spPr>
      </p:pic>
      <p:sp>
        <p:nvSpPr>
          <p:cNvPr id="664" name="Oval 5"/>
          <p:cNvSpPr/>
          <p:nvPr/>
        </p:nvSpPr>
        <p:spPr>
          <a:xfrm>
            <a:off x="990720" y="533520"/>
            <a:ext cx="1676160" cy="914400"/>
          </a:xfrm>
          <a:prstGeom prst="ellipse">
            <a:avLst/>
          </a:prstGeom>
          <a:solidFill>
            <a:srgbClr val="fa184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4000" y="1989000"/>
            <a:ext cx="67453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19f9"/>
                </a:solidFill>
                <a:latin typeface="Times New Roman"/>
              </a:rPr>
              <a:t>长城到底给中华民族带来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7924680" y="4572000"/>
            <a:ext cx="41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秦始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7629480" y="49831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12" descr="mty_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43200" y="304920"/>
            <a:ext cx="2133720" cy="14824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6" descr="ccbwg1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52880" y="304920"/>
            <a:ext cx="2210040" cy="145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1:10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05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