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8.wmf" ContentType="image/x-wmf"/>
  <Override PartName="/ppt/media/image12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0B6-2AE0-48CE-91D1-9B741239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D76-273B-4882-AD02-08D6E5E6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0D1-69F4-4B71-BD44-25C7ADA7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572-5E0F-40A0-A7E9-C0ED2DB0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18AA-7097-411B-9AC7-C783F6CA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990C-5785-4424-A496-C35AFF10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3CC2-1ABA-4D44-8050-26F917A9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5990-2EB7-404E-A0EB-195496DD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3A59-9E82-4BCB-9586-756E137C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C7F0-C4BF-442C-B271-1D1781E8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2C79-C4C7-4413-A14E-D3EE48E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F12-360F-4CEC-B090-E44FA1D2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A1FE-CE21-4C61-8EE2-193C9DEC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3F80-AB52-48D1-86E6-FF68106F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55BF-B5EA-475E-AEC8-6335AF56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BD71-ECD4-4B84-B399-B6B97677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F3EE-CC9F-45AB-887C-38BA328E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BC9A-46E2-423D-AF96-224A8FFD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B1F8-947D-4207-8521-3F417EE5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0E48-0802-4CDE-81AB-ACC1FB6B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9ACD-6A6D-4629-95F4-172F77F2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E982-43E3-4945-B813-96B09A58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3A0-C0A8-41BE-87AB-4DF1AEAA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080A-FA98-4D38-9BC8-5F27BA88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8C3C-7791-4731-9894-73CA36A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1EBB-42B7-4DE0-AB4A-739390C4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EC064-127C-4B07-8735-73D86BB5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1AD47-E866-4343-A4DF-B017DDA8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B6BA-A703-455F-B1A1-59F5B709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0448-88B3-41A5-9448-925833CD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C03-345E-4F16-95A8-977F9A40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205-2873-434B-B05B-BA4809B3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D3B-3F26-409D-B479-73C247F9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260-1317-452F-8610-0450968D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912-11A7-4536-96F5-AEB355B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DB1-8E7B-4C17-9055-098B141E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4896-F098-4753-9C6A-7054E28CA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402D-4A2D-4761-9880-C267D728F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61E8-CC03-4096-88A6-B2851C2ED75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1679-B794-4148-B667-49D085816B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1547640" y="32367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85800" y="12952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11280" y="476280"/>
            <a:ext cx="77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人教版落花生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落花生5"/>
          <p:cNvPicPr/>
          <p:nvPr/>
        </p:nvPicPr>
        <p:blipFill>
          <a:blip r:embed="rId2"/>
          <a:stretch/>
        </p:blipFill>
        <p:spPr>
          <a:xfrm>
            <a:off x="1219320" y="2514600"/>
            <a:ext cx="253980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落花生16"/>
          <p:cNvPicPr/>
          <p:nvPr/>
        </p:nvPicPr>
        <p:blipFill>
          <a:blip r:embed="rId3"/>
          <a:stretch/>
        </p:blipFill>
        <p:spPr>
          <a:xfrm>
            <a:off x="5257800" y="251460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>
            <a:hlinkClick r:id="" action="ppaction://hlinkshowjump?jump=nextslide"/>
          </p:cNvPr>
          <p:cNvSpPr/>
          <p:nvPr/>
        </p:nvSpPr>
        <p:spPr>
          <a:xfrm>
            <a:off x="1295280" y="2590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292720" y="2565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课文朗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tp2"/>
          <p:cNvPicPr/>
          <p:nvPr/>
        </p:nvPicPr>
        <p:blipFill>
          <a:blip r:embed="rId2"/>
          <a:stretch/>
        </p:blipFill>
        <p:spPr>
          <a:xfrm>
            <a:off x="0" y="0"/>
            <a:ext cx="2855880" cy="4305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Q5"/>
          <p:cNvPicPr/>
          <p:nvPr/>
        </p:nvPicPr>
        <p:blipFill>
          <a:blip r:embed="rId3"/>
          <a:stretch/>
        </p:blipFill>
        <p:spPr>
          <a:xfrm>
            <a:off x="2895480" y="12952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2"/>
          <p:cNvSpPr/>
          <p:nvPr/>
        </p:nvSpPr>
        <p:spPr>
          <a:xfrm>
            <a:off x="3733920" y="685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学们认识它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962520" y="1828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落花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4" descr="Q5"/>
          <p:cNvPicPr/>
          <p:nvPr/>
        </p:nvPicPr>
        <p:blipFill>
          <a:blip r:embed="rId4"/>
          <a:stretch/>
        </p:blipFill>
        <p:spPr>
          <a:xfrm>
            <a:off x="2895480" y="29718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5"/>
          <p:cNvSpPr/>
          <p:nvPr/>
        </p:nvSpPr>
        <p:spPr>
          <a:xfrm>
            <a:off x="3657600" y="2666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为什么叫“落花生”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3733920" y="3809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是在地上开花，花落以后在地下结果的作物，所以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花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3049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下列生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33520" y="1752480"/>
            <a:ext cx="807696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吩（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fe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咐（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fu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   茅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ao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榨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zh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油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i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钱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iu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       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u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i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小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SY01265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575560" y="5656320"/>
            <a:ext cx="5684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62120" y="2286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朗读课文，“父亲”的哪一句话让你感受最深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课文朗读.wav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back"/>
          <p:cNvPicPr/>
          <p:nvPr/>
        </p:nvPicPr>
        <p:blipFill>
          <a:blip r:embed="rId3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落花生6"/>
          <p:cNvPicPr/>
          <p:nvPr/>
        </p:nvPicPr>
        <p:blipFill>
          <a:blip r:embed="rId2"/>
          <a:stretch/>
        </p:blipFill>
        <p:spPr>
          <a:xfrm>
            <a:off x="2362320" y="2133720"/>
            <a:ext cx="4713120" cy="3539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685800" y="304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你们要像花生，它虽然不好看，可是很有用，不是外表好看而没有实用的东西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8380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是如何理解“父亲”这段话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落花生8"/>
          <p:cNvPicPr/>
          <p:nvPr/>
        </p:nvPicPr>
        <p:blipFill>
          <a:blip r:embed="rId2"/>
          <a:stretch/>
        </p:blipFill>
        <p:spPr>
          <a:xfrm>
            <a:off x="3200400" y="1676520"/>
            <a:ext cx="2857680" cy="2217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143000" y="4114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要做有用的人，不要做只讲体面，而对别人没有好处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3594-8602-4F17-98DC-05D5B494C4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09480" y="6094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按照课文的顺序填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2057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花生     （          ）     （          ）     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286000" y="1981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收花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952880" y="1981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花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543800" y="1981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议花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0066"/>
          <p:cNvPicPr/>
          <p:nvPr/>
        </p:nvPicPr>
        <p:blipFill>
          <a:blip r:embed="rId2"/>
          <a:stretch/>
        </p:blipFill>
        <p:spPr>
          <a:xfrm>
            <a:off x="1600200" y="1981080"/>
            <a:ext cx="428760" cy="914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0067"/>
          <p:cNvPicPr/>
          <p:nvPr/>
        </p:nvPicPr>
        <p:blipFill>
          <a:blip r:embed="rId3"/>
          <a:stretch/>
        </p:blipFill>
        <p:spPr>
          <a:xfrm>
            <a:off x="4191120" y="1981080"/>
            <a:ext cx="42840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0066"/>
          <p:cNvPicPr/>
          <p:nvPr/>
        </p:nvPicPr>
        <p:blipFill>
          <a:blip r:embed="rId4"/>
          <a:stretch/>
        </p:blipFill>
        <p:spPr>
          <a:xfrm>
            <a:off x="6858000" y="1981080"/>
            <a:ext cx="428760" cy="9144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609480" y="3733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了这篇课文，你还想说点什么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1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03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