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01C-79EE-4DA9-BC26-8584713B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6F9-828B-4658-A4BF-56A630DF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5A3-A0FB-4117-9ED2-4C05BD46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086-896B-4922-B7BB-E5A1A12F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733C-7441-44BB-8085-9759E345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CEBF-1215-478D-99C3-C253B4BF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C7E7-CDA9-4062-A007-65B286B4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2473-AFC3-4E24-B9F1-6A00613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C79E-17C2-45D4-A5D2-D0FF90C0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C85B-AE4F-4DBB-88AF-4F3890FE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EC5E-1EDD-4164-A413-C265D09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E67-A237-4D52-8F5C-2A0530A2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6D55-12E4-43ED-8F19-03D3A04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D82B-3804-45BB-8A0F-106CFB7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7D52-196D-41A0-8E1A-FECF0D7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B645-7FB5-46EA-BBAE-D110EB74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D293-8750-4458-8C6D-984F2D28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7E6-451B-412E-BF94-ED01889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B3C-0618-493E-8C60-FE7F8A66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AA7-DFDE-499D-AC00-310E567A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E1A-2FFA-4875-AEBD-510536E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8BC-9A32-4539-B04E-F76EEBB5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896-530E-4457-A096-D2FC5D4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449-FA29-4405-9A68-0E3082A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CFE2-B813-47D4-AE08-C5201AF8C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08D-3288-4B09-A6AC-91739AAF40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AF5-5BA2-43A6-B4FD-8A5819DB74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91&amp;cl=2&amp;cm=1&amp;sc=0&amp;lm=-1&amp;pn=90&amp;rn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16&amp;cl=2&amp;cm=1&amp;sc=0&amp;lm=-1&amp;pn=15&amp;rn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F:\ppt\705\人教版四年级语文上册《母鸡》PPT课件\6545510_194557375181_2.jpg"/>
          <p:cNvPicPr/>
          <p:nvPr/>
        </p:nvPicPr>
        <p:blipFill>
          <a:blip r:embed="rId1"/>
          <a:srcRect l="8396" t="0" r="3873" b="5289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685800" y="477720"/>
            <a:ext cx="71913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ff00"/>
                </a:solidFill>
                <a:latin typeface="方正毡笔黑简体"/>
              </a:rPr>
              <a:t>人教版母鸡课件</a:t>
            </a:r>
            <a:r>
              <a:rPr b="0" lang="en-US" sz="4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ff00"/>
                </a:solidFill>
                <a:latin typeface="方正毡笔黑简体"/>
              </a:rPr>
              <a:t>PPT</a:t>
            </a:r>
            <a:r>
              <a:rPr b="0" lang="zh-CN" sz="4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ff00"/>
                </a:solidFill>
                <a:latin typeface="方正毡笔黑简体"/>
              </a:rPr>
              <a:t>模板下载</a:t>
            </a:r>
            <a:endParaRPr b="0" lang="en-US" sz="4800" spc="1" strike="noStrike">
              <a:ln w="18360">
                <a:solidFill>
                  <a:srgbClr val="ffffff"/>
                </a:solidFill>
                <a:round/>
              </a:ln>
              <a:solidFill>
                <a:srgbClr val="ffff00"/>
              </a:solidFill>
              <a:latin typeface="方正毡笔黑简体"/>
              <a:ea typeface="方正毡笔黑简体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721640" y="29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7262640" y="5373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efefe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老舍</a:t>
            </a:r>
            <a:endParaRPr b="1" lang="en-US" sz="1800" spc="1" strike="noStrike">
              <a:ln w="19080">
                <a:solidFill>
                  <a:srgbClr val="fefefe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F:\ppt\705\人教版四年级语文上册《母鸡》PPT课件\4181839_090019216599_2.jpg"/>
          <p:cNvPicPr/>
          <p:nvPr/>
        </p:nvPicPr>
        <p:blipFill>
          <a:blip r:embed="rId1"/>
          <a:srcRect l="2431" t="2897" r="10375" b="367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ji2_061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ji2_059"/>
          <p:cNvPicPr/>
          <p:nvPr/>
        </p:nvPicPr>
        <p:blipFill>
          <a:blip r:embed="rId1"/>
          <a:stretch/>
        </p:blipFill>
        <p:spPr>
          <a:xfrm>
            <a:off x="-304920" y="166680"/>
            <a:ext cx="9753840" cy="65246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u=2392229512,1844039189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197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003640" y="12240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发生在一位游子与母亲之间。游子探亲期满离开故乡，母亲送他去车站。在车站，儿子放旅行包的拎带被挤断。眼看着就要到发车时间，母亲急忙从身上解下裤腰带，把旅行包扎好。解裤腰带时，由于心急又用力，她把脸都涨红了。儿子问母亲怎么回家呢？母亲说，不要紧，慢慢走。多少年来，儿子一直把母亲这根裤腰带珍藏在身边。多少年来，儿子一直在想，他母亲没有裤腰带是怎样走回几里外的家的。 另一个故事由发生在一个犯人同母亲之间，探监的日子，一位来自贫困山区的母亲，经过乘驴车、汽车和火车的辗转，探望服刑的儿子。在探监人五光十色的物品中，老母亲给儿子掏出用白布包着的葵花子。葵花子已经炒熟，老母亲全嗑好了。没有皮，白花花的像密密麻麻的雀舌头服刑的儿子接过这堆葵花子肉，手开始抖。母亲亦无言语，撩起衣襟拭泪。她千里迢迢探望儿子，卖掉了鸡蛋和小猪崽，还要节省许多开支才凑足路费，来之前，在白天的劳碌后，晚上在煤油灯下嗑瓜子。嗑好的瓜子肉放在一起，看它们像小山一点点增多，不舍得吃一粒。十多斤瓜子嗑了许多夜晚。在所有探监人当中，他母亲的衣着是最褴褛的。母亲一口一口嗑的瓜子，包含了千言万语。儿子“扑通”给母亲跪下，他忏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D59B-35AB-4045-BB63-4FCB3FADE3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u=2011381153,2506338328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1116000" y="1989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cc99"/>
                </a:solidFill>
                <a:latin typeface="黑体"/>
              </a:rPr>
              <a:t>母爱</a:t>
            </a:r>
            <a:endParaRPr b="0" lang="en-US" sz="1800" spc="-1" strike="noStrike">
              <a:ln w="0">
                <a:noFill/>
              </a:ln>
              <a:solidFill>
                <a:srgbClr val="ffcc99"/>
              </a:solidFill>
              <a:latin typeface="黑体"/>
              <a:ea typeface="黑体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6084720" y="76500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宋体"/>
              </a:rPr>
              <a:t>无私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6156360" y="3789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勇敢</a:t>
            </a:r>
            <a:endParaRPr b="0" lang="en-US" sz="1800" spc="1" strike="noStrike">
              <a:ln w="9360">
                <a:solidFill>
                  <a:srgbClr val="80808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6227640" y="479736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66ff"/>
                </a:solidFill>
                <a:latin typeface="宋体"/>
              </a:rPr>
              <a:t>辛苦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6156360" y="1773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负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104" name="WordArt 13"/>
          <p:cNvSpPr txBox="1"/>
          <p:nvPr/>
        </p:nvSpPr>
        <p:spPr>
          <a:xfrm>
            <a:off x="6156360" y="2781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cc"/>
                </a:solidFill>
                <a:latin typeface="宋体"/>
              </a:rPr>
              <a:t>慈爱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2:37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2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