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7F2-BCF4-4B6F-BFC1-C011FCE8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51D-B4D9-4B80-9785-4378975A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051-0461-461F-9A9C-E55003AD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E12-26CC-409E-8FFA-431982AF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7D0D-2269-4173-9AE3-726DB306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9408-13F3-4E75-B6DD-C3C59258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B42C-EADF-48DD-9A9A-19AC8D23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AA2E-6F38-4A95-AA85-59A92304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BB1E-DE9E-4097-A22A-ADB7181C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1DDD-E650-4BBA-AA5D-84F51BF6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10BB-3D4B-4E24-ABEE-6E83A0EC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41C-A6C1-4746-9BD6-E881D502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FA40-0FF9-4C5A-99EF-9C2584CF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1FED-1A04-4EEC-BC12-15AF0615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C398-D1F2-4388-A338-CA4A1D01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33C5-928C-4957-8358-3A3F9A5F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886D-B25D-4C65-9FA5-F6440441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FE1-7EED-4712-A861-E5FE312F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FA5-D3B1-455F-8F8A-99572C81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725-24B2-4A8B-B28C-EFD9878E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FAB-7548-4648-A7C2-78A78F9F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8EA-92C1-4772-8089-8A2D948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1A7-EFC0-4ABB-BECB-E45DBF5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0C4-A51F-43B8-A540-B92827F2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45F7-6BE7-49A2-8C94-BB86E7CE7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B3DD-38C2-4427-9688-91B6689874A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C707-8EE5-4802-9788-C53D231B64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4" descr="F:\ppt\705a\人教版四年级语文上册《颐和园》PPT课件\17321739_184856083000_2.jpg"/>
          <p:cNvPicPr/>
          <p:nvPr/>
        </p:nvPicPr>
        <p:blipFill>
          <a:blip r:embed="rId16"/>
          <a:srcRect l="0" t="0" r="6251" b="5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22448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超粗黑简体"/>
                <a:ea typeface="方正超粗黑简体"/>
              </a:rPr>
              <a:t>人教版颐和园课件</a:t>
            </a:r>
            <a:r>
              <a:rPr b="0" lang="en-US" sz="4000" spc="-1" strike="noStrike">
                <a:solidFill>
                  <a:srgbClr val="ffff00"/>
                </a:solidFill>
                <a:latin typeface="方正超粗黑简体"/>
                <a:ea typeface="方正超粗黑简体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方正超粗黑简体"/>
                <a:ea typeface="方正超粗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11916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bjyhy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-14436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bjyhy1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090880"/>
            <a:ext cx="913284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895480" y="99072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14400" y="34290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描写景物，可写景物的颜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701028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25914" y="3837"/>
                </a:moveTo>
                <a:lnTo>
                  <a:pt x="28490" y="6448"/>
                </a:lnTo>
                <a:lnTo>
                  <a:pt x="28490" y="4707"/>
                </a:lnTo>
                <a:lnTo>
                  <a:pt x="30266" y="4707"/>
                </a:lnTo>
                <a:lnTo>
                  <a:pt x="30266" y="8224"/>
                </a:lnTo>
                <a:lnTo>
                  <a:pt x="32877" y="10800"/>
                </a:lnTo>
                <a:lnTo>
                  <a:pt x="31223" y="10800"/>
                </a:lnTo>
                <a:lnTo>
                  <a:pt x="31223" y="17989"/>
                </a:lnTo>
                <a:lnTo>
                  <a:pt x="20605" y="17989"/>
                </a:lnTo>
                <a:lnTo>
                  <a:pt x="20605" y="10800"/>
                </a:lnTo>
                <a:lnTo>
                  <a:pt x="18951" y="10800"/>
                </a:lnTo>
                <a:close/>
              </a:path>
              <a:path fill="darkenLess" w="51828" h="21600">
                <a:moveTo>
                  <a:pt x="28490" y="6448"/>
                </a:moveTo>
                <a:lnTo>
                  <a:pt x="28490" y="4707"/>
                </a:lnTo>
                <a:lnTo>
                  <a:pt x="30266" y="4707"/>
                </a:lnTo>
                <a:lnTo>
                  <a:pt x="30266" y="8224"/>
                </a:lnTo>
                <a:close/>
              </a:path>
              <a:path fill="darkenLess" w="51828" h="21600">
                <a:moveTo>
                  <a:pt x="24991" y="14299"/>
                </a:moveTo>
                <a:lnTo>
                  <a:pt x="26836" y="14299"/>
                </a:lnTo>
                <a:lnTo>
                  <a:pt x="26836" y="17989"/>
                </a:lnTo>
                <a:lnTo>
                  <a:pt x="31223" y="17989"/>
                </a:lnTo>
                <a:lnTo>
                  <a:pt x="31223" y="10800"/>
                </a:lnTo>
                <a:lnTo>
                  <a:pt x="20605" y="10800"/>
                </a:lnTo>
                <a:lnTo>
                  <a:pt x="20605" y="17989"/>
                </a:lnTo>
                <a:lnTo>
                  <a:pt x="24991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这条长廊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00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米长，分成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7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这条长廊很长很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6629400" y="57913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2895480" y="99072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0880" y="34290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描写景物，可用具体的数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7391520" y="60199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8897" y="3837"/>
                </a:moveTo>
                <a:lnTo>
                  <a:pt x="21473" y="6448"/>
                </a:lnTo>
                <a:lnTo>
                  <a:pt x="21473" y="4707"/>
                </a:lnTo>
                <a:lnTo>
                  <a:pt x="23249" y="4707"/>
                </a:lnTo>
                <a:lnTo>
                  <a:pt x="23249" y="8224"/>
                </a:lnTo>
                <a:lnTo>
                  <a:pt x="25860" y="10800"/>
                </a:lnTo>
                <a:lnTo>
                  <a:pt x="24206" y="10800"/>
                </a:lnTo>
                <a:lnTo>
                  <a:pt x="24206" y="17989"/>
                </a:lnTo>
                <a:lnTo>
                  <a:pt x="13588" y="17989"/>
                </a:lnTo>
                <a:lnTo>
                  <a:pt x="13588" y="10800"/>
                </a:lnTo>
                <a:lnTo>
                  <a:pt x="11934" y="10800"/>
                </a:lnTo>
                <a:close/>
              </a:path>
              <a:path fill="darkenLess" w="37794" h="21600">
                <a:moveTo>
                  <a:pt x="21473" y="6448"/>
                </a:moveTo>
                <a:lnTo>
                  <a:pt x="21473" y="4707"/>
                </a:lnTo>
                <a:lnTo>
                  <a:pt x="23249" y="4707"/>
                </a:lnTo>
                <a:lnTo>
                  <a:pt x="23249" y="8224"/>
                </a:lnTo>
                <a:close/>
              </a:path>
              <a:path fill="darkenLess" w="37794" h="21600">
                <a:moveTo>
                  <a:pt x="17974" y="14299"/>
                </a:moveTo>
                <a:lnTo>
                  <a:pt x="19819" y="14299"/>
                </a:lnTo>
                <a:lnTo>
                  <a:pt x="19819" y="17989"/>
                </a:lnTo>
                <a:lnTo>
                  <a:pt x="24206" y="17989"/>
                </a:lnTo>
                <a:lnTo>
                  <a:pt x="24206" y="10800"/>
                </a:lnTo>
                <a:lnTo>
                  <a:pt x="13588" y="10800"/>
                </a:lnTo>
                <a:lnTo>
                  <a:pt x="13588" y="17989"/>
                </a:lnTo>
                <a:lnTo>
                  <a:pt x="17974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3"/>
          <p:cNvSpPr txBox="1"/>
          <p:nvPr/>
        </p:nvSpPr>
        <p:spPr>
          <a:xfrm>
            <a:off x="1523880" y="0"/>
            <a:ext cx="60962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展开想象的翅膀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80880" y="30481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的横槛上画着（                     ），有的横槛上画着（                     ），有的横槛上画着（                     ），有的横槛上画着（                     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>
            <a:hlinkClick r:id="" action="ppaction://hlinkshowjump?jump=firstslide"/>
          </p:cNvPr>
          <p:cNvSpPr/>
          <p:nvPr/>
        </p:nvSpPr>
        <p:spPr>
          <a:xfrm>
            <a:off x="746748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8194"/>
          <p:cNvSpPr/>
          <p:nvPr/>
        </p:nvSpPr>
        <p:spPr>
          <a:xfrm>
            <a:off x="1908000" y="26370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比较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抬头一看，一座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八角宝塔形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的三层建筑耸立在半山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抬头一看，一座三层建筑耸立在半山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6934320" y="54864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895480" y="99072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43000" y="3200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39625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描写景物，可写景物的形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">
            <a:hlinkClick r:id="" action="ppaction://hlinkshowjump?jump=firstslide"/>
          </p:cNvPr>
          <p:cNvSpPr/>
          <p:nvPr/>
        </p:nvSpPr>
        <p:spPr>
          <a:xfrm>
            <a:off x="640080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昆明湖静得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像一面镜子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，绿得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像一块碧玉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昆明湖很静，很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6934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590920" y="60948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3880" y="28195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80880" y="28195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描写景物，可运用比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>
            <a:hlinkClick r:id="" action="ppaction://hlinkshowjump?jump=firstslide"/>
          </p:cNvPr>
          <p:cNvSpPr/>
          <p:nvPr/>
        </p:nvSpPr>
        <p:spPr>
          <a:xfrm>
            <a:off x="6781680" y="60958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25889" y="3837"/>
                </a:moveTo>
                <a:lnTo>
                  <a:pt x="28466" y="6448"/>
                </a:lnTo>
                <a:lnTo>
                  <a:pt x="28466" y="4707"/>
                </a:lnTo>
                <a:lnTo>
                  <a:pt x="30241" y="4707"/>
                </a:lnTo>
                <a:lnTo>
                  <a:pt x="30241" y="8224"/>
                </a:lnTo>
                <a:lnTo>
                  <a:pt x="32852" y="10800"/>
                </a:lnTo>
                <a:lnTo>
                  <a:pt x="31199" y="10800"/>
                </a:lnTo>
                <a:lnTo>
                  <a:pt x="31199" y="17989"/>
                </a:lnTo>
                <a:lnTo>
                  <a:pt x="20580" y="17989"/>
                </a:lnTo>
                <a:lnTo>
                  <a:pt x="20580" y="10800"/>
                </a:lnTo>
                <a:lnTo>
                  <a:pt x="18926" y="10800"/>
                </a:lnTo>
                <a:close/>
              </a:path>
              <a:path fill="darkenLess" w="51779" h="21600">
                <a:moveTo>
                  <a:pt x="28466" y="6448"/>
                </a:moveTo>
                <a:lnTo>
                  <a:pt x="28466" y="4707"/>
                </a:lnTo>
                <a:lnTo>
                  <a:pt x="30241" y="4707"/>
                </a:lnTo>
                <a:lnTo>
                  <a:pt x="30241" y="8224"/>
                </a:lnTo>
                <a:close/>
              </a:path>
              <a:path fill="darkenLess" w="51779" h="21600">
                <a:moveTo>
                  <a:pt x="24967" y="14299"/>
                </a:moveTo>
                <a:lnTo>
                  <a:pt x="26812" y="14299"/>
                </a:lnTo>
                <a:lnTo>
                  <a:pt x="26812" y="17989"/>
                </a:lnTo>
                <a:lnTo>
                  <a:pt x="31199" y="17989"/>
                </a:lnTo>
                <a:lnTo>
                  <a:pt x="31199" y="10800"/>
                </a:lnTo>
                <a:lnTo>
                  <a:pt x="20580" y="10800"/>
                </a:lnTo>
                <a:lnTo>
                  <a:pt x="20580" y="17989"/>
                </a:lnTo>
                <a:lnTo>
                  <a:pt x="2496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5796000" y="52560"/>
            <a:ext cx="3230640" cy="16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简介颐和园</a:t>
            </a:r>
            <a:endParaRPr b="0" lang="en-US" sz="7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481640" y="304812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01760" y="1609560"/>
            <a:ext cx="8624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Times New Roman"/>
              </a:rPr>
              <a:t>颐和园位于北京的西北郊，始建于公元</a:t>
            </a:r>
            <a:r>
              <a:rPr b="1" lang="en-US" sz="3600" spc="-1" strike="noStrike">
                <a:solidFill>
                  <a:srgbClr val="0d0d0d"/>
                </a:solidFill>
                <a:latin typeface="Times New Roman"/>
              </a:rPr>
              <a:t>1750</a:t>
            </a:r>
            <a:r>
              <a:rPr b="1" lang="zh-CN" sz="3600" spc="-1" strike="noStrike">
                <a:solidFill>
                  <a:srgbClr val="0d0d0d"/>
                </a:solidFill>
                <a:latin typeface="Times New Roman"/>
              </a:rPr>
              <a:t>年，原是清代的皇家园林和行宫。园内的湖光山色、亭台楼阁、长廊石桥等景物，使人看后流连忘返。其构思巧妙、建筑之精，集我国园林艺术之大成，有“皇家园林博物馆”之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5">
            <a:hlinkClick r:id="" action="ppaction://hlinkshowjump?jump=firstslide"/>
          </p:cNvPr>
          <p:cNvSpPr/>
          <p:nvPr/>
        </p:nvSpPr>
        <p:spPr>
          <a:xfrm>
            <a:off x="7848720" y="5562720"/>
            <a:ext cx="738000" cy="8143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33">
                <a:moveTo>
                  <a:pt x="0" y="0"/>
                </a:moveTo>
                <a:lnTo>
                  <a:pt x="21600" y="0"/>
                </a:lnTo>
                <a:lnTo>
                  <a:pt x="21600" y="23833"/>
                </a:lnTo>
                <a:lnTo>
                  <a:pt x="0" y="23833"/>
                </a:lnTo>
                <a:close/>
              </a:path>
              <a:path fill="lightenLess" w="21600" h="238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3">
                <a:moveTo>
                  <a:pt x="21600" y="0"/>
                </a:moveTo>
                <a:lnTo>
                  <a:pt x="21600" y="23833"/>
                </a:lnTo>
                <a:lnTo>
                  <a:pt x="20200" y="22433"/>
                </a:lnTo>
                <a:lnTo>
                  <a:pt x="20200" y="1400"/>
                </a:lnTo>
                <a:close/>
              </a:path>
              <a:path fill="darkenLess" w="21600" h="23833">
                <a:moveTo>
                  <a:pt x="21600" y="23833"/>
                </a:moveTo>
                <a:lnTo>
                  <a:pt x="0" y="23833"/>
                </a:lnTo>
                <a:lnTo>
                  <a:pt x="1400" y="22433"/>
                </a:lnTo>
                <a:lnTo>
                  <a:pt x="20200" y="22433"/>
                </a:lnTo>
                <a:close/>
              </a:path>
              <a:path fill="lighten" w="21600" h="23833">
                <a:moveTo>
                  <a:pt x="0" y="238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3"/>
                </a:lnTo>
                <a:close/>
              </a:path>
              <a:path fill="darken" w="21600" h="23833">
                <a:moveTo>
                  <a:pt x="10800" y="4953"/>
                </a:moveTo>
                <a:lnTo>
                  <a:pt x="13376" y="7564"/>
                </a:ln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6"/>
                </a:lnTo>
                <a:lnTo>
                  <a:pt x="5491" y="19106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3">
                <a:moveTo>
                  <a:pt x="13376" y="7564"/>
                </a:move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close/>
              </a:path>
              <a:path fill="darkenLess" w="21600" h="23833">
                <a:moveTo>
                  <a:pt x="9877" y="15415"/>
                </a:moveTo>
                <a:lnTo>
                  <a:pt x="11723" y="15415"/>
                </a:lnTo>
                <a:lnTo>
                  <a:pt x="11723" y="19106"/>
                </a:lnTo>
                <a:lnTo>
                  <a:pt x="16109" y="19106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6"/>
                </a:lnTo>
                <a:lnTo>
                  <a:pt x="9877" y="191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94920" y="1506600"/>
            <a:ext cx="8497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游船、画舫在湖面慢慢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滑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过，几乎不留一点痕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游船、画舫在湖面慢慢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划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过，几乎不留一点痕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为什么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“滑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，不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“划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8388360" y="6151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523880" y="0"/>
            <a:ext cx="60962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展开想象的翅膀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617920"/>
            <a:ext cx="85341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有的小狮子（             ），有的小狮子（             ），有的小狮子（             ），有的小狮子（             ），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……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firstslide"/>
          </p:cNvPr>
          <p:cNvSpPr/>
          <p:nvPr/>
        </p:nvSpPr>
        <p:spPr>
          <a:xfrm>
            <a:off x="617220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2971800" y="38088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04920" y="32767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结尾可照应开头，做到首尾照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>
            <a:hlinkClick r:id="" action="ppaction://hlinkshowjump?jump=nextslide"/>
          </p:cNvPr>
          <p:cNvSpPr/>
          <p:nvPr/>
        </p:nvSpPr>
        <p:spPr>
          <a:xfrm>
            <a:off x="617220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12920" y="122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bjyhy12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04920" y="0"/>
            <a:ext cx="883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b10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520" y="457200"/>
            <a:ext cx="8610480" cy="613584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8194"/>
          <p:cNvSpPr/>
          <p:nvPr/>
        </p:nvSpPr>
        <p:spPr>
          <a:xfrm>
            <a:off x="1835280" y="4869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by69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228600" y="1890720"/>
            <a:ext cx="8686800" cy="3078000"/>
            <a:chOff x="228600" y="1890720"/>
            <a:chExt cx="8686800" cy="3078000"/>
          </a:xfrm>
        </p:grpSpPr>
        <p:sp>
          <p:nvSpPr>
            <p:cNvPr id="163" name="Rectangle 5"/>
            <p:cNvSpPr/>
            <p:nvPr/>
          </p:nvSpPr>
          <p:spPr>
            <a:xfrm>
              <a:off x="228600" y="1890720"/>
              <a:ext cx="8686800" cy="30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3"/>
            <p:cNvSpPr/>
            <p:nvPr/>
          </p:nvSpPr>
          <p:spPr>
            <a:xfrm>
              <a:off x="228600" y="1890720"/>
              <a:ext cx="8686800" cy="30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Picture 4" descr="by6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3618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1C11-685A-4760-A961-A542784966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by2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65040" y="189000"/>
            <a:ext cx="841392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2514600" y="333360"/>
            <a:ext cx="36576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3520" y="24210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开头可以写自己的感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68580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7734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填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8000" y="1197000"/>
            <a:ext cx="892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进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颐和园的大门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绕过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大殿，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来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有名的（        ）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走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长廊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来到（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登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万寿山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站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佛香阁的前面向下望，颐和园的景色大半收在眼底。从万寿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下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，就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6400800" y="58672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3"/>
          <p:cNvSpPr txBox="1"/>
          <p:nvPr/>
        </p:nvSpPr>
        <p:spPr>
          <a:xfrm>
            <a:off x="2895480" y="99072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1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3352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按游览的顺序，段与段前后相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">
            <a:hlinkClick r:id="" action="ppaction://hlinkshowjump?jump=firstslide"/>
          </p:cNvPr>
          <p:cNvSpPr/>
          <p:nvPr/>
        </p:nvSpPr>
        <p:spPr>
          <a:xfrm>
            <a:off x="708660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2743200" y="38088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2743200"/>
            <a:ext cx="8382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要选取重点景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重点景物要详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做到有详有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77724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绿漆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柱子，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红漆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栏杆，一眼望不到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柱子，栏杆，一眼望不到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7162920" y="5715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194"/>
          <p:cNvSpPr/>
          <p:nvPr/>
        </p:nvSpPr>
        <p:spPr>
          <a:xfrm>
            <a:off x="900000" y="501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" action="ppaction://hlinkshowjump?jump=first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7276" y="3837"/>
                </a:moveTo>
                <a:lnTo>
                  <a:pt x="19852" y="6448"/>
                </a:ln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lnTo>
                  <a:pt x="24239" y="10800"/>
                </a:lnTo>
                <a:lnTo>
                  <a:pt x="22585" y="10800"/>
                </a:lnTo>
                <a:lnTo>
                  <a:pt x="22585" y="17989"/>
                </a:lnTo>
                <a:lnTo>
                  <a:pt x="11967" y="17989"/>
                </a:lnTo>
                <a:lnTo>
                  <a:pt x="11967" y="10800"/>
                </a:lnTo>
                <a:lnTo>
                  <a:pt x="10313" y="10800"/>
                </a:lnTo>
                <a:close/>
              </a:path>
              <a:path fill="darkenLess" w="34552" h="21600">
                <a:moveTo>
                  <a:pt x="19852" y="6448"/>
                </a:move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close/>
              </a:path>
              <a:path fill="darkenLess" w="34552" h="21600">
                <a:moveTo>
                  <a:pt x="16353" y="14299"/>
                </a:moveTo>
                <a:lnTo>
                  <a:pt x="18199" y="14299"/>
                </a:lnTo>
                <a:lnTo>
                  <a:pt x="18199" y="17989"/>
                </a:lnTo>
                <a:lnTo>
                  <a:pt x="22585" y="17989"/>
                </a:lnTo>
                <a:lnTo>
                  <a:pt x="22585" y="10800"/>
                </a:lnTo>
                <a:lnTo>
                  <a:pt x="11967" y="10800"/>
                </a:lnTo>
                <a:lnTo>
                  <a:pt x="11967" y="17989"/>
                </a:lnTo>
                <a:lnTo>
                  <a:pt x="16353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b762"/>
          <p:cNvPicPr/>
          <p:nvPr/>
        </p:nvPicPr>
        <p:blipFill>
          <a:blip r:embed="rId1"/>
          <a:stretch/>
        </p:blipFill>
        <p:spPr>
          <a:xfrm>
            <a:off x="-57240" y="-100080"/>
            <a:ext cx="9220320" cy="767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228600" y="1692360"/>
            <a:ext cx="8686800" cy="846000"/>
            <a:chOff x="228600" y="1692360"/>
            <a:chExt cx="8686800" cy="846000"/>
          </a:xfrm>
        </p:grpSpPr>
        <p:sp>
          <p:nvSpPr>
            <p:cNvPr id="110" name="Rectangle 4"/>
            <p:cNvSpPr/>
            <p:nvPr/>
          </p:nvSpPr>
          <p:spPr>
            <a:xfrm>
              <a:off x="228600" y="1692360"/>
              <a:ext cx="86868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228600" y="1692360"/>
              <a:ext cx="8686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Picture 6" descr="b757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22860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09:1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6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