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media/image22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5.png" ContentType="image/png"/>
  <Override PartName="/ppt/media/drumroll.wav" ContentType="audio/x-wav"/>
  <Override PartName="/ppt/media/image12.gif" ContentType="image/gif"/>
  <Override PartName="/ppt/media/image30.jpeg" ContentType="image/jpeg"/>
  <Override PartName="/ppt/media/image26.png" ContentType="image/png"/>
  <Override PartName="/ppt/media/image3.png" ContentType="image/png"/>
  <Override PartName="/ppt/media/image27.gif" ContentType="image/gif"/>
  <Override PartName="/ppt/media/image29.jpeg" ContentType="image/jpeg"/>
  <Override PartName="/ppt/media/image7.gif" ContentType="image/gif"/>
  <Override PartName="/ppt/media/image6.jpeg" ContentType="image/jpeg"/>
  <Override PartName="/ppt/media/image4.png" ContentType="image/png"/>
  <Override PartName="/ppt/media/image2.png" ContentType="image/png"/>
  <Override PartName="/ppt/media/image1.png" ContentType="image/png"/>
  <Override PartName="/ppt/media/chimes.wav" ContentType="audio/x-wav"/>
  <Override PartName="/ppt/media/laser.wav" ContentType="audio/x-wav"/>
  <Override PartName="/ppt/media/image16.jpeg" ContentType="image/jpeg"/>
  <Override PartName="/ppt/media/image24.jpeg" ContentType="image/jpeg"/>
  <Override PartName="/ppt/media/projctor.wav" ContentType="audio/x-wav"/>
  <Override PartName="/ppt/media/image10.jpeg" ContentType="image/jpeg"/>
  <Override PartName="/ppt/media/image14.png" ContentType="image/png"/>
  <Override PartName="/ppt/media/image17.png" ContentType="image/png"/>
  <Override PartName="/ppt/media/image18.gif" ContentType="image/gif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E6DA-6C2A-4A5F-8EEF-24745B7F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066F-6C92-4C52-ABD9-3B88B32E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154C-C6E3-4CC5-9765-78391C274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9637-AB61-46A7-A680-3546B7B3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DBA-5F00-430D-A44F-B7D2EC41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E5E82-061F-4DE8-8567-8DC0E0BB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09D6-1BB3-4979-999A-10E0BB5A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D63-D7A6-458E-A5C2-A0D0CCDD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3832-7061-4739-96CA-E0FD3D0E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6573-8493-439C-9FB0-E8C114BD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1F30-20C6-440C-9DFE-FCB7CB02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2661-6C25-4AD2-899D-940EB096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175B-B63C-47B5-88F1-0B2F3BD9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71A4-BBFB-49D2-AD34-B14AA0D6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C54-E723-4A04-A419-34B8C1CA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1F6D-B2A9-4109-86C9-F81CBEC5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0D8B-EEB6-438F-8D65-B5E2A2D59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11C5-9EB4-4DFF-9EE0-EFDFEB76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867F-52AC-4C82-9CD9-5223C22E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E528-B60E-4E83-8B79-EC8F7000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14B6-9889-4AC6-8350-EB7E51A6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1807-ACE6-44CA-8DFB-20C75056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CBB5-FF7E-4101-AEDE-5D9DEBC9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BA09-589F-4B74-A9FE-A89BB6F7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2C03-EAB1-44A5-978F-EFE0CC50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12BE-752E-4A83-8227-607389897B2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4D80-D85E-41EE-8137-04BE50FED4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2.gif"/><Relationship Id="rId8" Type="http://schemas.openxmlformats.org/officeDocument/2006/relationships/image" Target="../media/image1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png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619280" y="692280"/>
            <a:ext cx="6192720" cy="59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"/>
              </a:rPr>
              <a:t>三个儿子</a:t>
            </a:r>
            <a:r>
              <a:rPr b="1" i="1" lang="en-US" sz="40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"/>
              </a:rPr>
              <a:t>PPT</a:t>
            </a:r>
            <a:r>
              <a:rPr b="1" i="1" lang="zh-CN" sz="40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"/>
              </a:rPr>
              <a:t>课件模板下载</a:t>
            </a:r>
            <a:endParaRPr b="1" i="1" lang="en-US" sz="40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uFillTx/>
              <a:latin typeface=""/>
              <a:ea typeface="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幻灯片之家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ttp://www.eeppt.com</a:t>
            </a:r>
            <a:endParaRPr b="1" i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457200" y="109224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个妈妈说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那个儿子既聪明又有力气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谁也比不过他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533520" y="2311560"/>
            <a:ext cx="82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又一个妈妈说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那个儿子唱起歌来好听极了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谁都没有他那样的好嗓子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533520" y="35305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个妈妈说：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什么可说的，他没有什么特别的地方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1948320" y="489276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组讨论：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她们的话分别是什么意思？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她们各自用怎样的语气读？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5"/>
          <p:cNvGrpSpPr/>
          <p:nvPr/>
        </p:nvGrpSpPr>
        <p:grpSpPr>
          <a:xfrm>
            <a:off x="304920" y="914400"/>
            <a:ext cx="7543440" cy="4571640"/>
            <a:chOff x="304920" y="914400"/>
            <a:chExt cx="7543440" cy="4571640"/>
          </a:xfrm>
        </p:grpSpPr>
        <p:sp>
          <p:nvSpPr>
            <p:cNvPr id="172" name="Rectangle 6"/>
            <p:cNvSpPr/>
            <p:nvPr/>
          </p:nvSpPr>
          <p:spPr>
            <a:xfrm>
              <a:off x="304920" y="914400"/>
              <a:ext cx="754344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384120" y="115452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74" name="Picture 15" descr="N_125"/>
          <p:cNvPicPr/>
          <p:nvPr/>
        </p:nvPicPr>
        <p:blipFill>
          <a:blip r:embed="rId2"/>
          <a:stretch/>
        </p:blipFill>
        <p:spPr>
          <a:xfrm>
            <a:off x="1476360" y="476280"/>
            <a:ext cx="1224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16"/>
          <p:cNvSpPr/>
          <p:nvPr/>
        </p:nvSpPr>
        <p:spPr>
          <a:xfrm>
            <a:off x="1028880" y="1413000"/>
            <a:ext cx="663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　　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一个妈妈说：“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我的儿子既聪明又有力气，谁也比不过他。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”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3132000" y="4292640"/>
            <a:ext cx="3961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骄傲自豪）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1027"/>
          <p:cNvGrpSpPr/>
          <p:nvPr/>
        </p:nvGrpSpPr>
        <p:grpSpPr>
          <a:xfrm>
            <a:off x="914400" y="1600200"/>
            <a:ext cx="7010280" cy="4114440"/>
            <a:chOff x="914400" y="1600200"/>
            <a:chExt cx="7010280" cy="4114440"/>
          </a:xfrm>
        </p:grpSpPr>
        <p:sp>
          <p:nvSpPr>
            <p:cNvPr id="178" name="Rectangle 1028"/>
            <p:cNvSpPr/>
            <p:nvPr/>
          </p:nvSpPr>
          <p:spPr>
            <a:xfrm>
              <a:off x="914400" y="1600200"/>
              <a:ext cx="7010280" cy="41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79" name="Text Box 1029"/>
            <p:cNvSpPr/>
            <p:nvPr/>
          </p:nvSpPr>
          <p:spPr>
            <a:xfrm>
              <a:off x="988920" y="1764360"/>
              <a:ext cx="109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80" name="Picture 1030" descr="N_125"/>
          <p:cNvPicPr/>
          <p:nvPr/>
        </p:nvPicPr>
        <p:blipFill>
          <a:blip r:embed="rId2"/>
          <a:stretch/>
        </p:blipFill>
        <p:spPr>
          <a:xfrm>
            <a:off x="2057400" y="685800"/>
            <a:ext cx="816120" cy="838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36"/>
          <p:cNvSpPr/>
          <p:nvPr/>
        </p:nvSpPr>
        <p:spPr>
          <a:xfrm>
            <a:off x="380880" y="167652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又一个妈妈说：“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我的儿子唱起歌来好听极了，谁都没有他那样的好嗓子。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”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2" name="Text Box 1037"/>
          <p:cNvSpPr/>
          <p:nvPr/>
        </p:nvSpPr>
        <p:spPr>
          <a:xfrm>
            <a:off x="73152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ffff"/>
                </a:solidFill>
                <a:latin typeface="Times New Roman"/>
                <a:ea typeface="华文彩云"/>
              </a:rPr>
              <a:t>我会读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3" name="Text Box 1038"/>
          <p:cNvSpPr/>
          <p:nvPr/>
        </p:nvSpPr>
        <p:spPr>
          <a:xfrm>
            <a:off x="3419640" y="4292640"/>
            <a:ext cx="396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骄傲自豪）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N_178"/>
          <p:cNvPicPr/>
          <p:nvPr/>
        </p:nvPicPr>
        <p:blipFill>
          <a:blip r:embed="rId2"/>
          <a:stretch/>
        </p:blipFill>
        <p:spPr>
          <a:xfrm>
            <a:off x="1619280" y="620640"/>
            <a:ext cx="1297080" cy="9367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7667280" y="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ff66"/>
                </a:solidFill>
                <a:latin typeface="Times New Roman"/>
                <a:ea typeface="华文彩云"/>
              </a:rPr>
              <a:t>我会读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8360" y="19890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ff"/>
                </a:solidFill>
                <a:latin typeface="Times New Roman"/>
              </a:rPr>
              <a:t>     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另一个妈妈说：“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有什么可说的，他没有什么特别的地方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”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3851280" y="5157720"/>
            <a:ext cx="3048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  <a:ea typeface="华文隶书"/>
              </a:rPr>
              <a:t>（平淡）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-1295280" y="-1600200"/>
            <a:ext cx="11810880" cy="10287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609480" y="1447920"/>
            <a:ext cx="937260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一个         的儿子</a:t>
            </a:r>
            <a:endParaRPr b="1" i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一个         的儿子</a:t>
            </a:r>
            <a:endParaRPr b="1" i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另一个        的儿子</a:t>
            </a:r>
            <a:endParaRPr b="1" i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666880" y="2590920"/>
            <a:ext cx="3276720" cy="360"/>
            <a:chOff x="2666880" y="2590920"/>
            <a:chExt cx="3276720" cy="360"/>
          </a:xfrm>
        </p:grpSpPr>
        <p:sp>
          <p:nvSpPr>
            <p:cNvPr id="191" name="Line 4"/>
            <p:cNvSpPr/>
            <p:nvPr/>
          </p:nvSpPr>
          <p:spPr>
            <a:xfrm>
              <a:off x="2666880" y="25909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666880" y="259092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666880" y="4038480"/>
            <a:ext cx="3276720" cy="360"/>
            <a:chOff x="2666880" y="4038480"/>
            <a:chExt cx="3276720" cy="360"/>
          </a:xfrm>
        </p:grpSpPr>
        <p:sp>
          <p:nvSpPr>
            <p:cNvPr id="194" name="Line 5"/>
            <p:cNvSpPr/>
            <p:nvPr/>
          </p:nvSpPr>
          <p:spPr>
            <a:xfrm>
              <a:off x="2666880" y="40384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666880" y="403848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00400" y="5562720"/>
            <a:ext cx="3276720" cy="360"/>
            <a:chOff x="3200400" y="5562720"/>
            <a:chExt cx="3276720" cy="360"/>
          </a:xfrm>
        </p:grpSpPr>
        <p:sp>
          <p:nvSpPr>
            <p:cNvPr id="197" name="Line 6"/>
            <p:cNvSpPr/>
            <p:nvPr/>
          </p:nvSpPr>
          <p:spPr>
            <a:xfrm>
              <a:off x="3200400" y="55627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00400" y="5562720"/>
              <a:ext cx="327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99" name="Text Box 7"/>
          <p:cNvSpPr/>
          <p:nvPr/>
        </p:nvSpPr>
        <p:spPr>
          <a:xfrm>
            <a:off x="2590920" y="160020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聪明又有力气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124080" y="312408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唱歌好听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124080" y="46483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什么特别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110"/>
          <p:cNvPicPr/>
          <p:nvPr/>
        </p:nvPicPr>
        <p:blipFill>
          <a:blip r:embed="rId1"/>
          <a:stretch/>
        </p:blipFill>
        <p:spPr>
          <a:xfrm>
            <a:off x="0" y="685800"/>
            <a:ext cx="879480" cy="3124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avatar123227_2"/>
          <p:cNvPicPr/>
          <p:nvPr/>
        </p:nvPicPr>
        <p:blipFill>
          <a:blip r:embed="rId2"/>
          <a:stretch/>
        </p:blipFill>
        <p:spPr>
          <a:xfrm>
            <a:off x="7469280" y="4876920"/>
            <a:ext cx="1674720" cy="198108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4"/>
          <p:cNvSpPr/>
          <p:nvPr/>
        </p:nvSpPr>
        <p:spPr>
          <a:xfrm>
            <a:off x="1371600" y="228600"/>
            <a:ext cx="1971720" cy="762120"/>
          </a:xfrm>
          <a:prstGeom prst="borderCallout2">
            <a:avLst>
              <a:gd name="adj1" fmla="val 18750"/>
              <a:gd name="adj2" fmla="val -8333"/>
              <a:gd name="adj3" fmla="val 15000"/>
              <a:gd name="adj4" fmla="val -23995"/>
              <a:gd name="adj5" fmla="val 71875"/>
              <a:gd name="adj6" fmla="val -44925"/>
            </a:avLst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295280" y="22860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我会说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990720" y="1828800"/>
            <a:ext cx="79246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一个（只）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—————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1" i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一个（只）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—————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1" i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另一个（只）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—————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1" i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7" name="文本框 8199"/>
          <p:cNvSpPr/>
          <p:nvPr/>
        </p:nvSpPr>
        <p:spPr>
          <a:xfrm>
            <a:off x="1692360" y="5589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i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i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806840" y="404640"/>
            <a:ext cx="55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轻声读第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自然段，想：主要讲什么？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1217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桶水可重了！水（     ），三个妈妈（       ），胳膊都（ ）了，腰也（ ）了。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325160" y="3357720"/>
            <a:ext cx="517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从填上的词语中体会到什么？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79280" y="4221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水桶里的水很满，三个妈妈提着水很吃力。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148360" y="1197000"/>
            <a:ext cx="37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直晃荡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814400" y="184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走走停停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6404760" y="184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痛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004040" y="2421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酸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395280" y="551664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此时三个妈妈在想什么？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背景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1066680"/>
            <a:ext cx="9144000" cy="89154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1412640" y="385920"/>
            <a:ext cx="671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一个妈妈擦去额头的汗水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“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___________________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２、一个妈妈敲敲直不起来的背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___________________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３、另一个妈妈捏捏发酸的手臂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: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___________________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。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”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187280" y="765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时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迎面跑来三个孩子。他们各自有什么表现呢？画出相应的句子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755640" y="2349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一个孩子翻着跟头，像车轮在转，真好看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！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755640" y="350028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一个孩子唱着歌，歌声真好听。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23880" y="46735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另一个孩子跑到妈妈跟前，接过妈妈手里沉甸甸的水桶，提着走了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4284720" y="5300640"/>
            <a:ext cx="631800" cy="360"/>
            <a:chOff x="4284720" y="5300640"/>
            <a:chExt cx="631800" cy="360"/>
          </a:xfrm>
        </p:grpSpPr>
        <p:sp>
          <p:nvSpPr>
            <p:cNvPr id="224" name="Line 6"/>
            <p:cNvSpPr/>
            <p:nvPr/>
          </p:nvSpPr>
          <p:spPr>
            <a:xfrm>
              <a:off x="4284720" y="5300640"/>
              <a:ext cx="631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25" name=""/>
            <p:cNvSpPr txBox="1"/>
            <p:nvPr/>
          </p:nvSpPr>
          <p:spPr>
            <a:xfrm>
              <a:off x="4284720" y="5300640"/>
              <a:ext cx="63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7524720" y="5300640"/>
            <a:ext cx="631800" cy="360"/>
            <a:chOff x="7524720" y="5300640"/>
            <a:chExt cx="631800" cy="360"/>
          </a:xfrm>
        </p:grpSpPr>
        <p:sp>
          <p:nvSpPr>
            <p:cNvPr id="227" name="Line 7"/>
            <p:cNvSpPr/>
            <p:nvPr/>
          </p:nvSpPr>
          <p:spPr>
            <a:xfrm>
              <a:off x="7524720" y="5300640"/>
              <a:ext cx="631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7524720" y="5300640"/>
              <a:ext cx="63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940360" y="5805360"/>
            <a:ext cx="631800" cy="360"/>
            <a:chOff x="5940360" y="5805360"/>
            <a:chExt cx="631800" cy="360"/>
          </a:xfrm>
        </p:grpSpPr>
        <p:sp>
          <p:nvSpPr>
            <p:cNvPr id="230" name="Line 8"/>
            <p:cNvSpPr/>
            <p:nvPr/>
          </p:nvSpPr>
          <p:spPr>
            <a:xfrm>
              <a:off x="5940360" y="5805360"/>
              <a:ext cx="631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5940360" y="5805360"/>
              <a:ext cx="63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2865240" y="25146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最后一个孩子是怎么想的？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2033280" y="4114800"/>
            <a:ext cx="481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到这个孩子的做法，他的妈妈在想什么？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直跟在后面的爷爷心里在想什么？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34" name="Picture 4" descr="bianku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1116000" y="3500280"/>
            <a:ext cx="591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看到这个孩子的做法，他的妈妈在想什么？一直跟在后面的爷爷心里在想什么？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2937600" y="1473120"/>
            <a:ext cx="109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最后一个孩子是怎么想的？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26560" y="907920"/>
            <a:ext cx="79218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小组学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小组学习生字、词语和字形、  字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初读课文：读准字音、认清字形，读通课文、不添字漏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这篇课文主要讲了一件什么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back"/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up"/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next"/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828360" y="762120"/>
            <a:ext cx="7617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一个妈妈问老爷爷：“看见了吗？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这就是我们的三个儿子。怎么样啊？”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“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个儿子？”老爷爷说：“不对吧，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我可只看见一个儿子。”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086600" y="2590920"/>
            <a:ext cx="1523880" cy="360"/>
            <a:chOff x="7086600" y="2590920"/>
            <a:chExt cx="1523880" cy="360"/>
          </a:xfrm>
        </p:grpSpPr>
        <p:sp>
          <p:nvSpPr>
            <p:cNvPr id="239" name="Line 3"/>
            <p:cNvSpPr/>
            <p:nvPr/>
          </p:nvSpPr>
          <p:spPr>
            <a:xfrm>
              <a:off x="7086600" y="259092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7086600" y="2590920"/>
              <a:ext cx="1523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04920" y="3200400"/>
            <a:ext cx="4647960" cy="360"/>
            <a:chOff x="304920" y="3200400"/>
            <a:chExt cx="4647960" cy="360"/>
          </a:xfrm>
        </p:grpSpPr>
        <p:sp>
          <p:nvSpPr>
            <p:cNvPr id="242" name="Line 4"/>
            <p:cNvSpPr/>
            <p:nvPr/>
          </p:nvSpPr>
          <p:spPr>
            <a:xfrm>
              <a:off x="304920" y="3200400"/>
              <a:ext cx="464796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304920" y="3200400"/>
              <a:ext cx="4647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1905120" y="1066680"/>
            <a:ext cx="60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1905120" y="2209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　　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3216240" y="39625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1887480" y="1197000"/>
            <a:ext cx="6284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ff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老爷爷为什么说他只看见一个儿子？</a:t>
            </a:r>
            <a:r>
              <a:rPr b="1" lang="zh-CN" sz="6000" spc="-1" strike="noStrike">
                <a:solidFill>
                  <a:srgbClr val="cc00ff"/>
                </a:solidFill>
                <a:latin typeface="Times New Roman"/>
              </a:rPr>
              <a:t>  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48" name="Picture 9" descr="N_125"/>
          <p:cNvPicPr/>
          <p:nvPr/>
        </p:nvPicPr>
        <p:blipFill>
          <a:blip r:embed="rId2"/>
          <a:stretch/>
        </p:blipFill>
        <p:spPr>
          <a:xfrm>
            <a:off x="7010280" y="5334120"/>
            <a:ext cx="9763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11113"/>
          <p:cNvPicPr/>
          <p:nvPr/>
        </p:nvPicPr>
        <p:blipFill>
          <a:blip r:embed="rId1"/>
          <a:srcRect l="0" t="15652" r="48529" b="6436"/>
          <a:stretch/>
        </p:blipFill>
        <p:spPr>
          <a:xfrm>
            <a:off x="1116000" y="0"/>
            <a:ext cx="7129440" cy="54784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1782000" y="5445000"/>
            <a:ext cx="550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只有第三个儿子用实际行动来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担母亲重担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他才是真正的好儿子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3" descr="chinaps_net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2" name="Group 14"/>
          <p:cNvGrpSpPr/>
          <p:nvPr/>
        </p:nvGrpSpPr>
        <p:grpSpPr>
          <a:xfrm>
            <a:off x="1116000" y="2637000"/>
            <a:ext cx="7416720" cy="1513080"/>
            <a:chOff x="1116000" y="2637000"/>
            <a:chExt cx="7416720" cy="1513080"/>
          </a:xfrm>
        </p:grpSpPr>
        <p:sp>
          <p:nvSpPr>
            <p:cNvPr id="253" name="Text Box 7"/>
            <p:cNvSpPr/>
            <p:nvPr/>
          </p:nvSpPr>
          <p:spPr>
            <a:xfrm>
              <a:off x="1116000" y="2637000"/>
              <a:ext cx="741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有        的孩子，才是          的儿子。</a:t>
              </a:r>
              <a:endPara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771640" y="3429000"/>
              <a:ext cx="1981440" cy="360"/>
              <a:chOff x="2771640" y="3429000"/>
              <a:chExt cx="1981440" cy="360"/>
            </a:xfrm>
          </p:grpSpPr>
          <p:sp>
            <p:nvSpPr>
              <p:cNvPr id="255" name="Line 8"/>
              <p:cNvSpPr/>
              <p:nvPr/>
            </p:nvSpPr>
            <p:spPr>
              <a:xfrm>
                <a:off x="2771640" y="3429000"/>
                <a:ext cx="198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2771640" y="3429000"/>
                <a:ext cx="1981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556000" y="4149720"/>
              <a:ext cx="1904760" cy="360"/>
              <a:chOff x="2556000" y="4149720"/>
              <a:chExt cx="1904760" cy="360"/>
            </a:xfrm>
          </p:grpSpPr>
          <p:sp>
            <p:nvSpPr>
              <p:cNvPr id="258" name="Line 9"/>
              <p:cNvSpPr/>
              <p:nvPr/>
            </p:nvSpPr>
            <p:spPr>
              <a:xfrm>
                <a:off x="2556000" y="4149720"/>
                <a:ext cx="19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i="1" lang="en-US" sz="6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2556000" y="4149720"/>
                <a:ext cx="1904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6000" spc="-1" strike="noStrike" u="sng">
                  <a:solidFill>
                    <a:srgbClr val="000000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260" name="Rectangle 10"/>
          <p:cNvSpPr/>
          <p:nvPr/>
        </p:nvSpPr>
        <p:spPr>
          <a:xfrm>
            <a:off x="2998440" y="3429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真正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007800" y="2637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孝敬父母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62" name="WordArt 13"/>
          <p:cNvSpPr txBox="1"/>
          <p:nvPr/>
        </p:nvSpPr>
        <p:spPr>
          <a:xfrm>
            <a:off x="1835280" y="476280"/>
            <a:ext cx="46814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也可以这么说：</a:t>
            </a:r>
            <a:endParaRPr b="1" i="1" lang="en-US" sz="60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hinaps_net_16"/>
          <p:cNvPicPr/>
          <p:nvPr/>
        </p:nvPicPr>
        <p:blipFill>
          <a:blip r:embed="rId1"/>
          <a:stretch/>
        </p:blipFill>
        <p:spPr>
          <a:xfrm>
            <a:off x="0" y="0"/>
            <a:ext cx="9448920" cy="6945480"/>
          </a:xfrm>
          <a:prstGeom prst="rect">
            <a:avLst/>
          </a:prstGeom>
          <a:ln w="0">
            <a:noFill/>
          </a:ln>
        </p:spPr>
      </p:pic>
      <p:sp>
        <p:nvSpPr>
          <p:cNvPr id="264" name="WordArt 3"/>
          <p:cNvSpPr txBox="1"/>
          <p:nvPr/>
        </p:nvSpPr>
        <p:spPr>
          <a:xfrm>
            <a:off x="914400" y="7621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 u="sng">
                <a:ln cap="rnd" w="9360">
                  <a:solidFill>
                    <a:srgbClr val="00cc99"/>
                  </a:solidFill>
                  <a:custDash>
                    <a:ds d="100000" sp="1000"/>
                  </a:custDash>
                  <a:round/>
                </a:ln>
                <a:solidFill>
                  <a:srgbClr val="3333cc"/>
                </a:solidFill>
                <a:uFillTx/>
                <a:latin typeface="华文彩云"/>
              </a:rPr>
              <a:t>练一练：</a:t>
            </a:r>
            <a:endParaRPr b="1" i="1" lang="en-US" sz="4800" spc="1" strike="noStrike" u="sng">
              <a:ln cap="rnd" w="9360">
                <a:solidFill>
                  <a:srgbClr val="00cc99"/>
                </a:solidFill>
                <a:custDash>
                  <a:ds d="100000" sp="1000"/>
                </a:custDash>
                <a:round/>
              </a:ln>
              <a:solidFill>
                <a:srgbClr val="3333cc"/>
              </a:solidFill>
              <a:uFillTx/>
              <a:latin typeface="华文彩云"/>
              <a:ea typeface="华文彩云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914400" y="1793880"/>
            <a:ext cx="7772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朋友们面对妈妈手中沉甸甸的水桶  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力气大的孩子只顾着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嗓音好的孩子只顾着 </a:t>
            </a:r>
            <a:r>
              <a:rPr b="0" lang="zh-CN" sz="3200" spc="-1" strike="noStrike">
                <a:solidFill>
                  <a:srgbClr val="9933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只有那个“没什么特别地方”的儿子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跑到妈妈跟前                 妈妈手里沉甸甸的水桶，提着走了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804000" y="2852640"/>
            <a:ext cx="1800360" cy="360"/>
            <a:chOff x="6804000" y="2852640"/>
            <a:chExt cx="1800360" cy="360"/>
          </a:xfrm>
        </p:grpSpPr>
        <p:sp>
          <p:nvSpPr>
            <p:cNvPr id="267" name="Line 5"/>
            <p:cNvSpPr/>
            <p:nvPr/>
          </p:nvSpPr>
          <p:spPr>
            <a:xfrm>
              <a:off x="6804000" y="285264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804000" y="285264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87640" y="4437000"/>
            <a:ext cx="1800360" cy="360"/>
            <a:chOff x="2987640" y="4437000"/>
            <a:chExt cx="1800360" cy="360"/>
          </a:xfrm>
        </p:grpSpPr>
        <p:sp>
          <p:nvSpPr>
            <p:cNvPr id="270" name="Line 6"/>
            <p:cNvSpPr/>
            <p:nvPr/>
          </p:nvSpPr>
          <p:spPr>
            <a:xfrm>
              <a:off x="2987640" y="4437000"/>
              <a:ext cx="18003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2987640" y="443700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508720" y="3429000"/>
            <a:ext cx="1800000" cy="360"/>
            <a:chOff x="5508720" y="3429000"/>
            <a:chExt cx="1800000" cy="360"/>
          </a:xfrm>
        </p:grpSpPr>
        <p:sp>
          <p:nvSpPr>
            <p:cNvPr id="273" name="Line 7"/>
            <p:cNvSpPr/>
            <p:nvPr/>
          </p:nvSpPr>
          <p:spPr>
            <a:xfrm>
              <a:off x="5508720" y="3429000"/>
              <a:ext cx="1800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5508720" y="3429000"/>
              <a:ext cx="1800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275" name="Text Box 8"/>
          <p:cNvSpPr/>
          <p:nvPr/>
        </p:nvSpPr>
        <p:spPr>
          <a:xfrm>
            <a:off x="6804000" y="2276640"/>
            <a:ext cx="172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翻跟斗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5796000" y="2852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唱歌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059280" y="39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接过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2193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二、选词填空：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57200" y="15238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选择合适的量词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个   只   块    桶   首   口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（   ）石头    一（   ）儿子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（   ）水      一（   ）黄莺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（   ）井      一（   ）歌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228600" y="538200"/>
            <a:ext cx="90676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选字填空：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冷   暖   酸  甜   轻   沉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甸甸   （     ）飘飘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津津   （     ）溜溜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）冰冰   （     ）洋洋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593640"/>
            <a:ext cx="922032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选词填空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拎  跟   跑   走   提   打  接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个妈妈（   ）了水，（   ）着水桶回家去。那个老爷爷（   ）在后面慢慢地（   ）。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第三个孩子（   ）到妈妈跟前，（   ）过妈妈手里沉甸甸的水桶，（   ）走了。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next"/>
          <p:cNvPicPr/>
          <p:nvPr/>
        </p:nvPicPr>
        <p:blipFill>
          <a:blip r:embed="rId1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304920" y="228600"/>
            <a:ext cx="8443800" cy="47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  <a:ea typeface="黑体"/>
              </a:rPr>
              <a:t>选词填空。  </a:t>
            </a:r>
            <a:r>
              <a:rPr b="1" lang="zh-CN" sz="4700" spc="-1" strike="noStrike">
                <a:solidFill>
                  <a:srgbClr val="ff0000"/>
                </a:solidFill>
                <a:latin typeface="Arial"/>
                <a:ea typeface="楷体_GB2312"/>
              </a:rPr>
              <a:t>什么　　怎么</a:t>
            </a:r>
            <a:endParaRPr b="1" i="1" lang="en-US" sz="4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两个妈妈问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不说说你的儿子啊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en-US" sz="47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i="1" lang="en-US" sz="47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第三个妈妈说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可讲的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他没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4700" spc="-1" strike="noStrike">
                <a:solidFill>
                  <a:srgbClr val="000000"/>
                </a:solidFill>
                <a:latin typeface="Arial"/>
              </a:rPr>
              <a:t>特别的地方</a:t>
            </a:r>
            <a:r>
              <a:rPr b="1" lang="en-US" sz="47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47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i="1" lang="en-US" sz="4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426280" y="4221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什么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1754280" y="494172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什么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778640" y="2421000"/>
            <a:ext cx="790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怎么</a:t>
            </a: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468360" y="0"/>
            <a:ext cx="838188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古诗诵读：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子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唐   孟郊</a:t>
            </a:r>
            <a:endParaRPr b="1" i="1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慈母手中线，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子身上衣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临行密密缝，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恐迟迟归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言寸草心，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得三春晖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3582000" y="10526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这篇课文讲了一件什么事呢？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29840" y="1828800"/>
            <a:ext cx="7861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三个妈妈在（         ），她们一边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）一边（           ）。当母亲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                    ）的时候，三个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儿子都来了，但是只有（     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。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183560" y="1828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井边打水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21080" y="2362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打水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760200" y="236232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夸自己的儿子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32240" y="2895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拎着一桶很重的水回家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566040" y="350532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个儿子接过妈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373680" y="40384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妈的水桶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96" name="Picture 12" descr="图片2"/>
          <p:cNvPicPr/>
          <p:nvPr/>
        </p:nvPicPr>
        <p:blipFill>
          <a:blip r:embed="rId2"/>
          <a:stretch/>
        </p:blipFill>
        <p:spPr>
          <a:xfrm>
            <a:off x="7380360" y="33336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Oval 2"/>
          <p:cNvSpPr/>
          <p:nvPr/>
        </p:nvSpPr>
        <p:spPr>
          <a:xfrm>
            <a:off x="762120" y="60958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187280" y="1557360"/>
            <a:ext cx="72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孝敬父母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是我们中华民族的一种传统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</a:rPr>
              <a:t>美德</a:t>
            </a: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！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0" name="文本框 8199"/>
          <p:cNvSpPr/>
          <p:nvPr/>
        </p:nvSpPr>
        <p:spPr>
          <a:xfrm>
            <a:off x="1692360" y="4869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i="1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ttp://www.eeppt.com</a:t>
            </a:r>
            <a:endParaRPr b="1" i="1" lang="en-US" sz="1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2133000" y="1523880"/>
            <a:ext cx="48747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想一想，说一说：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学了这篇课文，你想到了什么？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联系自己的生活谈一谈。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292" name="Picture 3" descr="bt1"/>
          <p:cNvPicPr/>
          <p:nvPr/>
        </p:nvPicPr>
        <p:blipFill>
          <a:blip r:embed="rId1"/>
          <a:stretch/>
        </p:blipFill>
        <p:spPr>
          <a:xfrm>
            <a:off x="5715000" y="304920"/>
            <a:ext cx="3429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54936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就是提一桶水这么简单。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就是在妈妈生病的时候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就是爸爸在烈日下满头大汗干活的时候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就是当妈妈买了我最爱吃的草莓时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就是在妈妈累了一天，静静休息的时候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更是在吃饭的时候给妈妈夹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，给爸爸盛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孝敬父母也是在放学回家的时候说一声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，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早上上学的时候说一声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med">
    <p:comb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29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D716-9FD5-4709-A947-47FA0BE9DC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i="1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Oval 2"/>
          <p:cNvSpPr/>
          <p:nvPr/>
        </p:nvSpPr>
        <p:spPr>
          <a:xfrm>
            <a:off x="762120" y="6095880"/>
            <a:ext cx="304560" cy="304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300" name="Picture 3" descr="1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3395520" y="1828800"/>
            <a:ext cx="4638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ff00ff"/>
                </a:solidFill>
                <a:latin typeface="Times New Roman"/>
                <a:ea typeface="华文行楷"/>
              </a:rPr>
              <a:t>谢谢再见！</a:t>
            </a:r>
            <a:endParaRPr b="1" i="1" lang="en-US" sz="117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2556000" y="765000"/>
            <a:ext cx="4752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uFillTx/>
                <a:latin typeface="宋体"/>
              </a:rPr>
              <a:t>我来当小老师</a:t>
            </a:r>
            <a:endParaRPr b="1" i="1" lang="en-US" sz="66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uFillTx/>
              <a:latin typeface="宋体"/>
              <a:ea typeface="宋体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1828800" y="4038480"/>
            <a:ext cx="15908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diàn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甸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5800" y="2057400"/>
            <a:ext cx="1219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jì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既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286000" y="2057400"/>
            <a:ext cx="11430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ǎng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嗓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3962520" y="2057400"/>
            <a:ext cx="12189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īn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拎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5638680" y="2057400"/>
            <a:ext cx="13716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ǒng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桶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7162920" y="1981080"/>
            <a:ext cx="167616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huàng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晃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657600" y="4038480"/>
            <a:ext cx="12952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ɡ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ē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宋体"/>
              </a:rPr>
              <a:t>胳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334120" y="4038480"/>
            <a:ext cx="914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ō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膊</a:t>
            </a:r>
            <a:endParaRPr b="1" i="1" lang="en-US" sz="5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2556000" y="7650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嗨！生字朋友</a:t>
            </a:r>
            <a:r>
              <a:rPr b="1" i="1" lang="en-US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-</a:t>
            </a:r>
            <a:r>
              <a:rPr b="1" i="1" lang="zh-CN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我们又见面啦！</a:t>
            </a:r>
            <a:endParaRPr b="1" i="1" lang="en-US" sz="4800" spc="1" strike="noStrike" u="sng">
              <a:ln w="9360">
                <a:solidFill>
                  <a:srgbClr val="800080"/>
                </a:solidFill>
                <a:round/>
              </a:ln>
              <a:solidFill>
                <a:srgbClr val="cc66ff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92000" y="1557360"/>
            <a:ext cx="583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既    嗓    拎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桶    晃    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2771640" y="4941720"/>
            <a:ext cx="25146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77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读字  组词</a:t>
            </a:r>
            <a:endParaRPr b="1" i="1" lang="en-US" sz="6000" spc="1" strike="noStrike" u="sng">
              <a:ln w="9360">
                <a:solidFill>
                  <a:srgbClr val="800080"/>
                </a:solidFill>
                <a:round/>
              </a:ln>
              <a:solidFill>
                <a:srgbClr val="cc66ff"/>
              </a:solidFill>
              <a:uFillTx/>
              <a:latin typeface="华文新魏"/>
              <a:ea typeface="华文新魏"/>
            </a:endParaRPr>
          </a:p>
        </p:txBody>
      </p:sp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2556000" y="76500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嗨！生字朋友</a:t>
            </a:r>
            <a:r>
              <a:rPr b="1" i="1" lang="en-US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-</a:t>
            </a:r>
            <a:r>
              <a:rPr b="1" i="1" lang="zh-CN" sz="48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我们又见面啦！</a:t>
            </a:r>
            <a:endParaRPr b="1" i="1" lang="en-US" sz="4800" spc="1" strike="noStrike" u="sng">
              <a:ln w="9360">
                <a:solidFill>
                  <a:srgbClr val="800080"/>
                </a:solidFill>
                <a:round/>
              </a:ln>
              <a:solidFill>
                <a:srgbClr val="cc66ff"/>
              </a:solidFill>
              <a:uFillTx/>
              <a:latin typeface="华文新魏"/>
              <a:ea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692000" y="1557360"/>
            <a:ext cx="583236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既    嗓    拎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    </a:t>
            </a:r>
            <a:r>
              <a:rPr b="1" lang="zh-CN" sz="72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桶    晃    甸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2700360" y="2708280"/>
            <a:ext cx="5184720" cy="2165760"/>
            <a:chOff x="2700360" y="2708280"/>
            <a:chExt cx="5184720" cy="2165760"/>
          </a:xfrm>
        </p:grpSpPr>
        <p:sp>
          <p:nvSpPr>
            <p:cNvPr id="112" name="Text Box 5"/>
            <p:cNvSpPr/>
            <p:nvPr/>
          </p:nvSpPr>
          <p:spPr>
            <a:xfrm>
              <a:off x="2700360" y="2708280"/>
              <a:ext cx="51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</a:rPr>
                <a:t>既然           嗓子          拎包</a:t>
              </a:r>
              <a:endPara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2700360" y="4292640"/>
              <a:ext cx="5184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Times New Roman"/>
                </a:rPr>
                <a:t>水桶         晃荡          沉甸甸</a:t>
              </a:r>
              <a:endPara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114" name="WordArt 7"/>
          <p:cNvSpPr txBox="1"/>
          <p:nvPr/>
        </p:nvSpPr>
        <p:spPr>
          <a:xfrm>
            <a:off x="2771640" y="4941720"/>
            <a:ext cx="2514600" cy="74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1577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 u="sng">
                <a:ln w="9360">
                  <a:solidFill>
                    <a:srgbClr val="800080"/>
                  </a:solidFill>
                  <a:round/>
                </a:ln>
                <a:solidFill>
                  <a:srgbClr val="cc66ff"/>
                </a:solidFill>
                <a:uFillTx/>
                <a:latin typeface="华文新魏"/>
              </a:rPr>
              <a:t>读字  组词</a:t>
            </a:r>
            <a:endParaRPr b="1" i="1" lang="en-US" sz="6000" spc="1" strike="noStrike" u="sng">
              <a:ln w="9360">
                <a:solidFill>
                  <a:srgbClr val="800080"/>
                </a:solidFill>
                <a:round/>
              </a:ln>
              <a:solidFill>
                <a:srgbClr val="cc66ff"/>
              </a:solidFill>
              <a:uFillTx/>
              <a:latin typeface="华文新魏"/>
              <a:ea typeface="华文新魏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457200" y="125244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7391520" y="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华文彩云"/>
              </a:rPr>
              <a:t>我会认</a:t>
            </a:r>
            <a:endParaRPr b="1" i="1" lang="en-US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222200" y="2816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既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505320" y="289260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嗓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404040" y="2895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拎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362320" y="987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桶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4727520" y="14446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晃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6708600" y="1063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甸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2670120" y="441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胳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184720" y="4340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膊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40"/>
          <p:cNvSpPr/>
          <p:nvPr/>
        </p:nvSpPr>
        <p:spPr>
          <a:xfrm>
            <a:off x="2781360" y="17510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i="1" lang="en-US" sz="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26" name="Picture 2" descr="004"/>
          <p:cNvPicPr/>
          <p:nvPr/>
        </p:nvPicPr>
        <p:blipFill>
          <a:blip r:embed="rId1"/>
          <a:stretch/>
        </p:blipFill>
        <p:spPr>
          <a:xfrm>
            <a:off x="-638280" y="-285840"/>
            <a:ext cx="978228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"/>
          <p:cNvSpPr/>
          <p:nvPr/>
        </p:nvSpPr>
        <p:spPr>
          <a:xfrm rot="19953000">
            <a:off x="-299520" y="385920"/>
            <a:ext cx="3792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Arial"/>
                <a:ea typeface="楷体_GB2312"/>
              </a:rPr>
              <a:t>摘 </a:t>
            </a:r>
            <a:r>
              <a:rPr b="1" lang="zh-CN" sz="6600" spc="-1" strike="noStrike">
                <a:solidFill>
                  <a:srgbClr val="ff3399"/>
                </a:solidFill>
                <a:latin typeface="Arial"/>
                <a:ea typeface="楷体_GB2312"/>
              </a:rPr>
              <a:t>星</a:t>
            </a:r>
            <a:r>
              <a:rPr b="1" lang="zh-CN" sz="6600" spc="-1" strike="noStrike">
                <a:solidFill>
                  <a:srgbClr val="ff9900"/>
                </a:solidFill>
                <a:latin typeface="Arial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ffff00"/>
                </a:solidFill>
                <a:latin typeface="Arial"/>
                <a:ea typeface="楷体_GB2312"/>
              </a:rPr>
              <a:t>星</a:t>
            </a:r>
            <a:endParaRPr b="1" i="1" lang="en-US" sz="6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755640" y="2347920"/>
            <a:ext cx="1728720" cy="1368360"/>
            <a:chOff x="755640" y="2347920"/>
            <a:chExt cx="1728720" cy="1368360"/>
          </a:xfrm>
        </p:grpSpPr>
        <p:sp>
          <p:nvSpPr>
            <p:cNvPr id="129" name="AutoShape 5"/>
            <p:cNvSpPr/>
            <p:nvPr/>
          </p:nvSpPr>
          <p:spPr>
            <a:xfrm>
              <a:off x="755640" y="2347920"/>
              <a:ext cx="1584360" cy="1368360"/>
            </a:xfrm>
            <a:custGeom>
              <a:avLst/>
              <a:gdLst>
                <a:gd name="textAreaLeft" fmla="*/ 371880 w 1584360"/>
                <a:gd name="textAreaRight" fmla="*/ 1212480 w 1584360"/>
                <a:gd name="textAreaTop" fmla="*/ 321120 h 1368360"/>
                <a:gd name="textAreaBottom" fmla="*/ 1047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851040" y="2563920"/>
              <a:ext cx="1633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胳膊</a:t>
              </a:r>
              <a:endPara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1" name="Group 7"/>
          <p:cNvGrpSpPr/>
          <p:nvPr/>
        </p:nvGrpSpPr>
        <p:grpSpPr>
          <a:xfrm>
            <a:off x="2362320" y="1270080"/>
            <a:ext cx="1632960" cy="1295280"/>
            <a:chOff x="2362320" y="1270080"/>
            <a:chExt cx="1632960" cy="1295280"/>
          </a:xfrm>
        </p:grpSpPr>
        <p:sp>
          <p:nvSpPr>
            <p:cNvPr id="132" name="AutoShape 8"/>
            <p:cNvSpPr/>
            <p:nvPr/>
          </p:nvSpPr>
          <p:spPr>
            <a:xfrm>
              <a:off x="2362320" y="1270080"/>
              <a:ext cx="1512360" cy="1295280"/>
            </a:xfrm>
            <a:custGeom>
              <a:avLst/>
              <a:gdLst>
                <a:gd name="textAreaLeft" fmla="*/ 354960 w 1512360"/>
                <a:gd name="textAreaRight" fmla="*/ 1157400 w 1512360"/>
                <a:gd name="textAreaTop" fmla="*/ 304200 h 1295280"/>
                <a:gd name="textAreaBottom" fmla="*/ 99108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2433240" y="1485720"/>
              <a:ext cx="1562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特别</a:t>
              </a:r>
              <a:endPara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4" name="Group 10"/>
          <p:cNvGrpSpPr/>
          <p:nvPr/>
        </p:nvGrpSpPr>
        <p:grpSpPr>
          <a:xfrm>
            <a:off x="3586320" y="2131920"/>
            <a:ext cx="1777680" cy="1368360"/>
            <a:chOff x="3586320" y="2131920"/>
            <a:chExt cx="1777680" cy="1368360"/>
          </a:xfrm>
        </p:grpSpPr>
        <p:sp>
          <p:nvSpPr>
            <p:cNvPr id="135" name="AutoShape 11"/>
            <p:cNvSpPr/>
            <p:nvPr/>
          </p:nvSpPr>
          <p:spPr>
            <a:xfrm>
              <a:off x="3586320" y="2131920"/>
              <a:ext cx="1511280" cy="1368360"/>
            </a:xfrm>
            <a:custGeom>
              <a:avLst/>
              <a:gdLst>
                <a:gd name="textAreaLeft" fmla="*/ 354960 w 1511280"/>
                <a:gd name="textAreaRight" fmla="*/ 1156320 w 1511280"/>
                <a:gd name="textAreaTop" fmla="*/ 321120 h 1368360"/>
                <a:gd name="textAreaBottom" fmla="*/ 104724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6" name="Text Box 12"/>
            <p:cNvSpPr/>
            <p:nvPr/>
          </p:nvSpPr>
          <p:spPr>
            <a:xfrm>
              <a:off x="3728880" y="2419200"/>
              <a:ext cx="1635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晃荡</a:t>
              </a:r>
              <a:endPara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37" name="Group 13"/>
          <p:cNvGrpSpPr/>
          <p:nvPr/>
        </p:nvGrpSpPr>
        <p:grpSpPr>
          <a:xfrm>
            <a:off x="5438880" y="1687680"/>
            <a:ext cx="1655640" cy="1441440"/>
            <a:chOff x="5438880" y="1687680"/>
            <a:chExt cx="1655640" cy="1441440"/>
          </a:xfrm>
        </p:grpSpPr>
        <p:sp>
          <p:nvSpPr>
            <p:cNvPr id="138" name="AutoShape 14"/>
            <p:cNvSpPr/>
            <p:nvPr/>
          </p:nvSpPr>
          <p:spPr>
            <a:xfrm>
              <a:off x="5438880" y="1687680"/>
              <a:ext cx="1655640" cy="1441440"/>
            </a:xfrm>
            <a:custGeom>
              <a:avLst/>
              <a:gdLst>
                <a:gd name="textAreaLeft" fmla="*/ 388800 w 1655640"/>
                <a:gd name="textAreaRight" fmla="*/ 1266840 w 1655640"/>
                <a:gd name="textAreaTop" fmla="*/ 338400 h 1441440"/>
                <a:gd name="textAreaBottom" fmla="*/ 110304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39" name="Text Box 15"/>
            <p:cNvSpPr/>
            <p:nvPr/>
          </p:nvSpPr>
          <p:spPr>
            <a:xfrm>
              <a:off x="5546880" y="2006640"/>
              <a:ext cx="15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水桶</a:t>
              </a:r>
              <a:endPara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0" name="Group 16"/>
          <p:cNvGrpSpPr/>
          <p:nvPr/>
        </p:nvGrpSpPr>
        <p:grpSpPr>
          <a:xfrm>
            <a:off x="7093080" y="-27000"/>
            <a:ext cx="2158920" cy="1224000"/>
            <a:chOff x="7093080" y="-27000"/>
            <a:chExt cx="2158920" cy="1224000"/>
          </a:xfrm>
        </p:grpSpPr>
        <p:sp>
          <p:nvSpPr>
            <p:cNvPr id="141" name="AutoShape 17"/>
            <p:cNvSpPr/>
            <p:nvPr/>
          </p:nvSpPr>
          <p:spPr>
            <a:xfrm>
              <a:off x="7093080" y="-27000"/>
              <a:ext cx="1582560" cy="1224000"/>
            </a:xfrm>
            <a:custGeom>
              <a:avLst/>
              <a:gdLst>
                <a:gd name="textAreaLeft" fmla="*/ 371520 w 1582560"/>
                <a:gd name="textAreaRight" fmla="*/ 1211040 w 1582560"/>
                <a:gd name="textAreaTop" fmla="*/ 287280 h 1224000"/>
                <a:gd name="textAreaBottom" fmla="*/ 9367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2" name="Text Box 18"/>
            <p:cNvSpPr/>
            <p:nvPr/>
          </p:nvSpPr>
          <p:spPr>
            <a:xfrm>
              <a:off x="7221600" y="146160"/>
              <a:ext cx="2030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聪明</a:t>
              </a:r>
              <a:endPara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3" name="Group 19"/>
          <p:cNvGrpSpPr/>
          <p:nvPr/>
        </p:nvGrpSpPr>
        <p:grpSpPr>
          <a:xfrm>
            <a:off x="4356000" y="-28440"/>
            <a:ext cx="1679400" cy="1412640"/>
            <a:chOff x="4356000" y="-28440"/>
            <a:chExt cx="1679400" cy="1412640"/>
          </a:xfrm>
        </p:grpSpPr>
        <p:sp>
          <p:nvSpPr>
            <p:cNvPr id="144" name="AutoShape 20"/>
            <p:cNvSpPr/>
            <p:nvPr/>
          </p:nvSpPr>
          <p:spPr>
            <a:xfrm>
              <a:off x="4356000" y="-28440"/>
              <a:ext cx="1584000" cy="1412640"/>
            </a:xfrm>
            <a:custGeom>
              <a:avLst/>
              <a:gdLst>
                <a:gd name="textAreaLeft" fmla="*/ 371880 w 1584000"/>
                <a:gd name="textAreaRight" fmla="*/ 1212120 w 1584000"/>
                <a:gd name="textAreaTop" fmla="*/ 331560 h 1412640"/>
                <a:gd name="textAreaBottom" fmla="*/ 1081080 h 141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5" name="Text Box 21"/>
            <p:cNvSpPr/>
            <p:nvPr/>
          </p:nvSpPr>
          <p:spPr>
            <a:xfrm>
              <a:off x="4500360" y="231840"/>
              <a:ext cx="1535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休息</a:t>
              </a:r>
              <a:endPara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6" name="Group 22"/>
          <p:cNvGrpSpPr/>
          <p:nvPr/>
        </p:nvGrpSpPr>
        <p:grpSpPr>
          <a:xfrm>
            <a:off x="1763640" y="3430440"/>
            <a:ext cx="2591640" cy="1511280"/>
            <a:chOff x="1763640" y="3430440"/>
            <a:chExt cx="2591640" cy="1511280"/>
          </a:xfrm>
        </p:grpSpPr>
        <p:sp>
          <p:nvSpPr>
            <p:cNvPr id="147" name="AutoShape 23"/>
            <p:cNvSpPr/>
            <p:nvPr/>
          </p:nvSpPr>
          <p:spPr>
            <a:xfrm>
              <a:off x="1763640" y="3430440"/>
              <a:ext cx="2314080" cy="1511280"/>
            </a:xfrm>
            <a:custGeom>
              <a:avLst/>
              <a:gdLst>
                <a:gd name="textAreaLeft" fmla="*/ 543240 w 2314080"/>
                <a:gd name="textAreaRight" fmla="*/ 1770840 w 2314080"/>
                <a:gd name="textAreaTop" fmla="*/ 354960 h 1511280"/>
                <a:gd name="textAreaBottom" fmla="*/ 1156320 h 15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48" name="Text Box 24"/>
            <p:cNvSpPr/>
            <p:nvPr/>
          </p:nvSpPr>
          <p:spPr>
            <a:xfrm>
              <a:off x="1867320" y="3790800"/>
              <a:ext cx="2487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沉甸甸</a:t>
              </a:r>
              <a:endPara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49" name="Group 25"/>
          <p:cNvGrpSpPr/>
          <p:nvPr/>
        </p:nvGrpSpPr>
        <p:grpSpPr>
          <a:xfrm>
            <a:off x="4859280" y="3716280"/>
            <a:ext cx="1973160" cy="1584360"/>
            <a:chOff x="4859280" y="3716280"/>
            <a:chExt cx="1973160" cy="1584360"/>
          </a:xfrm>
        </p:grpSpPr>
        <p:sp>
          <p:nvSpPr>
            <p:cNvPr id="150" name="AutoShape 26"/>
            <p:cNvSpPr/>
            <p:nvPr/>
          </p:nvSpPr>
          <p:spPr>
            <a:xfrm>
              <a:off x="4859280" y="3716280"/>
              <a:ext cx="1657440" cy="1584360"/>
            </a:xfrm>
            <a:custGeom>
              <a:avLst/>
              <a:gdLst>
                <a:gd name="textAreaLeft" fmla="*/ 389160 w 1657440"/>
                <a:gd name="textAreaRight" fmla="*/ 1268280 w 1657440"/>
                <a:gd name="textAreaTop" fmla="*/ 371880 h 1584360"/>
                <a:gd name="textAreaBottom" fmla="*/ 1212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1" name="Text Box 27"/>
            <p:cNvSpPr/>
            <p:nvPr/>
          </p:nvSpPr>
          <p:spPr>
            <a:xfrm>
              <a:off x="4983120" y="4059360"/>
              <a:ext cx="184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旁边</a:t>
              </a:r>
              <a:endPara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152" name="Group 28"/>
          <p:cNvGrpSpPr/>
          <p:nvPr/>
        </p:nvGrpSpPr>
        <p:grpSpPr>
          <a:xfrm>
            <a:off x="7081920" y="2146320"/>
            <a:ext cx="1738080" cy="1440000"/>
            <a:chOff x="7081920" y="2146320"/>
            <a:chExt cx="1738080" cy="1440000"/>
          </a:xfrm>
        </p:grpSpPr>
        <p:sp>
          <p:nvSpPr>
            <p:cNvPr id="153" name="AutoShape 29"/>
            <p:cNvSpPr/>
            <p:nvPr/>
          </p:nvSpPr>
          <p:spPr>
            <a:xfrm>
              <a:off x="7081920" y="2146320"/>
              <a:ext cx="1657440" cy="1440000"/>
            </a:xfrm>
            <a:custGeom>
              <a:avLst/>
              <a:gdLst>
                <a:gd name="textAreaLeft" fmla="*/ 389160 w 1657440"/>
                <a:gd name="textAreaRight" fmla="*/ 1268280 w 1657440"/>
                <a:gd name="textAreaTop" fmla="*/ 338040 h 1440000"/>
                <a:gd name="textAreaBottom" fmla="*/ 11019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6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154" name="Text Box 30"/>
            <p:cNvSpPr/>
            <p:nvPr/>
          </p:nvSpPr>
          <p:spPr>
            <a:xfrm>
              <a:off x="7257960" y="2492280"/>
              <a:ext cx="1562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迎面</a:t>
              </a:r>
              <a:endParaRPr b="1" i="1" lang="en-US" sz="4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pic>
        <p:nvPicPr>
          <p:cNvPr id="155" name="Picture 34" descr="h09"/>
          <p:cNvPicPr/>
          <p:nvPr/>
        </p:nvPicPr>
        <p:blipFill>
          <a:blip r:embed="rId2"/>
          <a:stretch/>
        </p:blipFill>
        <p:spPr>
          <a:xfrm>
            <a:off x="2771640" y="14436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5" descr="h09"/>
          <p:cNvPicPr/>
          <p:nvPr/>
        </p:nvPicPr>
        <p:blipFill>
          <a:blip r:embed="rId3"/>
          <a:stretch/>
        </p:blipFill>
        <p:spPr>
          <a:xfrm>
            <a:off x="-252360" y="-24300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6" descr="h09"/>
          <p:cNvPicPr/>
          <p:nvPr/>
        </p:nvPicPr>
        <p:blipFill>
          <a:blip r:embed="rId4"/>
          <a:stretch/>
        </p:blipFill>
        <p:spPr>
          <a:xfrm>
            <a:off x="2987640" y="2205000"/>
            <a:ext cx="870120" cy="870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7" descr="h09"/>
          <p:cNvPicPr/>
          <p:nvPr/>
        </p:nvPicPr>
        <p:blipFill>
          <a:blip r:embed="rId5"/>
          <a:stretch/>
        </p:blipFill>
        <p:spPr>
          <a:xfrm>
            <a:off x="7740720" y="1270080"/>
            <a:ext cx="1087200" cy="1087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8" descr="h09"/>
          <p:cNvPicPr/>
          <p:nvPr/>
        </p:nvPicPr>
        <p:blipFill>
          <a:blip r:embed="rId6"/>
          <a:stretch/>
        </p:blipFill>
        <p:spPr>
          <a:xfrm>
            <a:off x="1187280" y="371628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h09"/>
          <p:cNvPicPr/>
          <p:nvPr/>
        </p:nvPicPr>
        <p:blipFill>
          <a:blip r:embed="rId7"/>
          <a:stretch/>
        </p:blipFill>
        <p:spPr>
          <a:xfrm>
            <a:off x="4788000" y="2924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0" descr="h09"/>
          <p:cNvPicPr/>
          <p:nvPr/>
        </p:nvPicPr>
        <p:blipFill>
          <a:blip r:embed="rId8"/>
          <a:stretch/>
        </p:blipFill>
        <p:spPr>
          <a:xfrm>
            <a:off x="6084720" y="549360"/>
            <a:ext cx="79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4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200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90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3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026"/>
          <p:cNvSpPr/>
          <p:nvPr/>
        </p:nvSpPr>
        <p:spPr>
          <a:xfrm>
            <a:off x="838080" y="838080"/>
            <a:ext cx="701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i="1" lang="en-US" sz="4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3" name="Text Box 1027"/>
          <p:cNvSpPr/>
          <p:nvPr/>
        </p:nvSpPr>
        <p:spPr>
          <a:xfrm>
            <a:off x="7315200" y="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99"/>
                </a:solidFill>
                <a:latin typeface="Times New Roman"/>
                <a:ea typeface="华文彩云"/>
              </a:rPr>
              <a:t>我会想</a:t>
            </a:r>
            <a:endParaRPr b="1" i="1" lang="en-US" sz="36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4" name="Text Box 1028"/>
          <p:cNvSpPr/>
          <p:nvPr/>
        </p:nvSpPr>
        <p:spPr>
          <a:xfrm>
            <a:off x="457200" y="1484280"/>
            <a:ext cx="7772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6000" spc="-1" strike="noStrike">
                <a:solidFill>
                  <a:srgbClr val="cc00ff"/>
                </a:solidFill>
                <a:latin typeface="Times New Roman"/>
              </a:rPr>
              <a:t>三个妈妈是怎样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夸奖</a:t>
            </a:r>
            <a:r>
              <a:rPr b="1" lang="zh-CN" sz="6000" spc="-1" strike="noStrike">
                <a:solidFill>
                  <a:srgbClr val="cc00ff"/>
                </a:solidFill>
                <a:latin typeface="Times New Roman"/>
              </a:rPr>
              <a:t>自己的儿子？</a:t>
            </a:r>
            <a:endParaRPr b="1" i="1" lang="en-US" sz="6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65" name="Text Box 1029"/>
          <p:cNvSpPr/>
          <p:nvPr/>
        </p:nvSpPr>
        <p:spPr>
          <a:xfrm>
            <a:off x="1692360" y="4221000"/>
            <a:ext cx="633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请用“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﹏﹏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标出来！</a:t>
            </a:r>
            <a:endParaRPr b="1" i="1" lang="en-US" sz="4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66" name="Picture 1030" descr="N_178"/>
          <p:cNvPicPr/>
          <p:nvPr/>
        </p:nvPicPr>
        <p:blipFill>
          <a:blip r:embed="rId2"/>
          <a:stretch/>
        </p:blipFill>
        <p:spPr>
          <a:xfrm>
            <a:off x="1243080" y="620640"/>
            <a:ext cx="9223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0:38:4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2:58:39Z</dcterms:modified>
  <cp:revision>7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