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F0A-721F-4EC9-AC9C-6B7B76D0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7F7-1FEB-4EC8-B159-4FF2A91D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7C8-83FF-48C3-8B20-072E6D38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585-CA82-42F1-B1C6-876445CF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FA17-9642-4B13-B125-617C4D98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FAC5-06A3-4C9C-A0C9-2449620A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0B05-70D9-424B-BFF9-A2B69C11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29CA-EEF0-4E0E-8762-ADAD68C8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4356-492F-48F0-9107-6F4B5782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43E9-CA79-4667-A7B2-DAAF3294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630F-99E4-4238-9EA1-A7BF187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FA4-0D2F-4F0C-A091-B71E701C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B74C-3485-4874-8C10-91787115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7617-03AC-406D-B24A-454C3BF7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FE9C-0542-42E8-A867-B4FB2904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A42C-5CBE-4B43-8449-24784A66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4D9A-E5E2-4D38-B5FA-5104F086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B55-B8B7-4173-B621-530CC039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25E-3696-4131-B65A-A54459F7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C01-2CA7-41C6-8002-D8AC5E68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D31-E676-44A3-BCBF-0A949321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3C4-AABE-483D-AAAD-C0FA2887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CAB-9A9C-4A31-89FA-43AED355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279-C78C-421D-B51C-811CCC65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5D55-B7D1-4931-9260-26779AD77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5479-69EA-4EC7-876A-76E0CEED544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986A-487F-4BA5-83C7-7D9316B526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3106440" y="16002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所见课件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3903480" y="3657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袁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20057262364684"/>
          <p:cNvPicPr/>
          <p:nvPr/>
        </p:nvPicPr>
        <p:blipFill>
          <a:blip r:embed="rId1"/>
          <a:stretch/>
        </p:blipFill>
        <p:spPr>
          <a:xfrm>
            <a:off x="1447920" y="10666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6460560" y="42670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蝉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207120" y="380988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chá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0"/>
          <p:cNvSpPr/>
          <p:nvPr/>
        </p:nvSpPr>
        <p:spPr>
          <a:xfrm>
            <a:off x="1600200" y="2006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1"/>
          <p:cNvPicPr/>
          <p:nvPr/>
        </p:nvPicPr>
        <p:blipFill>
          <a:blip r:embed="rId1"/>
          <a:stretch/>
        </p:blipFill>
        <p:spPr>
          <a:xfrm>
            <a:off x="395280" y="476280"/>
            <a:ext cx="4280040" cy="640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小学语文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4896000" y="1700280"/>
            <a:ext cx="3997080" cy="6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蝉又名“知了”。能发出嘹亮的鸣叫声，特别是到了夏天中午。在蝉的身体两侧有一个大的环型发声器官，身体的腹部是可以内外开合的圆盘，圆盘开合的速度很快，抖动的蝉鸣就是由此发出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454800" y="84312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简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蝉鸣声.mp3" descr=""/>
          <p:cNvPicPr/>
          <p:nvPr/>
        </p:nvPicPr>
        <p:blipFill>
          <a:blip r:embed="rId3"/>
          <a:stretch/>
        </p:blipFill>
        <p:spPr>
          <a:xfrm>
            <a:off x="3419640" y="981000"/>
            <a:ext cx="1008000" cy="100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3" name="Text Box 7"/>
          <p:cNvSpPr/>
          <p:nvPr/>
        </p:nvSpPr>
        <p:spPr>
          <a:xfrm>
            <a:off x="3725640" y="597996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"/>
          <p:cNvSpPr/>
          <p:nvPr/>
        </p:nvSpPr>
        <p:spPr>
          <a:xfrm>
            <a:off x="2702160" y="3246480"/>
            <a:ext cx="3739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6" name="chimes.wav"/>
      </p:stSnd>
    </p:sndAc>
  </p:transition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972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762120" y="1844640"/>
            <a:ext cx="73152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牧童骑在黄牛背上，嘹亮的歌声在树林中回荡。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忽然想到捕捉树上鸣叫的知了，就马上停止歌唱，一声不响地站在了树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233240" y="716040"/>
            <a:ext cx="11408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61f"/>
                </a:solidFill>
                <a:latin typeface="Arial"/>
              </a:rPr>
              <a:t>诗  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505320" y="38088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见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648320" y="1492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袁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590920" y="2209680"/>
            <a:ext cx="5715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童骑黄牛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歌声振林樾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意欲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捕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鸣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忽然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口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419720" y="111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yuá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5257800" y="1111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mé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1D9D-3964-4E47-A4EF-C999572694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4109040" y="692280"/>
            <a:ext cx="16894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选   择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280960" y="2421000"/>
            <a:ext cx="5178960" cy="24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这首诗描写的是（     ）的事情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春天  夏天  秋天  冬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5159520" y="2895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夏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38080" y="3706920"/>
            <a:ext cx="741708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袁枚，字子才，号简斋，钱塘人，清代诗人。他主张诗应该抒写性情，因此，多数作品抒发闲情逸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500280" y="1600200"/>
            <a:ext cx="13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作    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851040" y="3706920"/>
            <a:ext cx="741672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袁枚，字子才，号简斋，钱塘人，清代诗人。他主张诗应该抒写性情，因此，多数作品抒发闲情逸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100"/>
                            </p:stCondLst>
                            <p:childTnLst>
                              <p:par>
                                <p:cTn id="1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429000" y="3808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见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648320" y="1398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袁 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90920" y="2209680"/>
            <a:ext cx="53337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童骑黄牛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歌声振林樾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意欲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捕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鸣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忽然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口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489480" y="-7920"/>
            <a:ext cx="33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su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419720" y="990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yuá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651040" y="200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682720" y="1820880"/>
            <a:ext cx="166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m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794040" y="28875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zhè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089680" y="2887560"/>
            <a:ext cx="21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yu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276720" y="3840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y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886200" y="3840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b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029200" y="3840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chá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902040" y="486900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b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5105520" y="48769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l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257800" y="990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mé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4231800" y="765000"/>
            <a:ext cx="152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会认的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332000" y="2103840"/>
            <a:ext cx="7488000" cy="302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su</a:t>
            </a:r>
            <a:r>
              <a:rPr b="1" lang="en-US" sz="4000" spc="-1" strike="noStrike">
                <a:solidFill>
                  <a:srgbClr val="06561f"/>
                </a:solidFill>
                <a:latin typeface="Arial"/>
              </a:rPr>
              <a:t>ǒ</a:t>
            </a:r>
            <a:r>
              <a:rPr b="1" lang="en-US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   mù    b</a:t>
            </a:r>
            <a:r>
              <a:rPr b="1" lang="en-US" sz="4000" spc="-1" strike="noStrike">
                <a:solidFill>
                  <a:srgbClr val="06561f"/>
                </a:solidFill>
                <a:latin typeface="Arial"/>
              </a:rPr>
              <a:t>ǔ </a:t>
            </a:r>
            <a:r>
              <a:rPr b="1" lang="en-US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  ch</a:t>
            </a:r>
            <a:r>
              <a:rPr b="1" lang="en-US" sz="40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n   bì      lì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所   牧   捕   蝉   闭   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2" descr="jhgk"/>
          <p:cNvPicPr/>
          <p:nvPr/>
        </p:nvPicPr>
        <p:blipFill>
          <a:blip r:embed="rId1"/>
          <a:stretch/>
        </p:blipFill>
        <p:spPr>
          <a:xfrm>
            <a:off x="-533520" y="-533520"/>
            <a:ext cx="9829800" cy="7391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6992280" y="3443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188360" y="184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073320" y="18432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振林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086280" y="3630600"/>
            <a:ext cx="19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捕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捉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316120" y="351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口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959200" y="1386000"/>
            <a:ext cx="17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zhè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4368960" y="1386000"/>
            <a:ext cx="14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yu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015920" y="1461960"/>
            <a:ext cx="15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m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125000" y="351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鸣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178080" y="313848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b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11360" y="3092400"/>
            <a:ext cx="19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chá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5219640" y="3062160"/>
            <a:ext cx="13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b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913000" y="184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正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5740560" y="1461960"/>
            <a:ext cx="14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l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3695760" y="30924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zhu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6730920" y="29862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su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835600" y="14446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83120" y="31845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911920" y="31845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060640" y="32004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捕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006800" y="1508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蝉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136600" y="1584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闭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2554560" y="5105520"/>
            <a:ext cx="3739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981080" y="175248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牧童骑黄牛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歌声振林樾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905120" y="1676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意欲捕鸣蝉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忽然闭口立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200971622345087221"/>
          <p:cNvPicPr/>
          <p:nvPr/>
        </p:nvPicPr>
        <p:blipFill>
          <a:blip r:embed="rId1"/>
          <a:stretch/>
        </p:blipFill>
        <p:spPr>
          <a:xfrm>
            <a:off x="1828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780480" y="42670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蝉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27040" y="380988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chá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4T07:47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34Z</dcterms:modified>
  <cp:revision>10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