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B75-828B-4A5F-B147-78AAFAE0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BEC-27DE-4068-9376-EDABC24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DE4-3976-4F34-AD33-8DF5EBF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57D-C1D8-4D34-98E5-AC179400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2435-BEDA-451E-AC3E-56B2F4CE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217-B0B4-4849-90B9-7AABCF6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DA79-9C3B-4B25-81BB-9D509972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0B0-26B1-4F3F-AD97-E1438CA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D359-E7AF-4055-9BA8-B9380935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C08E-494C-429E-8F69-61D1E325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C79E-7F12-4D82-BACA-AF64666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005-32D4-4055-A0F5-3431B84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385E-B770-467E-9F8A-34F9113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3783-AAF8-4E9B-9D49-58875BE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288-572C-4DB4-857E-79418F9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CA4-1AC2-480E-86EA-B50C0BB6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3C8-D818-4162-90BA-A1007CD0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79D-8947-4895-A80D-7E84495C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8FE-80AE-4882-9464-EFF725B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21E-C202-4703-BF78-062A1945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C91-E96E-4423-AB8F-0D8C5BA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2A0-2546-4C42-9968-B316C6E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7BB-17E6-413B-8409-6517766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15E-AC11-4ACD-A3FD-998A30F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30EA-9C89-45DE-83EE-024FE917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A3A-A7B6-4F55-BD0C-00E0174F6A4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1C6A-8280-4BAD-8C61-6CB8CCE559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8,27,&#24187;&#28783;&#29255; 27" TargetMode="External"/><Relationship Id="rId3" Type="http://schemas.openxmlformats.org/officeDocument/2006/relationships/hyperlink" Target="305,21,&#24187;&#28783;&#29255; 21" TargetMode="External"/><Relationship Id="rId4" Type="http://schemas.openxmlformats.org/officeDocument/2006/relationships/hyperlink" Target="307,23,&#24187;&#28783;&#29255; 23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4,20,&#24187;&#28783;&#29255; 20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304,20,&#24187;&#28783;&#29255; 20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08080" y="1414440"/>
            <a:ext cx="8964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手捧空花盆的孩子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505320" y="685800"/>
            <a:ext cx="222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宣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23623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用这些种子培育出最美的花，谁就是他的继承人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981080" y="45720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6600ff"/>
                </a:solidFill>
                <a:latin typeface="楷体_GB2312"/>
              </a:rPr>
              <a:t>继承人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6600ff"/>
              </a:solidFill>
              <a:latin typeface="楷体_GB2312"/>
              <a:ea typeface="楷体_GB2312"/>
            </a:endParaRPr>
          </a:p>
        </p:txBody>
      </p:sp>
    </p:spTree>
  </p:cSld>
  <p:transition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2008110215845125_1"/>
          <p:cNvPicPr/>
          <p:nvPr/>
        </p:nvPicPr>
        <p:blipFill>
          <a:blip r:embed="rId1"/>
          <a:stretch/>
        </p:blipFill>
        <p:spPr>
          <a:xfrm>
            <a:off x="0" y="0"/>
            <a:ext cx="9144000" cy="7750080"/>
          </a:xfrm>
          <a:prstGeom prst="rect">
            <a:avLst/>
          </a:prstGeom>
          <a:ln w="0">
            <a:noFill/>
          </a:ln>
        </p:spPr>
      </p:pic>
      <p:pic>
        <p:nvPicPr>
          <p:cNvPr id="148" name="200642163733655.mp3" descr=""/>
          <p:cNvPicPr/>
          <p:nvPr/>
        </p:nvPicPr>
        <p:blipFill>
          <a:blip r:embed="rId2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0248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1628640"/>
            <a:ext cx="95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用这些种子培育出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最美的花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谁就是他的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继承人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29-01"/>
          <p:cNvPicPr/>
          <p:nvPr/>
        </p:nvPicPr>
        <p:blipFill>
          <a:blip r:embed="rId2"/>
          <a:stretch/>
        </p:blipFill>
        <p:spPr>
          <a:xfrm>
            <a:off x="0" y="-316080"/>
            <a:ext cx="2556000" cy="20448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"/>
          <p:cNvSpPr/>
          <p:nvPr/>
        </p:nvSpPr>
        <p:spPr>
          <a:xfrm>
            <a:off x="2696400" y="623736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727440" y="6922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1197000"/>
            <a:ext cx="734364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832760" y="4797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个月过去了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992160"/>
            <a:ext cx="99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王规定的日子到了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)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捧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          ）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花盆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）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街头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38160" y="3300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盛开着鲜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7812000" y="3213000"/>
            <a:ext cx="102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55640" y="2205000"/>
            <a:ext cx="26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许许多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-3088800" y="404640"/>
            <a:ext cx="1459152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着国王的马车渐渐地驶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手捧鲜花的孩子，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有的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0920" y="2997360"/>
            <a:ext cx="2665440" cy="360"/>
            <a:chOff x="250920" y="2997360"/>
            <a:chExt cx="2665440" cy="360"/>
          </a:xfrm>
        </p:grpSpPr>
        <p:sp>
          <p:nvSpPr>
            <p:cNvPr id="163" name="Line 3"/>
            <p:cNvSpPr/>
            <p:nvPr/>
          </p:nvSpPr>
          <p:spPr>
            <a:xfrm>
              <a:off x="250920" y="299736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50920" y="2997360"/>
              <a:ext cx="26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364000" y="2924280"/>
            <a:ext cx="2448000" cy="360"/>
            <a:chOff x="5364000" y="2924280"/>
            <a:chExt cx="2448000" cy="360"/>
          </a:xfrm>
        </p:grpSpPr>
        <p:sp>
          <p:nvSpPr>
            <p:cNvPr id="166" name="Line 4"/>
            <p:cNvSpPr/>
            <p:nvPr/>
          </p:nvSpPr>
          <p:spPr>
            <a:xfrm>
              <a:off x="5364000" y="29242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364000" y="29242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24000" y="3860640"/>
            <a:ext cx="2808360" cy="360"/>
            <a:chOff x="2124000" y="3860640"/>
            <a:chExt cx="2808360" cy="360"/>
          </a:xfrm>
        </p:grpSpPr>
        <p:sp>
          <p:nvSpPr>
            <p:cNvPr id="169" name="Line 5"/>
            <p:cNvSpPr/>
            <p:nvPr/>
          </p:nvSpPr>
          <p:spPr>
            <a:xfrm>
              <a:off x="2124000" y="386064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124000" y="386064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气球放飞音乐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9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16826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8"/>
          <p:cNvGrpSpPr/>
          <p:nvPr/>
        </p:nvGrpSpPr>
        <p:grpSpPr>
          <a:xfrm>
            <a:off x="0" y="4076640"/>
            <a:ext cx="9118440" cy="2404440"/>
            <a:chOff x="0" y="4076640"/>
            <a:chExt cx="9118440" cy="2404440"/>
          </a:xfrm>
        </p:grpSpPr>
        <p:sp>
          <p:nvSpPr>
            <p:cNvPr id="174" name="Text Box 9"/>
            <p:cNvSpPr/>
            <p:nvPr/>
          </p:nvSpPr>
          <p:spPr>
            <a:xfrm>
              <a:off x="0" y="4221000"/>
              <a:ext cx="9118440" cy="22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国王从孩子们的面前走过，看着一盆盆鲜花，脸上没有</a:t>
              </a:r>
              <a:r>
                <a:rPr b="1" lang="zh-CN" sz="5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一丝高兴的表情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0" descr="8"/>
            <p:cNvPicPr/>
            <p:nvPr/>
          </p:nvPicPr>
          <p:blipFill>
            <a:blip r:embed="rId4"/>
            <a:stretch/>
          </p:blipFill>
          <p:spPr>
            <a:xfrm>
              <a:off x="0" y="4076640"/>
              <a:ext cx="144000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9646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十分用心地培育花种。十天过去了，一个月过去了，花盆里的种子却不见发芽。雄日又给种子施了些肥，浇了点水。他天天看啊，看啊，种子就是不发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386040" y="63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538760" y="63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8459640" y="6308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6200" y="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猜一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956160" y="1413000"/>
            <a:ext cx="4695480" cy="1191240"/>
            <a:chOff x="956160" y="1413000"/>
            <a:chExt cx="4695480" cy="1191240"/>
          </a:xfrm>
        </p:grpSpPr>
        <p:sp>
          <p:nvSpPr>
            <p:cNvPr id="87" name="Rectangle 7"/>
            <p:cNvSpPr/>
            <p:nvPr/>
          </p:nvSpPr>
          <p:spPr>
            <a:xfrm>
              <a:off x="956160" y="141300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夫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见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356360" y="1987560"/>
              <a:ext cx="1295280" cy="360"/>
              <a:chOff x="4356360" y="1987560"/>
              <a:chExt cx="1295280" cy="360"/>
            </a:xfrm>
          </p:grpSpPr>
          <p:sp>
            <p:nvSpPr>
              <p:cNvPr id="89" name="Line 8"/>
              <p:cNvSpPr/>
              <p:nvPr/>
            </p:nvSpPr>
            <p:spPr>
              <a:xfrm>
                <a:off x="4356360" y="19875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4356360" y="19875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Group 12"/>
          <p:cNvGrpSpPr/>
          <p:nvPr/>
        </p:nvGrpSpPr>
        <p:grpSpPr>
          <a:xfrm>
            <a:off x="956160" y="2349360"/>
            <a:ext cx="4766760" cy="1191240"/>
            <a:chOff x="956160" y="2349360"/>
            <a:chExt cx="4766760" cy="1191240"/>
          </a:xfrm>
        </p:grpSpPr>
        <p:sp>
          <p:nvSpPr>
            <p:cNvPr id="92" name="Rectangle 9"/>
            <p:cNvSpPr/>
            <p:nvPr/>
          </p:nvSpPr>
          <p:spPr>
            <a:xfrm>
              <a:off x="956160" y="234936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八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刀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427640" y="2998440"/>
              <a:ext cx="1295280" cy="360"/>
              <a:chOff x="4427640" y="2998440"/>
              <a:chExt cx="1295280" cy="360"/>
            </a:xfrm>
          </p:grpSpPr>
          <p:sp>
            <p:nvSpPr>
              <p:cNvPr id="94" name="Line 10"/>
              <p:cNvSpPr/>
              <p:nvPr/>
            </p:nvSpPr>
            <p:spPr>
              <a:xfrm>
                <a:off x="4427640" y="29984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4427640" y="29984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Group 13"/>
          <p:cNvGrpSpPr/>
          <p:nvPr/>
        </p:nvGrpSpPr>
        <p:grpSpPr>
          <a:xfrm>
            <a:off x="1029240" y="3500280"/>
            <a:ext cx="4766760" cy="1191240"/>
            <a:chOff x="1029240" y="3500280"/>
            <a:chExt cx="4766760" cy="1191240"/>
          </a:xfrm>
        </p:grpSpPr>
        <p:sp>
          <p:nvSpPr>
            <p:cNvPr id="97" name="Rectangle 14"/>
            <p:cNvSpPr/>
            <p:nvPr/>
          </p:nvSpPr>
          <p:spPr>
            <a:xfrm>
              <a:off x="1029240" y="350028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西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女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00720" y="4149360"/>
              <a:ext cx="1295280" cy="360"/>
              <a:chOff x="4500720" y="4149360"/>
              <a:chExt cx="1295280" cy="360"/>
            </a:xfrm>
          </p:grpSpPr>
          <p:sp>
            <p:nvSpPr>
              <p:cNvPr id="99" name="Line 15"/>
              <p:cNvSpPr/>
              <p:nvPr/>
            </p:nvSpPr>
            <p:spPr>
              <a:xfrm>
                <a:off x="4500720" y="41493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4500720" y="41493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Group 16"/>
          <p:cNvGrpSpPr/>
          <p:nvPr/>
        </p:nvGrpSpPr>
        <p:grpSpPr>
          <a:xfrm>
            <a:off x="1100520" y="4797360"/>
            <a:ext cx="4766760" cy="1191240"/>
            <a:chOff x="1100520" y="4797360"/>
            <a:chExt cx="4766760" cy="1191240"/>
          </a:xfrm>
        </p:grpSpPr>
        <p:sp>
          <p:nvSpPr>
            <p:cNvPr id="102" name="Rectangle 17"/>
            <p:cNvSpPr/>
            <p:nvPr/>
          </p:nvSpPr>
          <p:spPr>
            <a:xfrm>
              <a:off x="1100520" y="4797360"/>
              <a:ext cx="277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、子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572000" y="5446440"/>
              <a:ext cx="1295280" cy="360"/>
              <a:chOff x="4572000" y="5446440"/>
              <a:chExt cx="1295280" cy="360"/>
            </a:xfrm>
          </p:grpSpPr>
          <p:sp>
            <p:nvSpPr>
              <p:cNvPr id="104" name="Line 18"/>
              <p:cNvSpPr/>
              <p:nvPr/>
            </p:nvSpPr>
            <p:spPr>
              <a:xfrm>
                <a:off x="4572000" y="54464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4572000" y="54464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Rectangle 19"/>
          <p:cNvSpPr/>
          <p:nvPr/>
        </p:nvSpPr>
        <p:spPr>
          <a:xfrm>
            <a:off x="6012000" y="1268280"/>
            <a:ext cx="10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6270840" y="249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6342480" y="36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6342480" y="4797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3751560"/>
            <a:chOff x="0" y="0"/>
            <a:chExt cx="9144000" cy="3751560"/>
          </a:xfrm>
        </p:grpSpPr>
        <p:sp>
          <p:nvSpPr>
            <p:cNvPr id="183" name="Text Box 3"/>
            <p:cNvSpPr/>
            <p:nvPr/>
          </p:nvSpPr>
          <p:spPr>
            <a:xfrm>
              <a:off x="380880" y="2743200"/>
              <a:ext cx="876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雄日十分用心地培育花种。十天过去了，一个月过去了，花盆里的种子却不见发芽。雄日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给种子施了些肥，浇了点水。他天天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看啊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看啊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种子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就是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发芽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4" descr="《29 手捧空花盆的孩子》课文插图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WordArt 5"/>
          <p:cNvSpPr txBox="1"/>
          <p:nvPr/>
        </p:nvSpPr>
        <p:spPr>
          <a:xfrm>
            <a:off x="2666880" y="3124080"/>
            <a:ext cx="1943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ffff"/>
                </a:solidFill>
                <a:latin typeface="楷体_GB2312"/>
              </a:rPr>
              <a:t>十分用心</a:t>
            </a:r>
            <a:endParaRPr b="1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00ffff"/>
              </a:solidFill>
              <a:latin typeface="楷体_GB2312"/>
              <a:ea typeface="楷体_GB2312"/>
            </a:endParaRPr>
          </a:p>
        </p:txBody>
      </p:sp>
    </p:spTree>
  </p:cSld>
  <p:transition>
    <p:checke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4"/>
          <p:cNvPicPr/>
          <p:nvPr/>
        </p:nvPicPr>
        <p:blipFill>
          <a:blip r:embed="rId1"/>
          <a:stretch/>
        </p:blipFill>
        <p:spPr>
          <a:xfrm>
            <a:off x="4800600" y="2514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>
            <a:off x="0" y="836640"/>
            <a:ext cx="5029200" cy="4056120"/>
          </a:xfrm>
          <a:prstGeom prst="wedgeEllipseCallout">
            <a:avLst>
              <a:gd name="adj1" fmla="val -35986"/>
              <a:gd name="adj2" fmla="val 5231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国王见到他所想见的最美的花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924920" y="1066680"/>
            <a:ext cx="532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没有什么比说谎更让人羞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也没有什么比诚实更让人愉快。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实是一种勇敢的行为，我们要勇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中宋"/>
              </a:rPr>
              <a:t>面对自己的错误，敢于批评自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分用心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263080" y="63025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2264400" y="58770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-36360" y="44280"/>
            <a:ext cx="9324720" cy="6866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4625280" y="2511360"/>
            <a:ext cx="6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天天看啊，看啊，种子就是不发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863720" y="24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看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看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802800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8028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80880" y="274320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个叫雄日的孩子，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分用心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364960" y="63086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DB19-6158-42D9-A625-3BF1C5F845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《29 手捧空花盆的孩子》课文插图1"/>
          <p:cNvPicPr/>
          <p:nvPr/>
        </p:nvPicPr>
        <p:blipFill>
          <a:blip r:embed="rId1"/>
          <a:stretch/>
        </p:blipFill>
        <p:spPr>
          <a:xfrm>
            <a:off x="0" y="0"/>
            <a:ext cx="9325080" cy="6865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4920" y="27432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雄日又给种子施了些肥，浇了点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95320" y="270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8028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8532720" y="6597720"/>
            <a:ext cx="432000" cy="260280"/>
          </a:xfrm>
          <a:custGeom>
            <a:avLst/>
            <a:gdLst>
              <a:gd name="textAreaLeft" fmla="*/ 16560 w 432000"/>
              <a:gd name="textAreaRight" fmla="*/ 415440 w 43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5831" h="21600">
                <a:moveTo>
                  <a:pt x="0" y="0"/>
                </a:moveTo>
                <a:lnTo>
                  <a:pt x="35831" y="0"/>
                </a:lnTo>
                <a:lnTo>
                  <a:pt x="35831" y="21600"/>
                </a:lnTo>
                <a:lnTo>
                  <a:pt x="0" y="21600"/>
                </a:lnTo>
                <a:close/>
              </a:path>
              <a:path fill="lightenLess" w="35831" h="21600">
                <a:moveTo>
                  <a:pt x="0" y="0"/>
                </a:moveTo>
                <a:lnTo>
                  <a:pt x="35831" y="0"/>
                </a:lnTo>
                <a:lnTo>
                  <a:pt x="34431" y="1400"/>
                </a:lnTo>
                <a:lnTo>
                  <a:pt x="1400" y="1400"/>
                </a:lnTo>
                <a:close/>
              </a:path>
              <a:path fill="darken" w="35831" h="21600">
                <a:moveTo>
                  <a:pt x="35831" y="0"/>
                </a:moveTo>
                <a:lnTo>
                  <a:pt x="35831" y="21600"/>
                </a:lnTo>
                <a:lnTo>
                  <a:pt x="34431" y="20200"/>
                </a:lnTo>
                <a:lnTo>
                  <a:pt x="34431" y="1400"/>
                </a:lnTo>
                <a:close/>
              </a:path>
              <a:path fill="darkenLess" w="35831" h="21600">
                <a:moveTo>
                  <a:pt x="3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1" y="20200"/>
                </a:lnTo>
                <a:close/>
              </a:path>
              <a:path fill="lighten" w="3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1" h="21600">
                <a:moveTo>
                  <a:pt x="14417" y="10800"/>
                </a:moveTo>
                <a:lnTo>
                  <a:pt x="24922" y="3794"/>
                </a:lnTo>
                <a:lnTo>
                  <a:pt x="24922" y="17806"/>
                </a:lnTo>
                <a:close/>
              </a:path>
              <a:path fill="darken" w="35831" h="21600">
                <a:moveTo>
                  <a:pt x="10909" y="3794"/>
                </a:moveTo>
                <a:lnTo>
                  <a:pt x="12571" y="3794"/>
                </a:lnTo>
                <a:lnTo>
                  <a:pt x="12571" y="17806"/>
                </a:lnTo>
                <a:lnTo>
                  <a:pt x="1090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1"/>
          <p:cNvSpPr/>
          <p:nvPr/>
        </p:nvSpPr>
        <p:spPr>
          <a:xfrm>
            <a:off x="2627280" y="29718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2340000" y="1268280"/>
            <a:ext cx="4535640" cy="4405320"/>
            <a:chOff x="2340000" y="1268280"/>
            <a:chExt cx="4535640" cy="4405320"/>
          </a:xfrm>
        </p:grpSpPr>
        <p:sp>
          <p:nvSpPr>
            <p:cNvPr id="112" name="Rectangle 3"/>
            <p:cNvSpPr/>
            <p:nvPr/>
          </p:nvSpPr>
          <p:spPr>
            <a:xfrm>
              <a:off x="2340000" y="1268280"/>
              <a:ext cx="4535640" cy="44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2340000" y="1268280"/>
              <a:ext cx="4535640" cy="4405320"/>
            </a:xfrm>
            <a:prstGeom prst="rect">
              <a:avLst/>
            </a:prstGeom>
            <a:noFill/>
            <a:ln cap="rnd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Freeform 5"/>
          <p:cNvSpPr/>
          <p:nvPr/>
        </p:nvSpPr>
        <p:spPr>
          <a:xfrm>
            <a:off x="2344680" y="3433680"/>
            <a:ext cx="4438800" cy="11160"/>
          </a:xfrm>
          <a:custGeom>
            <a:avLst/>
            <a:gdLst/>
            <a:ahLst/>
            <a:rect l="l" t="t" r="r" b="b"/>
            <a:pathLst>
              <a:path w="11650" h="29">
                <a:moveTo>
                  <a:pt x="13" y="4"/>
                </a:moveTo>
                <a:lnTo>
                  <a:pt x="88" y="4"/>
                </a:lnTo>
                <a:cubicBezTo>
                  <a:pt x="95" y="4"/>
                  <a:pt x="100" y="9"/>
                  <a:pt x="100" y="16"/>
                </a:cubicBezTo>
                <a:cubicBezTo>
                  <a:pt x="100" y="23"/>
                  <a:pt x="95" y="29"/>
                  <a:pt x="88" y="29"/>
                </a:cubicBezTo>
                <a:lnTo>
                  <a:pt x="13" y="29"/>
                </a:lnTo>
                <a:cubicBezTo>
                  <a:pt x="6" y="29"/>
                  <a:pt x="0" y="23"/>
                  <a:pt x="0" y="16"/>
                </a:cubicBezTo>
                <a:cubicBezTo>
                  <a:pt x="0" y="9"/>
                  <a:pt x="6" y="4"/>
                  <a:pt x="13" y="4"/>
                </a:cubicBezTo>
                <a:close/>
                <a:moveTo>
                  <a:pt x="188" y="4"/>
                </a:moveTo>
                <a:lnTo>
                  <a:pt x="263" y="4"/>
                </a:lnTo>
                <a:cubicBezTo>
                  <a:pt x="270" y="4"/>
                  <a:pt x="275" y="9"/>
                  <a:pt x="275" y="16"/>
                </a:cubicBezTo>
                <a:cubicBezTo>
                  <a:pt x="275" y="23"/>
                  <a:pt x="270" y="29"/>
                  <a:pt x="263" y="29"/>
                </a:cubicBezTo>
                <a:lnTo>
                  <a:pt x="188" y="29"/>
                </a:lnTo>
                <a:cubicBezTo>
                  <a:pt x="181" y="29"/>
                  <a:pt x="175" y="23"/>
                  <a:pt x="175" y="16"/>
                </a:cubicBezTo>
                <a:cubicBezTo>
                  <a:pt x="175" y="9"/>
                  <a:pt x="181" y="4"/>
                  <a:pt x="188" y="4"/>
                </a:cubicBezTo>
                <a:close/>
                <a:moveTo>
                  <a:pt x="363" y="4"/>
                </a:moveTo>
                <a:lnTo>
                  <a:pt x="438" y="4"/>
                </a:lnTo>
                <a:cubicBezTo>
                  <a:pt x="445" y="4"/>
                  <a:pt x="450" y="9"/>
                  <a:pt x="450" y="16"/>
                </a:cubicBezTo>
                <a:cubicBezTo>
                  <a:pt x="450" y="23"/>
                  <a:pt x="445" y="29"/>
                  <a:pt x="438" y="29"/>
                </a:cubicBezTo>
                <a:lnTo>
                  <a:pt x="363" y="29"/>
                </a:lnTo>
                <a:cubicBezTo>
                  <a:pt x="356" y="29"/>
                  <a:pt x="350" y="23"/>
                  <a:pt x="350" y="16"/>
                </a:cubicBezTo>
                <a:cubicBezTo>
                  <a:pt x="350" y="9"/>
                  <a:pt x="356" y="4"/>
                  <a:pt x="363" y="4"/>
                </a:cubicBezTo>
                <a:close/>
                <a:moveTo>
                  <a:pt x="538" y="4"/>
                </a:moveTo>
                <a:lnTo>
                  <a:pt x="613" y="4"/>
                </a:lnTo>
                <a:cubicBezTo>
                  <a:pt x="620" y="4"/>
                  <a:pt x="625" y="9"/>
                  <a:pt x="625" y="16"/>
                </a:cubicBezTo>
                <a:cubicBezTo>
                  <a:pt x="625" y="23"/>
                  <a:pt x="620" y="29"/>
                  <a:pt x="613" y="29"/>
                </a:cubicBezTo>
                <a:lnTo>
                  <a:pt x="538" y="29"/>
                </a:lnTo>
                <a:cubicBezTo>
                  <a:pt x="531" y="29"/>
                  <a:pt x="525" y="23"/>
                  <a:pt x="525" y="16"/>
                </a:cubicBezTo>
                <a:cubicBezTo>
                  <a:pt x="525" y="9"/>
                  <a:pt x="531" y="4"/>
                  <a:pt x="538" y="4"/>
                </a:cubicBezTo>
                <a:close/>
                <a:moveTo>
                  <a:pt x="713" y="4"/>
                </a:moveTo>
                <a:lnTo>
                  <a:pt x="788" y="4"/>
                </a:lnTo>
                <a:cubicBezTo>
                  <a:pt x="795" y="4"/>
                  <a:pt x="800" y="9"/>
                  <a:pt x="800" y="16"/>
                </a:cubicBezTo>
                <a:cubicBezTo>
                  <a:pt x="800" y="23"/>
                  <a:pt x="795" y="29"/>
                  <a:pt x="788" y="29"/>
                </a:cubicBezTo>
                <a:lnTo>
                  <a:pt x="713" y="29"/>
                </a:lnTo>
                <a:cubicBezTo>
                  <a:pt x="706" y="29"/>
                  <a:pt x="700" y="23"/>
                  <a:pt x="700" y="16"/>
                </a:cubicBezTo>
                <a:cubicBezTo>
                  <a:pt x="700" y="9"/>
                  <a:pt x="706" y="4"/>
                  <a:pt x="713" y="4"/>
                </a:cubicBezTo>
                <a:close/>
                <a:moveTo>
                  <a:pt x="888" y="3"/>
                </a:moveTo>
                <a:lnTo>
                  <a:pt x="963" y="3"/>
                </a:lnTo>
                <a:cubicBezTo>
                  <a:pt x="970" y="3"/>
                  <a:pt x="975" y="9"/>
                  <a:pt x="975" y="16"/>
                </a:cubicBezTo>
                <a:cubicBezTo>
                  <a:pt x="975" y="23"/>
                  <a:pt x="970" y="28"/>
                  <a:pt x="963" y="28"/>
                </a:cubicBezTo>
                <a:lnTo>
                  <a:pt x="888" y="28"/>
                </a:lnTo>
                <a:cubicBezTo>
                  <a:pt x="881" y="28"/>
                  <a:pt x="875" y="23"/>
                  <a:pt x="875" y="16"/>
                </a:cubicBezTo>
                <a:cubicBezTo>
                  <a:pt x="875" y="9"/>
                  <a:pt x="881" y="3"/>
                  <a:pt x="888" y="3"/>
                </a:cubicBezTo>
                <a:close/>
                <a:moveTo>
                  <a:pt x="1063" y="3"/>
                </a:moveTo>
                <a:lnTo>
                  <a:pt x="1138" y="3"/>
                </a:lnTo>
                <a:cubicBezTo>
                  <a:pt x="1145" y="3"/>
                  <a:pt x="1150" y="9"/>
                  <a:pt x="1150" y="16"/>
                </a:cubicBezTo>
                <a:cubicBezTo>
                  <a:pt x="1150" y="23"/>
                  <a:pt x="1145" y="28"/>
                  <a:pt x="1138" y="28"/>
                </a:cubicBezTo>
                <a:lnTo>
                  <a:pt x="1063" y="28"/>
                </a:lnTo>
                <a:cubicBezTo>
                  <a:pt x="1056" y="28"/>
                  <a:pt x="1050" y="23"/>
                  <a:pt x="1050" y="16"/>
                </a:cubicBezTo>
                <a:cubicBezTo>
                  <a:pt x="1050" y="9"/>
                  <a:pt x="1056" y="3"/>
                  <a:pt x="1063" y="3"/>
                </a:cubicBezTo>
                <a:close/>
                <a:moveTo>
                  <a:pt x="1238" y="3"/>
                </a:moveTo>
                <a:lnTo>
                  <a:pt x="1313" y="3"/>
                </a:lnTo>
                <a:cubicBezTo>
                  <a:pt x="1320" y="3"/>
                  <a:pt x="1325" y="9"/>
                  <a:pt x="1325" y="16"/>
                </a:cubicBezTo>
                <a:cubicBezTo>
                  <a:pt x="1325" y="23"/>
                  <a:pt x="1320" y="28"/>
                  <a:pt x="1313" y="28"/>
                </a:cubicBezTo>
                <a:lnTo>
                  <a:pt x="1238" y="28"/>
                </a:lnTo>
                <a:cubicBezTo>
                  <a:pt x="1231" y="28"/>
                  <a:pt x="1225" y="23"/>
                  <a:pt x="1225" y="16"/>
                </a:cubicBezTo>
                <a:cubicBezTo>
                  <a:pt x="1225" y="9"/>
                  <a:pt x="1231" y="3"/>
                  <a:pt x="1238" y="3"/>
                </a:cubicBezTo>
                <a:close/>
                <a:moveTo>
                  <a:pt x="1413" y="3"/>
                </a:moveTo>
                <a:lnTo>
                  <a:pt x="1488" y="3"/>
                </a:lnTo>
                <a:cubicBezTo>
                  <a:pt x="1495" y="3"/>
                  <a:pt x="1500" y="9"/>
                  <a:pt x="1500" y="16"/>
                </a:cubicBezTo>
                <a:cubicBezTo>
                  <a:pt x="1500" y="23"/>
                  <a:pt x="1495" y="28"/>
                  <a:pt x="1488" y="28"/>
                </a:cubicBezTo>
                <a:lnTo>
                  <a:pt x="1413" y="28"/>
                </a:lnTo>
                <a:cubicBezTo>
                  <a:pt x="1406" y="28"/>
                  <a:pt x="1400" y="23"/>
                  <a:pt x="1400" y="16"/>
                </a:cubicBezTo>
                <a:cubicBezTo>
                  <a:pt x="1400" y="9"/>
                  <a:pt x="1406" y="3"/>
                  <a:pt x="1413" y="3"/>
                </a:cubicBezTo>
                <a:close/>
                <a:moveTo>
                  <a:pt x="1588" y="3"/>
                </a:moveTo>
                <a:lnTo>
                  <a:pt x="1663" y="3"/>
                </a:lnTo>
                <a:cubicBezTo>
                  <a:pt x="1670" y="3"/>
                  <a:pt x="1675" y="9"/>
                  <a:pt x="1675" y="16"/>
                </a:cubicBezTo>
                <a:cubicBezTo>
                  <a:pt x="1675" y="23"/>
                  <a:pt x="1670" y="28"/>
                  <a:pt x="1663" y="28"/>
                </a:cubicBezTo>
                <a:lnTo>
                  <a:pt x="1588" y="28"/>
                </a:lnTo>
                <a:cubicBezTo>
                  <a:pt x="1581" y="28"/>
                  <a:pt x="1575" y="23"/>
                  <a:pt x="1575" y="16"/>
                </a:cubicBezTo>
                <a:cubicBezTo>
                  <a:pt x="1575" y="9"/>
                  <a:pt x="1581" y="3"/>
                  <a:pt x="1588" y="3"/>
                </a:cubicBezTo>
                <a:close/>
                <a:moveTo>
                  <a:pt x="1763" y="3"/>
                </a:moveTo>
                <a:lnTo>
                  <a:pt x="1838" y="3"/>
                </a:lnTo>
                <a:cubicBezTo>
                  <a:pt x="1845" y="3"/>
                  <a:pt x="1850" y="9"/>
                  <a:pt x="1850" y="16"/>
                </a:cubicBezTo>
                <a:cubicBezTo>
                  <a:pt x="1850" y="23"/>
                  <a:pt x="1845" y="28"/>
                  <a:pt x="1838" y="28"/>
                </a:cubicBezTo>
                <a:lnTo>
                  <a:pt x="1763" y="28"/>
                </a:lnTo>
                <a:cubicBezTo>
                  <a:pt x="1756" y="28"/>
                  <a:pt x="1750" y="23"/>
                  <a:pt x="1750" y="16"/>
                </a:cubicBezTo>
                <a:cubicBezTo>
                  <a:pt x="1750" y="9"/>
                  <a:pt x="1756" y="3"/>
                  <a:pt x="1763" y="3"/>
                </a:cubicBezTo>
                <a:close/>
                <a:moveTo>
                  <a:pt x="1938" y="3"/>
                </a:moveTo>
                <a:lnTo>
                  <a:pt x="2013" y="3"/>
                </a:lnTo>
                <a:cubicBezTo>
                  <a:pt x="2020" y="3"/>
                  <a:pt x="2025" y="9"/>
                  <a:pt x="2025" y="16"/>
                </a:cubicBezTo>
                <a:cubicBezTo>
                  <a:pt x="2025" y="22"/>
                  <a:pt x="2020" y="28"/>
                  <a:pt x="2013" y="28"/>
                </a:cubicBezTo>
                <a:lnTo>
                  <a:pt x="1938" y="28"/>
                </a:lnTo>
                <a:cubicBezTo>
                  <a:pt x="1931" y="28"/>
                  <a:pt x="1925" y="23"/>
                  <a:pt x="1925" y="16"/>
                </a:cubicBezTo>
                <a:cubicBezTo>
                  <a:pt x="1925" y="9"/>
                  <a:pt x="1931" y="3"/>
                  <a:pt x="1938" y="3"/>
                </a:cubicBezTo>
                <a:close/>
                <a:moveTo>
                  <a:pt x="2113" y="3"/>
                </a:moveTo>
                <a:lnTo>
                  <a:pt x="2188" y="3"/>
                </a:lnTo>
                <a:cubicBezTo>
                  <a:pt x="2195" y="3"/>
                  <a:pt x="2200" y="9"/>
                  <a:pt x="2200" y="16"/>
                </a:cubicBezTo>
                <a:cubicBezTo>
                  <a:pt x="2200" y="22"/>
                  <a:pt x="2195" y="28"/>
                  <a:pt x="2188" y="28"/>
                </a:cubicBezTo>
                <a:lnTo>
                  <a:pt x="2113" y="28"/>
                </a:lnTo>
                <a:cubicBezTo>
                  <a:pt x="2106" y="28"/>
                  <a:pt x="2100" y="22"/>
                  <a:pt x="2100" y="16"/>
                </a:cubicBezTo>
                <a:cubicBezTo>
                  <a:pt x="2100" y="9"/>
                  <a:pt x="2106" y="3"/>
                  <a:pt x="2113" y="3"/>
                </a:cubicBezTo>
                <a:close/>
                <a:moveTo>
                  <a:pt x="2288" y="3"/>
                </a:moveTo>
                <a:lnTo>
                  <a:pt x="2363" y="3"/>
                </a:lnTo>
                <a:cubicBezTo>
                  <a:pt x="2370" y="3"/>
                  <a:pt x="2375" y="9"/>
                  <a:pt x="2375" y="15"/>
                </a:cubicBezTo>
                <a:cubicBezTo>
                  <a:pt x="2375" y="22"/>
                  <a:pt x="2370" y="28"/>
                  <a:pt x="2363" y="28"/>
                </a:cubicBezTo>
                <a:lnTo>
                  <a:pt x="2288" y="28"/>
                </a:lnTo>
                <a:cubicBezTo>
                  <a:pt x="2281" y="28"/>
                  <a:pt x="2275" y="22"/>
                  <a:pt x="2275" y="15"/>
                </a:cubicBezTo>
                <a:cubicBezTo>
                  <a:pt x="2275" y="9"/>
                  <a:pt x="2281" y="3"/>
                  <a:pt x="2288" y="3"/>
                </a:cubicBezTo>
                <a:close/>
                <a:moveTo>
                  <a:pt x="2463" y="3"/>
                </a:moveTo>
                <a:lnTo>
                  <a:pt x="2538" y="3"/>
                </a:lnTo>
                <a:cubicBezTo>
                  <a:pt x="2545" y="3"/>
                  <a:pt x="2550" y="8"/>
                  <a:pt x="2550" y="15"/>
                </a:cubicBezTo>
                <a:cubicBezTo>
                  <a:pt x="2550" y="22"/>
                  <a:pt x="2545" y="28"/>
                  <a:pt x="2538" y="28"/>
                </a:cubicBezTo>
                <a:lnTo>
                  <a:pt x="2463" y="28"/>
                </a:lnTo>
                <a:cubicBezTo>
                  <a:pt x="2456" y="28"/>
                  <a:pt x="2450" y="22"/>
                  <a:pt x="2450" y="15"/>
                </a:cubicBezTo>
                <a:cubicBezTo>
                  <a:pt x="2450" y="9"/>
                  <a:pt x="2456" y="3"/>
                  <a:pt x="2463" y="3"/>
                </a:cubicBezTo>
                <a:close/>
                <a:moveTo>
                  <a:pt x="2638" y="3"/>
                </a:moveTo>
                <a:lnTo>
                  <a:pt x="2713" y="3"/>
                </a:lnTo>
                <a:cubicBezTo>
                  <a:pt x="2720" y="3"/>
                  <a:pt x="2725" y="8"/>
                  <a:pt x="2725" y="15"/>
                </a:cubicBezTo>
                <a:cubicBezTo>
                  <a:pt x="2725" y="22"/>
                  <a:pt x="2720" y="28"/>
                  <a:pt x="2713" y="28"/>
                </a:cubicBezTo>
                <a:lnTo>
                  <a:pt x="2638" y="28"/>
                </a:lnTo>
                <a:cubicBezTo>
                  <a:pt x="2631" y="28"/>
                  <a:pt x="2625" y="22"/>
                  <a:pt x="2625" y="15"/>
                </a:cubicBezTo>
                <a:cubicBezTo>
                  <a:pt x="2625" y="8"/>
                  <a:pt x="2631" y="3"/>
                  <a:pt x="2638" y="3"/>
                </a:cubicBezTo>
                <a:close/>
                <a:moveTo>
                  <a:pt x="2813" y="3"/>
                </a:moveTo>
                <a:lnTo>
                  <a:pt x="2888" y="3"/>
                </a:lnTo>
                <a:cubicBezTo>
                  <a:pt x="2895" y="3"/>
                  <a:pt x="2900" y="8"/>
                  <a:pt x="2900" y="15"/>
                </a:cubicBezTo>
                <a:cubicBezTo>
                  <a:pt x="2900" y="22"/>
                  <a:pt x="2895" y="28"/>
                  <a:pt x="2888" y="28"/>
                </a:cubicBezTo>
                <a:lnTo>
                  <a:pt x="2813" y="28"/>
                </a:lnTo>
                <a:cubicBezTo>
                  <a:pt x="2806" y="28"/>
                  <a:pt x="2800" y="22"/>
                  <a:pt x="2800" y="15"/>
                </a:cubicBezTo>
                <a:cubicBezTo>
                  <a:pt x="2800" y="8"/>
                  <a:pt x="2806" y="3"/>
                  <a:pt x="2813" y="3"/>
                </a:cubicBezTo>
                <a:close/>
                <a:moveTo>
                  <a:pt x="2988" y="3"/>
                </a:moveTo>
                <a:lnTo>
                  <a:pt x="3063" y="3"/>
                </a:lnTo>
                <a:cubicBezTo>
                  <a:pt x="3070" y="3"/>
                  <a:pt x="3075" y="8"/>
                  <a:pt x="3075" y="15"/>
                </a:cubicBezTo>
                <a:cubicBezTo>
                  <a:pt x="3075" y="22"/>
                  <a:pt x="3070" y="28"/>
                  <a:pt x="3063" y="28"/>
                </a:cubicBezTo>
                <a:lnTo>
                  <a:pt x="2988" y="28"/>
                </a:lnTo>
                <a:cubicBezTo>
                  <a:pt x="2981" y="28"/>
                  <a:pt x="2975" y="22"/>
                  <a:pt x="2975" y="15"/>
                </a:cubicBezTo>
                <a:cubicBezTo>
                  <a:pt x="2975" y="8"/>
                  <a:pt x="2981" y="3"/>
                  <a:pt x="2988" y="3"/>
                </a:cubicBezTo>
                <a:close/>
                <a:moveTo>
                  <a:pt x="3163" y="3"/>
                </a:moveTo>
                <a:lnTo>
                  <a:pt x="3238" y="3"/>
                </a:lnTo>
                <a:cubicBezTo>
                  <a:pt x="3245" y="3"/>
                  <a:pt x="3250" y="8"/>
                  <a:pt x="3250" y="15"/>
                </a:cubicBezTo>
                <a:cubicBezTo>
                  <a:pt x="3250" y="22"/>
                  <a:pt x="3245" y="28"/>
                  <a:pt x="3238" y="28"/>
                </a:cubicBezTo>
                <a:lnTo>
                  <a:pt x="3163" y="28"/>
                </a:lnTo>
                <a:cubicBezTo>
                  <a:pt x="3156" y="28"/>
                  <a:pt x="3150" y="22"/>
                  <a:pt x="3150" y="15"/>
                </a:cubicBezTo>
                <a:cubicBezTo>
                  <a:pt x="3150" y="8"/>
                  <a:pt x="3156" y="3"/>
                  <a:pt x="3163" y="3"/>
                </a:cubicBezTo>
                <a:close/>
                <a:moveTo>
                  <a:pt x="3338" y="3"/>
                </a:moveTo>
                <a:lnTo>
                  <a:pt x="3413" y="3"/>
                </a:lnTo>
                <a:cubicBezTo>
                  <a:pt x="3420" y="3"/>
                  <a:pt x="3425" y="8"/>
                  <a:pt x="3425" y="15"/>
                </a:cubicBezTo>
                <a:cubicBezTo>
                  <a:pt x="3425" y="22"/>
                  <a:pt x="3420" y="28"/>
                  <a:pt x="3413" y="28"/>
                </a:cubicBezTo>
                <a:lnTo>
                  <a:pt x="3338" y="28"/>
                </a:lnTo>
                <a:cubicBezTo>
                  <a:pt x="3331" y="28"/>
                  <a:pt x="3325" y="22"/>
                  <a:pt x="3325" y="15"/>
                </a:cubicBezTo>
                <a:cubicBezTo>
                  <a:pt x="3325" y="8"/>
                  <a:pt x="3331" y="3"/>
                  <a:pt x="3338" y="3"/>
                </a:cubicBezTo>
                <a:close/>
                <a:moveTo>
                  <a:pt x="3513" y="3"/>
                </a:moveTo>
                <a:lnTo>
                  <a:pt x="3588" y="3"/>
                </a:lnTo>
                <a:cubicBezTo>
                  <a:pt x="3595" y="3"/>
                  <a:pt x="3600" y="8"/>
                  <a:pt x="3600" y="15"/>
                </a:cubicBezTo>
                <a:cubicBezTo>
                  <a:pt x="3600" y="22"/>
                  <a:pt x="3595" y="28"/>
                  <a:pt x="3588" y="28"/>
                </a:cubicBezTo>
                <a:lnTo>
                  <a:pt x="3513" y="28"/>
                </a:lnTo>
                <a:cubicBezTo>
                  <a:pt x="3506" y="28"/>
                  <a:pt x="3500" y="22"/>
                  <a:pt x="3500" y="15"/>
                </a:cubicBezTo>
                <a:cubicBezTo>
                  <a:pt x="3500" y="8"/>
                  <a:pt x="3506" y="3"/>
                  <a:pt x="3513" y="3"/>
                </a:cubicBezTo>
                <a:close/>
                <a:moveTo>
                  <a:pt x="3688" y="2"/>
                </a:moveTo>
                <a:lnTo>
                  <a:pt x="3763" y="2"/>
                </a:lnTo>
                <a:cubicBezTo>
                  <a:pt x="3770" y="2"/>
                  <a:pt x="3775" y="8"/>
                  <a:pt x="3775" y="15"/>
                </a:cubicBezTo>
                <a:cubicBezTo>
                  <a:pt x="3775" y="22"/>
                  <a:pt x="3770" y="27"/>
                  <a:pt x="3763" y="27"/>
                </a:cubicBezTo>
                <a:lnTo>
                  <a:pt x="3688" y="27"/>
                </a:lnTo>
                <a:cubicBezTo>
                  <a:pt x="3681" y="27"/>
                  <a:pt x="3675" y="22"/>
                  <a:pt x="3675" y="15"/>
                </a:cubicBezTo>
                <a:cubicBezTo>
                  <a:pt x="3675" y="8"/>
                  <a:pt x="3681" y="2"/>
                  <a:pt x="3688" y="2"/>
                </a:cubicBezTo>
                <a:close/>
                <a:moveTo>
                  <a:pt x="3863" y="2"/>
                </a:moveTo>
                <a:lnTo>
                  <a:pt x="3938" y="2"/>
                </a:lnTo>
                <a:cubicBezTo>
                  <a:pt x="3945" y="2"/>
                  <a:pt x="3950" y="8"/>
                  <a:pt x="3950" y="15"/>
                </a:cubicBezTo>
                <a:cubicBezTo>
                  <a:pt x="3950" y="22"/>
                  <a:pt x="3945" y="27"/>
                  <a:pt x="3938" y="27"/>
                </a:cubicBezTo>
                <a:lnTo>
                  <a:pt x="3863" y="27"/>
                </a:lnTo>
                <a:cubicBezTo>
                  <a:pt x="3856" y="27"/>
                  <a:pt x="3850" y="22"/>
                  <a:pt x="3850" y="15"/>
                </a:cubicBezTo>
                <a:cubicBezTo>
                  <a:pt x="3850" y="8"/>
                  <a:pt x="3856" y="2"/>
                  <a:pt x="3863" y="2"/>
                </a:cubicBezTo>
                <a:close/>
                <a:moveTo>
                  <a:pt x="4038" y="2"/>
                </a:moveTo>
                <a:lnTo>
                  <a:pt x="4113" y="2"/>
                </a:lnTo>
                <a:cubicBezTo>
                  <a:pt x="4120" y="2"/>
                  <a:pt x="4125" y="8"/>
                  <a:pt x="4125" y="15"/>
                </a:cubicBezTo>
                <a:cubicBezTo>
                  <a:pt x="4125" y="22"/>
                  <a:pt x="4120" y="27"/>
                  <a:pt x="4113" y="27"/>
                </a:cubicBezTo>
                <a:lnTo>
                  <a:pt x="4038" y="27"/>
                </a:lnTo>
                <a:cubicBezTo>
                  <a:pt x="4031" y="27"/>
                  <a:pt x="4025" y="22"/>
                  <a:pt x="4025" y="15"/>
                </a:cubicBezTo>
                <a:cubicBezTo>
                  <a:pt x="4025" y="8"/>
                  <a:pt x="4031" y="2"/>
                  <a:pt x="4038" y="2"/>
                </a:cubicBezTo>
                <a:close/>
                <a:moveTo>
                  <a:pt x="4213" y="2"/>
                </a:moveTo>
                <a:lnTo>
                  <a:pt x="4288" y="2"/>
                </a:lnTo>
                <a:cubicBezTo>
                  <a:pt x="4295" y="2"/>
                  <a:pt x="4300" y="8"/>
                  <a:pt x="4300" y="15"/>
                </a:cubicBezTo>
                <a:cubicBezTo>
                  <a:pt x="4300" y="22"/>
                  <a:pt x="4295" y="27"/>
                  <a:pt x="4288" y="27"/>
                </a:cubicBezTo>
                <a:lnTo>
                  <a:pt x="4213" y="27"/>
                </a:lnTo>
                <a:cubicBezTo>
                  <a:pt x="4206" y="27"/>
                  <a:pt x="4200" y="22"/>
                  <a:pt x="4200" y="15"/>
                </a:cubicBezTo>
                <a:cubicBezTo>
                  <a:pt x="4200" y="8"/>
                  <a:pt x="4206" y="2"/>
                  <a:pt x="4213" y="2"/>
                </a:cubicBezTo>
                <a:close/>
                <a:moveTo>
                  <a:pt x="4388" y="2"/>
                </a:moveTo>
                <a:lnTo>
                  <a:pt x="4463" y="2"/>
                </a:lnTo>
                <a:cubicBezTo>
                  <a:pt x="4470" y="2"/>
                  <a:pt x="4475" y="8"/>
                  <a:pt x="4475" y="15"/>
                </a:cubicBezTo>
                <a:cubicBezTo>
                  <a:pt x="4475" y="22"/>
                  <a:pt x="4470" y="27"/>
                  <a:pt x="4463" y="27"/>
                </a:cubicBezTo>
                <a:lnTo>
                  <a:pt x="4388" y="27"/>
                </a:lnTo>
                <a:cubicBezTo>
                  <a:pt x="4381" y="27"/>
                  <a:pt x="4375" y="22"/>
                  <a:pt x="4375" y="15"/>
                </a:cubicBezTo>
                <a:cubicBezTo>
                  <a:pt x="4375" y="8"/>
                  <a:pt x="4381" y="2"/>
                  <a:pt x="4388" y="2"/>
                </a:cubicBezTo>
                <a:close/>
                <a:moveTo>
                  <a:pt x="4563" y="2"/>
                </a:moveTo>
                <a:lnTo>
                  <a:pt x="4638" y="2"/>
                </a:lnTo>
                <a:cubicBezTo>
                  <a:pt x="4645" y="2"/>
                  <a:pt x="4650" y="8"/>
                  <a:pt x="4650" y="15"/>
                </a:cubicBezTo>
                <a:cubicBezTo>
                  <a:pt x="4650" y="22"/>
                  <a:pt x="4645" y="27"/>
                  <a:pt x="4638" y="27"/>
                </a:cubicBezTo>
                <a:lnTo>
                  <a:pt x="4563" y="27"/>
                </a:lnTo>
                <a:cubicBezTo>
                  <a:pt x="4556" y="27"/>
                  <a:pt x="4550" y="22"/>
                  <a:pt x="4550" y="15"/>
                </a:cubicBezTo>
                <a:cubicBezTo>
                  <a:pt x="4550" y="8"/>
                  <a:pt x="4556" y="2"/>
                  <a:pt x="4563" y="2"/>
                </a:cubicBezTo>
                <a:close/>
                <a:moveTo>
                  <a:pt x="4738" y="2"/>
                </a:moveTo>
                <a:lnTo>
                  <a:pt x="4813" y="2"/>
                </a:lnTo>
                <a:cubicBezTo>
                  <a:pt x="4820" y="2"/>
                  <a:pt x="4825" y="8"/>
                  <a:pt x="4825" y="15"/>
                </a:cubicBezTo>
                <a:cubicBezTo>
                  <a:pt x="4825" y="21"/>
                  <a:pt x="4820" y="27"/>
                  <a:pt x="4813" y="27"/>
                </a:cubicBezTo>
                <a:lnTo>
                  <a:pt x="4738" y="27"/>
                </a:lnTo>
                <a:cubicBezTo>
                  <a:pt x="4731" y="27"/>
                  <a:pt x="4725" y="21"/>
                  <a:pt x="4725" y="15"/>
                </a:cubicBezTo>
                <a:cubicBezTo>
                  <a:pt x="4725" y="8"/>
                  <a:pt x="4731" y="2"/>
                  <a:pt x="4738" y="2"/>
                </a:cubicBezTo>
                <a:close/>
                <a:moveTo>
                  <a:pt x="4913" y="2"/>
                </a:moveTo>
                <a:lnTo>
                  <a:pt x="4988" y="2"/>
                </a:lnTo>
                <a:cubicBezTo>
                  <a:pt x="4995" y="2"/>
                  <a:pt x="5000" y="8"/>
                  <a:pt x="5000" y="14"/>
                </a:cubicBezTo>
                <a:cubicBezTo>
                  <a:pt x="5000" y="21"/>
                  <a:pt x="4995" y="27"/>
                  <a:pt x="4988" y="27"/>
                </a:cubicBezTo>
                <a:lnTo>
                  <a:pt x="4913" y="27"/>
                </a:lnTo>
                <a:cubicBezTo>
                  <a:pt x="4906" y="27"/>
                  <a:pt x="4900" y="21"/>
                  <a:pt x="4900" y="15"/>
                </a:cubicBezTo>
                <a:cubicBezTo>
                  <a:pt x="4900" y="8"/>
                  <a:pt x="4906" y="2"/>
                  <a:pt x="4913" y="2"/>
                </a:cubicBezTo>
                <a:close/>
                <a:moveTo>
                  <a:pt x="5088" y="2"/>
                </a:moveTo>
                <a:lnTo>
                  <a:pt x="5163" y="2"/>
                </a:lnTo>
                <a:cubicBezTo>
                  <a:pt x="5170" y="2"/>
                  <a:pt x="5175" y="8"/>
                  <a:pt x="5175" y="14"/>
                </a:cubicBezTo>
                <a:cubicBezTo>
                  <a:pt x="5175" y="21"/>
                  <a:pt x="5170" y="27"/>
                  <a:pt x="5163" y="27"/>
                </a:cubicBezTo>
                <a:lnTo>
                  <a:pt x="5088" y="27"/>
                </a:lnTo>
                <a:cubicBezTo>
                  <a:pt x="5081" y="27"/>
                  <a:pt x="5075" y="21"/>
                  <a:pt x="5075" y="14"/>
                </a:cubicBezTo>
                <a:cubicBezTo>
                  <a:pt x="5075" y="8"/>
                  <a:pt x="5081" y="2"/>
                  <a:pt x="5088" y="2"/>
                </a:cubicBezTo>
                <a:close/>
                <a:moveTo>
                  <a:pt x="5263" y="2"/>
                </a:moveTo>
                <a:lnTo>
                  <a:pt x="5338" y="2"/>
                </a:lnTo>
                <a:cubicBezTo>
                  <a:pt x="5345" y="2"/>
                  <a:pt x="5350" y="7"/>
                  <a:pt x="5350" y="14"/>
                </a:cubicBezTo>
                <a:cubicBezTo>
                  <a:pt x="5350" y="21"/>
                  <a:pt x="5345" y="27"/>
                  <a:pt x="5338" y="27"/>
                </a:cubicBezTo>
                <a:lnTo>
                  <a:pt x="5263" y="27"/>
                </a:lnTo>
                <a:cubicBezTo>
                  <a:pt x="5256" y="27"/>
                  <a:pt x="5250" y="21"/>
                  <a:pt x="5250" y="14"/>
                </a:cubicBezTo>
                <a:cubicBezTo>
                  <a:pt x="5250" y="7"/>
                  <a:pt x="5256" y="2"/>
                  <a:pt x="5263" y="2"/>
                </a:cubicBezTo>
                <a:close/>
                <a:moveTo>
                  <a:pt x="5438" y="2"/>
                </a:moveTo>
                <a:lnTo>
                  <a:pt x="5513" y="2"/>
                </a:lnTo>
                <a:cubicBezTo>
                  <a:pt x="5520" y="2"/>
                  <a:pt x="5525" y="7"/>
                  <a:pt x="5525" y="14"/>
                </a:cubicBezTo>
                <a:cubicBezTo>
                  <a:pt x="5525" y="21"/>
                  <a:pt x="5520" y="27"/>
                  <a:pt x="5513" y="27"/>
                </a:cubicBezTo>
                <a:lnTo>
                  <a:pt x="5438" y="27"/>
                </a:lnTo>
                <a:cubicBezTo>
                  <a:pt x="5431" y="27"/>
                  <a:pt x="5425" y="21"/>
                  <a:pt x="5425" y="14"/>
                </a:cubicBezTo>
                <a:cubicBezTo>
                  <a:pt x="5425" y="7"/>
                  <a:pt x="5431" y="2"/>
                  <a:pt x="5438" y="2"/>
                </a:cubicBezTo>
                <a:close/>
                <a:moveTo>
                  <a:pt x="5613" y="2"/>
                </a:moveTo>
                <a:lnTo>
                  <a:pt x="5688" y="2"/>
                </a:lnTo>
                <a:cubicBezTo>
                  <a:pt x="5695" y="2"/>
                  <a:pt x="5700" y="7"/>
                  <a:pt x="5700" y="14"/>
                </a:cubicBezTo>
                <a:cubicBezTo>
                  <a:pt x="5700" y="21"/>
                  <a:pt x="5695" y="27"/>
                  <a:pt x="5688" y="27"/>
                </a:cubicBezTo>
                <a:lnTo>
                  <a:pt x="5613" y="27"/>
                </a:lnTo>
                <a:cubicBezTo>
                  <a:pt x="5606" y="27"/>
                  <a:pt x="5600" y="21"/>
                  <a:pt x="5600" y="14"/>
                </a:cubicBezTo>
                <a:cubicBezTo>
                  <a:pt x="5600" y="7"/>
                  <a:pt x="5606" y="2"/>
                  <a:pt x="5613" y="2"/>
                </a:cubicBezTo>
                <a:close/>
                <a:moveTo>
                  <a:pt x="5788" y="2"/>
                </a:moveTo>
                <a:lnTo>
                  <a:pt x="5863" y="2"/>
                </a:lnTo>
                <a:cubicBezTo>
                  <a:pt x="5870" y="2"/>
                  <a:pt x="5875" y="7"/>
                  <a:pt x="5875" y="14"/>
                </a:cubicBezTo>
                <a:cubicBezTo>
                  <a:pt x="5875" y="21"/>
                  <a:pt x="5870" y="27"/>
                  <a:pt x="5863" y="27"/>
                </a:cubicBezTo>
                <a:lnTo>
                  <a:pt x="5788" y="27"/>
                </a:lnTo>
                <a:cubicBezTo>
                  <a:pt x="5781" y="27"/>
                  <a:pt x="5775" y="21"/>
                  <a:pt x="5775" y="14"/>
                </a:cubicBezTo>
                <a:cubicBezTo>
                  <a:pt x="5775" y="7"/>
                  <a:pt x="5781" y="2"/>
                  <a:pt x="5788" y="2"/>
                </a:cubicBezTo>
                <a:close/>
                <a:moveTo>
                  <a:pt x="5963" y="2"/>
                </a:moveTo>
                <a:lnTo>
                  <a:pt x="6038" y="2"/>
                </a:lnTo>
                <a:cubicBezTo>
                  <a:pt x="6045" y="2"/>
                  <a:pt x="6050" y="7"/>
                  <a:pt x="6050" y="14"/>
                </a:cubicBezTo>
                <a:cubicBezTo>
                  <a:pt x="6050" y="21"/>
                  <a:pt x="6045" y="27"/>
                  <a:pt x="6038" y="27"/>
                </a:cubicBezTo>
                <a:lnTo>
                  <a:pt x="5963" y="27"/>
                </a:lnTo>
                <a:cubicBezTo>
                  <a:pt x="5956" y="27"/>
                  <a:pt x="5950" y="21"/>
                  <a:pt x="5950" y="14"/>
                </a:cubicBezTo>
                <a:cubicBezTo>
                  <a:pt x="5950" y="7"/>
                  <a:pt x="5956" y="2"/>
                  <a:pt x="5963" y="2"/>
                </a:cubicBezTo>
                <a:close/>
                <a:moveTo>
                  <a:pt x="6138" y="2"/>
                </a:moveTo>
                <a:lnTo>
                  <a:pt x="6213" y="2"/>
                </a:lnTo>
                <a:cubicBezTo>
                  <a:pt x="6220" y="2"/>
                  <a:pt x="6225" y="7"/>
                  <a:pt x="6225" y="14"/>
                </a:cubicBezTo>
                <a:cubicBezTo>
                  <a:pt x="6225" y="21"/>
                  <a:pt x="6220" y="27"/>
                  <a:pt x="6213" y="27"/>
                </a:cubicBezTo>
                <a:lnTo>
                  <a:pt x="6138" y="27"/>
                </a:lnTo>
                <a:cubicBezTo>
                  <a:pt x="6131" y="27"/>
                  <a:pt x="6125" y="21"/>
                  <a:pt x="6125" y="14"/>
                </a:cubicBezTo>
                <a:cubicBezTo>
                  <a:pt x="6125" y="7"/>
                  <a:pt x="6131" y="2"/>
                  <a:pt x="6138" y="2"/>
                </a:cubicBezTo>
                <a:close/>
                <a:moveTo>
                  <a:pt x="6313" y="2"/>
                </a:moveTo>
                <a:lnTo>
                  <a:pt x="6388" y="2"/>
                </a:lnTo>
                <a:cubicBezTo>
                  <a:pt x="6395" y="1"/>
                  <a:pt x="6400" y="7"/>
                  <a:pt x="6400" y="14"/>
                </a:cubicBezTo>
                <a:cubicBezTo>
                  <a:pt x="6400" y="21"/>
                  <a:pt x="6395" y="26"/>
                  <a:pt x="6388" y="27"/>
                </a:cubicBezTo>
                <a:lnTo>
                  <a:pt x="6313" y="27"/>
                </a:lnTo>
                <a:cubicBezTo>
                  <a:pt x="6306" y="27"/>
                  <a:pt x="6300" y="21"/>
                  <a:pt x="6300" y="14"/>
                </a:cubicBezTo>
                <a:cubicBezTo>
                  <a:pt x="6300" y="7"/>
                  <a:pt x="6306" y="2"/>
                  <a:pt x="6313" y="2"/>
                </a:cubicBezTo>
                <a:close/>
                <a:moveTo>
                  <a:pt x="6488" y="1"/>
                </a:moveTo>
                <a:lnTo>
                  <a:pt x="6563" y="1"/>
                </a:lnTo>
                <a:cubicBezTo>
                  <a:pt x="6570" y="1"/>
                  <a:pt x="6575" y="7"/>
                  <a:pt x="6575" y="14"/>
                </a:cubicBezTo>
                <a:cubicBezTo>
                  <a:pt x="6575" y="21"/>
                  <a:pt x="6570" y="26"/>
                  <a:pt x="6563" y="26"/>
                </a:cubicBezTo>
                <a:lnTo>
                  <a:pt x="6488" y="26"/>
                </a:lnTo>
                <a:cubicBezTo>
                  <a:pt x="6481" y="26"/>
                  <a:pt x="6475" y="21"/>
                  <a:pt x="6475" y="14"/>
                </a:cubicBezTo>
                <a:cubicBezTo>
                  <a:pt x="6475" y="7"/>
                  <a:pt x="6481" y="1"/>
                  <a:pt x="6488" y="1"/>
                </a:cubicBezTo>
                <a:close/>
                <a:moveTo>
                  <a:pt x="6663" y="1"/>
                </a:moveTo>
                <a:lnTo>
                  <a:pt x="6738" y="1"/>
                </a:lnTo>
                <a:cubicBezTo>
                  <a:pt x="6745" y="1"/>
                  <a:pt x="6750" y="7"/>
                  <a:pt x="6750" y="14"/>
                </a:cubicBezTo>
                <a:cubicBezTo>
                  <a:pt x="6750" y="21"/>
                  <a:pt x="6745" y="26"/>
                  <a:pt x="6738" y="26"/>
                </a:cubicBezTo>
                <a:lnTo>
                  <a:pt x="6663" y="26"/>
                </a:lnTo>
                <a:cubicBezTo>
                  <a:pt x="6656" y="26"/>
                  <a:pt x="6650" y="21"/>
                  <a:pt x="6650" y="14"/>
                </a:cubicBezTo>
                <a:cubicBezTo>
                  <a:pt x="6650" y="7"/>
                  <a:pt x="6656" y="1"/>
                  <a:pt x="6663" y="1"/>
                </a:cubicBezTo>
                <a:close/>
                <a:moveTo>
                  <a:pt x="6838" y="1"/>
                </a:moveTo>
                <a:lnTo>
                  <a:pt x="6913" y="1"/>
                </a:lnTo>
                <a:cubicBezTo>
                  <a:pt x="6920" y="1"/>
                  <a:pt x="6925" y="7"/>
                  <a:pt x="6925" y="14"/>
                </a:cubicBezTo>
                <a:cubicBezTo>
                  <a:pt x="6925" y="21"/>
                  <a:pt x="6920" y="26"/>
                  <a:pt x="6913" y="26"/>
                </a:cubicBezTo>
                <a:lnTo>
                  <a:pt x="6838" y="26"/>
                </a:lnTo>
                <a:cubicBezTo>
                  <a:pt x="6831" y="26"/>
                  <a:pt x="6825" y="21"/>
                  <a:pt x="6825" y="14"/>
                </a:cubicBezTo>
                <a:cubicBezTo>
                  <a:pt x="6825" y="7"/>
                  <a:pt x="6831" y="1"/>
                  <a:pt x="6838" y="1"/>
                </a:cubicBezTo>
                <a:close/>
                <a:moveTo>
                  <a:pt x="7013" y="1"/>
                </a:moveTo>
                <a:lnTo>
                  <a:pt x="7088" y="1"/>
                </a:lnTo>
                <a:cubicBezTo>
                  <a:pt x="7095" y="1"/>
                  <a:pt x="7100" y="7"/>
                  <a:pt x="7100" y="14"/>
                </a:cubicBezTo>
                <a:cubicBezTo>
                  <a:pt x="7100" y="21"/>
                  <a:pt x="7095" y="26"/>
                  <a:pt x="7088" y="26"/>
                </a:cubicBezTo>
                <a:lnTo>
                  <a:pt x="7013" y="26"/>
                </a:lnTo>
                <a:cubicBezTo>
                  <a:pt x="7006" y="26"/>
                  <a:pt x="7000" y="21"/>
                  <a:pt x="7000" y="14"/>
                </a:cubicBezTo>
                <a:cubicBezTo>
                  <a:pt x="7000" y="7"/>
                  <a:pt x="7006" y="1"/>
                  <a:pt x="7013" y="1"/>
                </a:cubicBezTo>
                <a:close/>
                <a:moveTo>
                  <a:pt x="7188" y="1"/>
                </a:moveTo>
                <a:lnTo>
                  <a:pt x="7263" y="1"/>
                </a:lnTo>
                <a:cubicBezTo>
                  <a:pt x="7270" y="1"/>
                  <a:pt x="7275" y="7"/>
                  <a:pt x="7275" y="14"/>
                </a:cubicBezTo>
                <a:cubicBezTo>
                  <a:pt x="7275" y="21"/>
                  <a:pt x="7270" y="26"/>
                  <a:pt x="7263" y="26"/>
                </a:cubicBezTo>
                <a:lnTo>
                  <a:pt x="7188" y="26"/>
                </a:lnTo>
                <a:cubicBezTo>
                  <a:pt x="7181" y="26"/>
                  <a:pt x="7175" y="21"/>
                  <a:pt x="7175" y="14"/>
                </a:cubicBezTo>
                <a:cubicBezTo>
                  <a:pt x="7175" y="7"/>
                  <a:pt x="7181" y="1"/>
                  <a:pt x="7188" y="1"/>
                </a:cubicBezTo>
                <a:close/>
                <a:moveTo>
                  <a:pt x="7363" y="1"/>
                </a:moveTo>
                <a:lnTo>
                  <a:pt x="7438" y="1"/>
                </a:lnTo>
                <a:cubicBezTo>
                  <a:pt x="7445" y="1"/>
                  <a:pt x="7450" y="7"/>
                  <a:pt x="7450" y="14"/>
                </a:cubicBezTo>
                <a:cubicBezTo>
                  <a:pt x="7450" y="21"/>
                  <a:pt x="7445" y="26"/>
                  <a:pt x="7438" y="26"/>
                </a:cubicBezTo>
                <a:lnTo>
                  <a:pt x="7363" y="26"/>
                </a:lnTo>
                <a:cubicBezTo>
                  <a:pt x="7356" y="26"/>
                  <a:pt x="7350" y="21"/>
                  <a:pt x="7350" y="14"/>
                </a:cubicBezTo>
                <a:cubicBezTo>
                  <a:pt x="7350" y="7"/>
                  <a:pt x="7356" y="1"/>
                  <a:pt x="7363" y="1"/>
                </a:cubicBezTo>
                <a:close/>
                <a:moveTo>
                  <a:pt x="7538" y="1"/>
                </a:moveTo>
                <a:lnTo>
                  <a:pt x="7613" y="1"/>
                </a:lnTo>
                <a:cubicBezTo>
                  <a:pt x="7620" y="1"/>
                  <a:pt x="7625" y="7"/>
                  <a:pt x="7625" y="14"/>
                </a:cubicBezTo>
                <a:cubicBezTo>
                  <a:pt x="7625" y="20"/>
                  <a:pt x="7620" y="26"/>
                  <a:pt x="7613" y="26"/>
                </a:cubicBezTo>
                <a:lnTo>
                  <a:pt x="7538" y="26"/>
                </a:lnTo>
                <a:cubicBezTo>
                  <a:pt x="7531" y="26"/>
                  <a:pt x="7525" y="21"/>
                  <a:pt x="7525" y="14"/>
                </a:cubicBezTo>
                <a:cubicBezTo>
                  <a:pt x="7525" y="7"/>
                  <a:pt x="7531" y="1"/>
                  <a:pt x="7538" y="1"/>
                </a:cubicBezTo>
                <a:close/>
                <a:moveTo>
                  <a:pt x="7713" y="1"/>
                </a:moveTo>
                <a:lnTo>
                  <a:pt x="7788" y="1"/>
                </a:lnTo>
                <a:cubicBezTo>
                  <a:pt x="7795" y="1"/>
                  <a:pt x="7800" y="7"/>
                  <a:pt x="7800" y="14"/>
                </a:cubicBezTo>
                <a:cubicBezTo>
                  <a:pt x="7800" y="20"/>
                  <a:pt x="7795" y="26"/>
                  <a:pt x="7788" y="26"/>
                </a:cubicBezTo>
                <a:lnTo>
                  <a:pt x="7713" y="26"/>
                </a:lnTo>
                <a:cubicBezTo>
                  <a:pt x="7706" y="26"/>
                  <a:pt x="7700" y="20"/>
                  <a:pt x="7700" y="14"/>
                </a:cubicBezTo>
                <a:cubicBezTo>
                  <a:pt x="7700" y="7"/>
                  <a:pt x="7706" y="1"/>
                  <a:pt x="7713" y="1"/>
                </a:cubicBezTo>
                <a:close/>
                <a:moveTo>
                  <a:pt x="7888" y="1"/>
                </a:moveTo>
                <a:lnTo>
                  <a:pt x="7963" y="1"/>
                </a:lnTo>
                <a:cubicBezTo>
                  <a:pt x="7970" y="1"/>
                  <a:pt x="7975" y="7"/>
                  <a:pt x="7975" y="13"/>
                </a:cubicBezTo>
                <a:cubicBezTo>
                  <a:pt x="7975" y="20"/>
                  <a:pt x="7970" y="26"/>
                  <a:pt x="7963" y="26"/>
                </a:cubicBezTo>
                <a:lnTo>
                  <a:pt x="7888" y="26"/>
                </a:lnTo>
                <a:cubicBezTo>
                  <a:pt x="7881" y="26"/>
                  <a:pt x="7875" y="20"/>
                  <a:pt x="7875" y="13"/>
                </a:cubicBezTo>
                <a:cubicBezTo>
                  <a:pt x="7875" y="7"/>
                  <a:pt x="7881" y="1"/>
                  <a:pt x="7888" y="1"/>
                </a:cubicBezTo>
                <a:close/>
                <a:moveTo>
                  <a:pt x="8063" y="1"/>
                </a:moveTo>
                <a:lnTo>
                  <a:pt x="8138" y="1"/>
                </a:lnTo>
                <a:cubicBezTo>
                  <a:pt x="8145" y="1"/>
                  <a:pt x="8150" y="6"/>
                  <a:pt x="8150" y="13"/>
                </a:cubicBezTo>
                <a:cubicBezTo>
                  <a:pt x="8150" y="20"/>
                  <a:pt x="8145" y="26"/>
                  <a:pt x="8138" y="26"/>
                </a:cubicBezTo>
                <a:lnTo>
                  <a:pt x="8063" y="26"/>
                </a:lnTo>
                <a:cubicBezTo>
                  <a:pt x="8056" y="26"/>
                  <a:pt x="8050" y="20"/>
                  <a:pt x="8050" y="13"/>
                </a:cubicBezTo>
                <a:cubicBezTo>
                  <a:pt x="8050" y="7"/>
                  <a:pt x="8056" y="1"/>
                  <a:pt x="8063" y="1"/>
                </a:cubicBezTo>
                <a:close/>
                <a:moveTo>
                  <a:pt x="8238" y="1"/>
                </a:moveTo>
                <a:lnTo>
                  <a:pt x="8313" y="1"/>
                </a:lnTo>
                <a:cubicBezTo>
                  <a:pt x="8320" y="1"/>
                  <a:pt x="8325" y="6"/>
                  <a:pt x="8325" y="13"/>
                </a:cubicBezTo>
                <a:cubicBezTo>
                  <a:pt x="8325" y="20"/>
                  <a:pt x="8320" y="26"/>
                  <a:pt x="8313" y="26"/>
                </a:cubicBezTo>
                <a:lnTo>
                  <a:pt x="8238" y="26"/>
                </a:lnTo>
                <a:cubicBezTo>
                  <a:pt x="8231" y="26"/>
                  <a:pt x="8225" y="20"/>
                  <a:pt x="8225" y="13"/>
                </a:cubicBezTo>
                <a:cubicBezTo>
                  <a:pt x="8225" y="6"/>
                  <a:pt x="8231" y="1"/>
                  <a:pt x="8238" y="1"/>
                </a:cubicBezTo>
                <a:close/>
                <a:moveTo>
                  <a:pt x="8413" y="1"/>
                </a:moveTo>
                <a:lnTo>
                  <a:pt x="8488" y="1"/>
                </a:lnTo>
                <a:cubicBezTo>
                  <a:pt x="8495" y="1"/>
                  <a:pt x="8500" y="6"/>
                  <a:pt x="8500" y="13"/>
                </a:cubicBezTo>
                <a:cubicBezTo>
                  <a:pt x="8500" y="20"/>
                  <a:pt x="8495" y="26"/>
                  <a:pt x="8488" y="26"/>
                </a:cubicBezTo>
                <a:lnTo>
                  <a:pt x="8413" y="26"/>
                </a:lnTo>
                <a:cubicBezTo>
                  <a:pt x="8406" y="26"/>
                  <a:pt x="8400" y="20"/>
                  <a:pt x="8400" y="13"/>
                </a:cubicBezTo>
                <a:cubicBezTo>
                  <a:pt x="8400" y="6"/>
                  <a:pt x="8406" y="1"/>
                  <a:pt x="8413" y="1"/>
                </a:cubicBezTo>
                <a:close/>
                <a:moveTo>
                  <a:pt x="8588" y="1"/>
                </a:moveTo>
                <a:lnTo>
                  <a:pt x="8663" y="1"/>
                </a:lnTo>
                <a:cubicBezTo>
                  <a:pt x="8670" y="1"/>
                  <a:pt x="8675" y="6"/>
                  <a:pt x="8675" y="13"/>
                </a:cubicBezTo>
                <a:cubicBezTo>
                  <a:pt x="8675" y="20"/>
                  <a:pt x="8670" y="26"/>
                  <a:pt x="8663" y="26"/>
                </a:cubicBezTo>
                <a:lnTo>
                  <a:pt x="8588" y="26"/>
                </a:lnTo>
                <a:cubicBezTo>
                  <a:pt x="8581" y="26"/>
                  <a:pt x="8575" y="20"/>
                  <a:pt x="8575" y="13"/>
                </a:cubicBezTo>
                <a:cubicBezTo>
                  <a:pt x="8575" y="6"/>
                  <a:pt x="8581" y="1"/>
                  <a:pt x="8588" y="1"/>
                </a:cubicBezTo>
                <a:close/>
                <a:moveTo>
                  <a:pt x="8763" y="1"/>
                </a:moveTo>
                <a:lnTo>
                  <a:pt x="8838" y="1"/>
                </a:lnTo>
                <a:cubicBezTo>
                  <a:pt x="8845" y="1"/>
                  <a:pt x="8850" y="6"/>
                  <a:pt x="8850" y="13"/>
                </a:cubicBezTo>
                <a:cubicBezTo>
                  <a:pt x="8850" y="20"/>
                  <a:pt x="8845" y="26"/>
                  <a:pt x="8838" y="26"/>
                </a:cubicBezTo>
                <a:lnTo>
                  <a:pt x="8763" y="26"/>
                </a:lnTo>
                <a:cubicBezTo>
                  <a:pt x="8756" y="26"/>
                  <a:pt x="8750" y="20"/>
                  <a:pt x="8750" y="13"/>
                </a:cubicBezTo>
                <a:cubicBezTo>
                  <a:pt x="8750" y="6"/>
                  <a:pt x="8756" y="1"/>
                  <a:pt x="8763" y="1"/>
                </a:cubicBezTo>
                <a:close/>
                <a:moveTo>
                  <a:pt x="8938" y="1"/>
                </a:moveTo>
                <a:lnTo>
                  <a:pt x="9013" y="1"/>
                </a:lnTo>
                <a:cubicBezTo>
                  <a:pt x="9020" y="1"/>
                  <a:pt x="9025" y="6"/>
                  <a:pt x="9025" y="13"/>
                </a:cubicBezTo>
                <a:cubicBezTo>
                  <a:pt x="9025" y="20"/>
                  <a:pt x="9020" y="26"/>
                  <a:pt x="9013" y="26"/>
                </a:cubicBezTo>
                <a:lnTo>
                  <a:pt x="8938" y="26"/>
                </a:lnTo>
                <a:cubicBezTo>
                  <a:pt x="8931" y="26"/>
                  <a:pt x="8925" y="20"/>
                  <a:pt x="8925" y="13"/>
                </a:cubicBezTo>
                <a:cubicBezTo>
                  <a:pt x="8925" y="6"/>
                  <a:pt x="8931" y="1"/>
                  <a:pt x="8938" y="1"/>
                </a:cubicBezTo>
                <a:close/>
                <a:moveTo>
                  <a:pt x="9113" y="1"/>
                </a:moveTo>
                <a:lnTo>
                  <a:pt x="9188" y="1"/>
                </a:lnTo>
                <a:cubicBezTo>
                  <a:pt x="9195" y="1"/>
                  <a:pt x="9200" y="6"/>
                  <a:pt x="9200" y="13"/>
                </a:cubicBezTo>
                <a:cubicBezTo>
                  <a:pt x="9200" y="20"/>
                  <a:pt x="9195" y="26"/>
                  <a:pt x="9188" y="26"/>
                </a:cubicBezTo>
                <a:lnTo>
                  <a:pt x="9113" y="26"/>
                </a:lnTo>
                <a:cubicBezTo>
                  <a:pt x="9106" y="26"/>
                  <a:pt x="9100" y="20"/>
                  <a:pt x="9100" y="13"/>
                </a:cubicBezTo>
                <a:cubicBezTo>
                  <a:pt x="9100" y="6"/>
                  <a:pt x="9106" y="1"/>
                  <a:pt x="9113" y="1"/>
                </a:cubicBezTo>
                <a:close/>
                <a:moveTo>
                  <a:pt x="9288" y="0"/>
                </a:moveTo>
                <a:lnTo>
                  <a:pt x="9363" y="0"/>
                </a:lnTo>
                <a:cubicBezTo>
                  <a:pt x="9370" y="0"/>
                  <a:pt x="9375" y="6"/>
                  <a:pt x="9375" y="13"/>
                </a:cubicBezTo>
                <a:cubicBezTo>
                  <a:pt x="9375" y="20"/>
                  <a:pt x="9370" y="25"/>
                  <a:pt x="9363" y="25"/>
                </a:cubicBezTo>
                <a:lnTo>
                  <a:pt x="9288" y="25"/>
                </a:lnTo>
                <a:cubicBezTo>
                  <a:pt x="9281" y="25"/>
                  <a:pt x="9275" y="20"/>
                  <a:pt x="9275" y="13"/>
                </a:cubicBezTo>
                <a:cubicBezTo>
                  <a:pt x="9275" y="6"/>
                  <a:pt x="9281" y="0"/>
                  <a:pt x="9288" y="0"/>
                </a:cubicBezTo>
                <a:close/>
                <a:moveTo>
                  <a:pt x="9463" y="0"/>
                </a:moveTo>
                <a:lnTo>
                  <a:pt x="9538" y="0"/>
                </a:lnTo>
                <a:cubicBezTo>
                  <a:pt x="9545" y="0"/>
                  <a:pt x="9550" y="6"/>
                  <a:pt x="9550" y="13"/>
                </a:cubicBezTo>
                <a:cubicBezTo>
                  <a:pt x="9550" y="20"/>
                  <a:pt x="9545" y="25"/>
                  <a:pt x="9538" y="25"/>
                </a:cubicBezTo>
                <a:lnTo>
                  <a:pt x="9463" y="25"/>
                </a:lnTo>
                <a:cubicBezTo>
                  <a:pt x="9456" y="25"/>
                  <a:pt x="9450" y="20"/>
                  <a:pt x="9450" y="13"/>
                </a:cubicBezTo>
                <a:cubicBezTo>
                  <a:pt x="9450" y="6"/>
                  <a:pt x="9456" y="0"/>
                  <a:pt x="9463" y="0"/>
                </a:cubicBezTo>
                <a:close/>
                <a:moveTo>
                  <a:pt x="9638" y="0"/>
                </a:moveTo>
                <a:lnTo>
                  <a:pt x="9713" y="0"/>
                </a:lnTo>
                <a:cubicBezTo>
                  <a:pt x="9720" y="0"/>
                  <a:pt x="9725" y="6"/>
                  <a:pt x="9725" y="13"/>
                </a:cubicBezTo>
                <a:cubicBezTo>
                  <a:pt x="9725" y="20"/>
                  <a:pt x="9720" y="25"/>
                  <a:pt x="9713" y="25"/>
                </a:cubicBezTo>
                <a:lnTo>
                  <a:pt x="9638" y="25"/>
                </a:lnTo>
                <a:cubicBezTo>
                  <a:pt x="9631" y="25"/>
                  <a:pt x="9625" y="20"/>
                  <a:pt x="9625" y="13"/>
                </a:cubicBezTo>
                <a:cubicBezTo>
                  <a:pt x="9625" y="6"/>
                  <a:pt x="9631" y="0"/>
                  <a:pt x="9638" y="0"/>
                </a:cubicBezTo>
                <a:close/>
                <a:moveTo>
                  <a:pt x="9813" y="0"/>
                </a:moveTo>
                <a:lnTo>
                  <a:pt x="9888" y="0"/>
                </a:lnTo>
                <a:cubicBezTo>
                  <a:pt x="9895" y="0"/>
                  <a:pt x="9900" y="6"/>
                  <a:pt x="9900" y="13"/>
                </a:cubicBezTo>
                <a:cubicBezTo>
                  <a:pt x="9900" y="20"/>
                  <a:pt x="9895" y="25"/>
                  <a:pt x="9888" y="25"/>
                </a:cubicBezTo>
                <a:lnTo>
                  <a:pt x="9813" y="25"/>
                </a:lnTo>
                <a:cubicBezTo>
                  <a:pt x="9806" y="25"/>
                  <a:pt x="9800" y="20"/>
                  <a:pt x="9800" y="13"/>
                </a:cubicBezTo>
                <a:cubicBezTo>
                  <a:pt x="9800" y="6"/>
                  <a:pt x="9806" y="0"/>
                  <a:pt x="9813" y="0"/>
                </a:cubicBezTo>
                <a:close/>
                <a:moveTo>
                  <a:pt x="9988" y="0"/>
                </a:moveTo>
                <a:lnTo>
                  <a:pt x="10063" y="0"/>
                </a:lnTo>
                <a:cubicBezTo>
                  <a:pt x="10070" y="0"/>
                  <a:pt x="10075" y="6"/>
                  <a:pt x="10075" y="13"/>
                </a:cubicBezTo>
                <a:cubicBezTo>
                  <a:pt x="10075" y="20"/>
                  <a:pt x="10070" y="25"/>
                  <a:pt x="10063" y="25"/>
                </a:cubicBezTo>
                <a:lnTo>
                  <a:pt x="9988" y="25"/>
                </a:lnTo>
                <a:cubicBezTo>
                  <a:pt x="9981" y="25"/>
                  <a:pt x="9975" y="20"/>
                  <a:pt x="9975" y="13"/>
                </a:cubicBezTo>
                <a:cubicBezTo>
                  <a:pt x="9975" y="6"/>
                  <a:pt x="9981" y="0"/>
                  <a:pt x="9988" y="0"/>
                </a:cubicBezTo>
                <a:close/>
                <a:moveTo>
                  <a:pt x="10163" y="0"/>
                </a:moveTo>
                <a:lnTo>
                  <a:pt x="10238" y="0"/>
                </a:lnTo>
                <a:cubicBezTo>
                  <a:pt x="10245" y="0"/>
                  <a:pt x="10250" y="6"/>
                  <a:pt x="10250" y="13"/>
                </a:cubicBezTo>
                <a:cubicBezTo>
                  <a:pt x="10250" y="20"/>
                  <a:pt x="10245" y="25"/>
                  <a:pt x="10238" y="25"/>
                </a:cubicBezTo>
                <a:lnTo>
                  <a:pt x="10163" y="25"/>
                </a:lnTo>
                <a:cubicBezTo>
                  <a:pt x="10156" y="25"/>
                  <a:pt x="10150" y="20"/>
                  <a:pt x="10150" y="13"/>
                </a:cubicBezTo>
                <a:cubicBezTo>
                  <a:pt x="10150" y="6"/>
                  <a:pt x="10156" y="0"/>
                  <a:pt x="10163" y="0"/>
                </a:cubicBezTo>
                <a:close/>
                <a:moveTo>
                  <a:pt x="10338" y="0"/>
                </a:moveTo>
                <a:lnTo>
                  <a:pt x="10413" y="0"/>
                </a:lnTo>
                <a:cubicBezTo>
                  <a:pt x="10420" y="0"/>
                  <a:pt x="10425" y="6"/>
                  <a:pt x="10425" y="13"/>
                </a:cubicBezTo>
                <a:cubicBezTo>
                  <a:pt x="10425" y="19"/>
                  <a:pt x="10420" y="25"/>
                  <a:pt x="10413" y="25"/>
                </a:cubicBezTo>
                <a:lnTo>
                  <a:pt x="10338" y="25"/>
                </a:lnTo>
                <a:cubicBezTo>
                  <a:pt x="10331" y="25"/>
                  <a:pt x="10325" y="20"/>
                  <a:pt x="10325" y="13"/>
                </a:cubicBezTo>
                <a:cubicBezTo>
                  <a:pt x="10325" y="6"/>
                  <a:pt x="10331" y="0"/>
                  <a:pt x="10338" y="0"/>
                </a:cubicBezTo>
                <a:close/>
                <a:moveTo>
                  <a:pt x="10513" y="0"/>
                </a:moveTo>
                <a:lnTo>
                  <a:pt x="10588" y="0"/>
                </a:lnTo>
                <a:cubicBezTo>
                  <a:pt x="10595" y="0"/>
                  <a:pt x="10600" y="6"/>
                  <a:pt x="10600" y="13"/>
                </a:cubicBezTo>
                <a:cubicBezTo>
                  <a:pt x="10600" y="19"/>
                  <a:pt x="10595" y="25"/>
                  <a:pt x="10588" y="25"/>
                </a:cubicBezTo>
                <a:lnTo>
                  <a:pt x="10513" y="25"/>
                </a:lnTo>
                <a:cubicBezTo>
                  <a:pt x="10506" y="25"/>
                  <a:pt x="10500" y="19"/>
                  <a:pt x="10500" y="13"/>
                </a:cubicBezTo>
                <a:cubicBezTo>
                  <a:pt x="10500" y="6"/>
                  <a:pt x="10506" y="0"/>
                  <a:pt x="10513" y="0"/>
                </a:cubicBezTo>
                <a:close/>
                <a:moveTo>
                  <a:pt x="10688" y="0"/>
                </a:moveTo>
                <a:lnTo>
                  <a:pt x="10763" y="0"/>
                </a:lnTo>
                <a:cubicBezTo>
                  <a:pt x="10770" y="0"/>
                  <a:pt x="10775" y="6"/>
                  <a:pt x="10775" y="12"/>
                </a:cubicBezTo>
                <a:cubicBezTo>
                  <a:pt x="10775" y="19"/>
                  <a:pt x="10770" y="25"/>
                  <a:pt x="10763" y="25"/>
                </a:cubicBezTo>
                <a:lnTo>
                  <a:pt x="10688" y="25"/>
                </a:lnTo>
                <a:cubicBezTo>
                  <a:pt x="10681" y="25"/>
                  <a:pt x="10675" y="19"/>
                  <a:pt x="10675" y="12"/>
                </a:cubicBezTo>
                <a:cubicBezTo>
                  <a:pt x="10675" y="6"/>
                  <a:pt x="10681" y="0"/>
                  <a:pt x="10688" y="0"/>
                </a:cubicBezTo>
                <a:close/>
                <a:moveTo>
                  <a:pt x="10863" y="0"/>
                </a:moveTo>
                <a:lnTo>
                  <a:pt x="10938" y="0"/>
                </a:lnTo>
                <a:cubicBezTo>
                  <a:pt x="10945" y="0"/>
                  <a:pt x="10950" y="5"/>
                  <a:pt x="10950" y="12"/>
                </a:cubicBezTo>
                <a:cubicBezTo>
                  <a:pt x="10950" y="19"/>
                  <a:pt x="10945" y="25"/>
                  <a:pt x="10938" y="25"/>
                </a:cubicBezTo>
                <a:lnTo>
                  <a:pt x="10863" y="25"/>
                </a:lnTo>
                <a:cubicBezTo>
                  <a:pt x="10856" y="25"/>
                  <a:pt x="10850" y="19"/>
                  <a:pt x="10850" y="12"/>
                </a:cubicBezTo>
                <a:cubicBezTo>
                  <a:pt x="10850" y="6"/>
                  <a:pt x="10856" y="0"/>
                  <a:pt x="10863" y="0"/>
                </a:cubicBezTo>
                <a:close/>
                <a:moveTo>
                  <a:pt x="11038" y="0"/>
                </a:moveTo>
                <a:lnTo>
                  <a:pt x="11113" y="0"/>
                </a:lnTo>
                <a:cubicBezTo>
                  <a:pt x="11120" y="0"/>
                  <a:pt x="11125" y="5"/>
                  <a:pt x="11125" y="12"/>
                </a:cubicBezTo>
                <a:cubicBezTo>
                  <a:pt x="11125" y="19"/>
                  <a:pt x="11120" y="25"/>
                  <a:pt x="11113" y="25"/>
                </a:cubicBezTo>
                <a:lnTo>
                  <a:pt x="11038" y="25"/>
                </a:lnTo>
                <a:cubicBezTo>
                  <a:pt x="11031" y="25"/>
                  <a:pt x="11025" y="19"/>
                  <a:pt x="11025" y="12"/>
                </a:cubicBezTo>
                <a:cubicBezTo>
                  <a:pt x="11025" y="5"/>
                  <a:pt x="11031" y="0"/>
                  <a:pt x="11038" y="0"/>
                </a:cubicBezTo>
                <a:close/>
                <a:moveTo>
                  <a:pt x="11213" y="0"/>
                </a:moveTo>
                <a:lnTo>
                  <a:pt x="11288" y="0"/>
                </a:lnTo>
                <a:cubicBezTo>
                  <a:pt x="11295" y="0"/>
                  <a:pt x="11300" y="5"/>
                  <a:pt x="11300" y="12"/>
                </a:cubicBezTo>
                <a:cubicBezTo>
                  <a:pt x="11300" y="19"/>
                  <a:pt x="11295" y="25"/>
                  <a:pt x="11288" y="25"/>
                </a:cubicBezTo>
                <a:lnTo>
                  <a:pt x="11213" y="25"/>
                </a:lnTo>
                <a:cubicBezTo>
                  <a:pt x="11206" y="25"/>
                  <a:pt x="11200" y="19"/>
                  <a:pt x="11200" y="12"/>
                </a:cubicBezTo>
                <a:cubicBezTo>
                  <a:pt x="11200" y="5"/>
                  <a:pt x="11206" y="0"/>
                  <a:pt x="11213" y="0"/>
                </a:cubicBezTo>
                <a:close/>
                <a:moveTo>
                  <a:pt x="11388" y="0"/>
                </a:moveTo>
                <a:lnTo>
                  <a:pt x="11463" y="0"/>
                </a:lnTo>
                <a:cubicBezTo>
                  <a:pt x="11470" y="0"/>
                  <a:pt x="11475" y="5"/>
                  <a:pt x="11475" y="12"/>
                </a:cubicBezTo>
                <a:cubicBezTo>
                  <a:pt x="11475" y="19"/>
                  <a:pt x="11470" y="25"/>
                  <a:pt x="11463" y="25"/>
                </a:cubicBezTo>
                <a:lnTo>
                  <a:pt x="11388" y="25"/>
                </a:lnTo>
                <a:cubicBezTo>
                  <a:pt x="11381" y="25"/>
                  <a:pt x="11375" y="19"/>
                  <a:pt x="11375" y="12"/>
                </a:cubicBezTo>
                <a:cubicBezTo>
                  <a:pt x="11375" y="5"/>
                  <a:pt x="11381" y="0"/>
                  <a:pt x="11388" y="0"/>
                </a:cubicBezTo>
                <a:close/>
                <a:moveTo>
                  <a:pt x="11563" y="0"/>
                </a:moveTo>
                <a:lnTo>
                  <a:pt x="11638" y="0"/>
                </a:lnTo>
                <a:cubicBezTo>
                  <a:pt x="11645" y="0"/>
                  <a:pt x="11650" y="5"/>
                  <a:pt x="11650" y="12"/>
                </a:cubicBezTo>
                <a:cubicBezTo>
                  <a:pt x="11650" y="19"/>
                  <a:pt x="11645" y="25"/>
                  <a:pt x="11638" y="25"/>
                </a:cubicBezTo>
                <a:lnTo>
                  <a:pt x="11563" y="25"/>
                </a:lnTo>
                <a:cubicBezTo>
                  <a:pt x="11556" y="25"/>
                  <a:pt x="11550" y="19"/>
                  <a:pt x="11550" y="12"/>
                </a:cubicBezTo>
                <a:cubicBezTo>
                  <a:pt x="11550" y="5"/>
                  <a:pt x="11556" y="0"/>
                  <a:pt x="11563" y="0"/>
                </a:cubicBezTo>
                <a:close/>
              </a:path>
            </a:pathLst>
          </a:custGeom>
          <a:solidFill>
            <a:srgbClr val="ff3300"/>
          </a:solidFill>
          <a:ln w="324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4648320" y="1266840"/>
            <a:ext cx="9360" cy="4371840"/>
          </a:xfrm>
          <a:custGeom>
            <a:avLst/>
            <a:gdLst/>
            <a:ahLst/>
            <a:rect l="l" t="t" r="r" b="b"/>
            <a:pathLst>
              <a:path w="50" h="2295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2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2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2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2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2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2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2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2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2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2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2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2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2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2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2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2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2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2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2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2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2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2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2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2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2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2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2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2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2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2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2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2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2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2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2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2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2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2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2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2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2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2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2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2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2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2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2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2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2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2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2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2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2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2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2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2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2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2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2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2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2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2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2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2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2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2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2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2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2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2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2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2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2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2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2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2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2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2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2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2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2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2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2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2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2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2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2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2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2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2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2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2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2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2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2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2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2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2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2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2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2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2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  <a:moveTo>
                  <a:pt x="50" y="17875"/>
                </a:moveTo>
                <a:lnTo>
                  <a:pt x="50" y="18025"/>
                </a:lnTo>
                <a:cubicBezTo>
                  <a:pt x="50" y="18039"/>
                  <a:pt x="39" y="18050"/>
                  <a:pt x="25" y="18050"/>
                </a:cubicBezTo>
                <a:cubicBezTo>
                  <a:pt x="12" y="18050"/>
                  <a:pt x="0" y="18039"/>
                  <a:pt x="0" y="18025"/>
                </a:cubicBezTo>
                <a:lnTo>
                  <a:pt x="0" y="17875"/>
                </a:lnTo>
                <a:cubicBezTo>
                  <a:pt x="0" y="17861"/>
                  <a:pt x="12" y="17850"/>
                  <a:pt x="25" y="17850"/>
                </a:cubicBezTo>
                <a:cubicBezTo>
                  <a:pt x="39" y="17850"/>
                  <a:pt x="50" y="17861"/>
                  <a:pt x="50" y="17875"/>
                </a:cubicBezTo>
                <a:close/>
                <a:moveTo>
                  <a:pt x="50" y="18225"/>
                </a:moveTo>
                <a:lnTo>
                  <a:pt x="50" y="18375"/>
                </a:lnTo>
                <a:cubicBezTo>
                  <a:pt x="50" y="18389"/>
                  <a:pt x="39" y="18400"/>
                  <a:pt x="25" y="18400"/>
                </a:cubicBezTo>
                <a:cubicBezTo>
                  <a:pt x="12" y="18400"/>
                  <a:pt x="0" y="18389"/>
                  <a:pt x="0" y="18375"/>
                </a:cubicBezTo>
                <a:lnTo>
                  <a:pt x="0" y="18225"/>
                </a:lnTo>
                <a:cubicBezTo>
                  <a:pt x="0" y="18211"/>
                  <a:pt x="12" y="18200"/>
                  <a:pt x="25" y="18200"/>
                </a:cubicBezTo>
                <a:cubicBezTo>
                  <a:pt x="39" y="18200"/>
                  <a:pt x="50" y="18211"/>
                  <a:pt x="50" y="18225"/>
                </a:cubicBezTo>
                <a:close/>
                <a:moveTo>
                  <a:pt x="50" y="18575"/>
                </a:moveTo>
                <a:lnTo>
                  <a:pt x="50" y="18725"/>
                </a:lnTo>
                <a:cubicBezTo>
                  <a:pt x="50" y="18739"/>
                  <a:pt x="39" y="18750"/>
                  <a:pt x="25" y="18750"/>
                </a:cubicBezTo>
                <a:cubicBezTo>
                  <a:pt x="12" y="18750"/>
                  <a:pt x="0" y="18739"/>
                  <a:pt x="0" y="18725"/>
                </a:cubicBezTo>
                <a:lnTo>
                  <a:pt x="0" y="18575"/>
                </a:lnTo>
                <a:cubicBezTo>
                  <a:pt x="0" y="18561"/>
                  <a:pt x="12" y="18550"/>
                  <a:pt x="25" y="18550"/>
                </a:cubicBezTo>
                <a:cubicBezTo>
                  <a:pt x="39" y="18550"/>
                  <a:pt x="50" y="18561"/>
                  <a:pt x="50" y="18575"/>
                </a:cubicBezTo>
                <a:close/>
                <a:moveTo>
                  <a:pt x="50" y="18925"/>
                </a:moveTo>
                <a:lnTo>
                  <a:pt x="50" y="19075"/>
                </a:lnTo>
                <a:cubicBezTo>
                  <a:pt x="50" y="19089"/>
                  <a:pt x="39" y="19100"/>
                  <a:pt x="25" y="19100"/>
                </a:cubicBezTo>
                <a:cubicBezTo>
                  <a:pt x="12" y="19100"/>
                  <a:pt x="0" y="19089"/>
                  <a:pt x="0" y="19075"/>
                </a:cubicBezTo>
                <a:lnTo>
                  <a:pt x="0" y="18925"/>
                </a:lnTo>
                <a:cubicBezTo>
                  <a:pt x="0" y="18911"/>
                  <a:pt x="12" y="18900"/>
                  <a:pt x="25" y="18900"/>
                </a:cubicBezTo>
                <a:cubicBezTo>
                  <a:pt x="39" y="18900"/>
                  <a:pt x="50" y="18911"/>
                  <a:pt x="50" y="18925"/>
                </a:cubicBezTo>
                <a:close/>
                <a:moveTo>
                  <a:pt x="50" y="19275"/>
                </a:moveTo>
                <a:lnTo>
                  <a:pt x="50" y="19425"/>
                </a:lnTo>
                <a:cubicBezTo>
                  <a:pt x="50" y="19439"/>
                  <a:pt x="39" y="19450"/>
                  <a:pt x="25" y="19450"/>
                </a:cubicBezTo>
                <a:cubicBezTo>
                  <a:pt x="12" y="19450"/>
                  <a:pt x="0" y="19439"/>
                  <a:pt x="0" y="19425"/>
                </a:cubicBezTo>
                <a:lnTo>
                  <a:pt x="0" y="19275"/>
                </a:lnTo>
                <a:cubicBezTo>
                  <a:pt x="0" y="19261"/>
                  <a:pt x="12" y="19250"/>
                  <a:pt x="25" y="19250"/>
                </a:cubicBezTo>
                <a:cubicBezTo>
                  <a:pt x="39" y="19250"/>
                  <a:pt x="50" y="19261"/>
                  <a:pt x="50" y="19275"/>
                </a:cubicBezTo>
                <a:close/>
                <a:moveTo>
                  <a:pt x="50" y="19625"/>
                </a:moveTo>
                <a:lnTo>
                  <a:pt x="50" y="19775"/>
                </a:lnTo>
                <a:cubicBezTo>
                  <a:pt x="50" y="19789"/>
                  <a:pt x="39" y="19800"/>
                  <a:pt x="25" y="19800"/>
                </a:cubicBezTo>
                <a:cubicBezTo>
                  <a:pt x="12" y="19800"/>
                  <a:pt x="0" y="19789"/>
                  <a:pt x="0" y="19775"/>
                </a:cubicBezTo>
                <a:lnTo>
                  <a:pt x="0" y="19625"/>
                </a:lnTo>
                <a:cubicBezTo>
                  <a:pt x="0" y="19611"/>
                  <a:pt x="12" y="19600"/>
                  <a:pt x="25" y="19600"/>
                </a:cubicBezTo>
                <a:cubicBezTo>
                  <a:pt x="39" y="19600"/>
                  <a:pt x="50" y="19611"/>
                  <a:pt x="50" y="19625"/>
                </a:cubicBezTo>
                <a:close/>
                <a:moveTo>
                  <a:pt x="50" y="19975"/>
                </a:moveTo>
                <a:lnTo>
                  <a:pt x="50" y="20125"/>
                </a:lnTo>
                <a:cubicBezTo>
                  <a:pt x="50" y="20139"/>
                  <a:pt x="39" y="20150"/>
                  <a:pt x="25" y="20150"/>
                </a:cubicBezTo>
                <a:cubicBezTo>
                  <a:pt x="12" y="20150"/>
                  <a:pt x="0" y="20139"/>
                  <a:pt x="0" y="20125"/>
                </a:cubicBezTo>
                <a:lnTo>
                  <a:pt x="0" y="19975"/>
                </a:lnTo>
                <a:cubicBezTo>
                  <a:pt x="0" y="19961"/>
                  <a:pt x="12" y="19950"/>
                  <a:pt x="25" y="19950"/>
                </a:cubicBezTo>
                <a:cubicBezTo>
                  <a:pt x="39" y="19950"/>
                  <a:pt x="50" y="19961"/>
                  <a:pt x="50" y="19975"/>
                </a:cubicBezTo>
                <a:close/>
                <a:moveTo>
                  <a:pt x="50" y="20325"/>
                </a:moveTo>
                <a:lnTo>
                  <a:pt x="50" y="20475"/>
                </a:lnTo>
                <a:cubicBezTo>
                  <a:pt x="50" y="20489"/>
                  <a:pt x="39" y="20500"/>
                  <a:pt x="25" y="20500"/>
                </a:cubicBezTo>
                <a:cubicBezTo>
                  <a:pt x="12" y="20500"/>
                  <a:pt x="0" y="20489"/>
                  <a:pt x="0" y="20475"/>
                </a:cubicBezTo>
                <a:lnTo>
                  <a:pt x="0" y="20325"/>
                </a:lnTo>
                <a:cubicBezTo>
                  <a:pt x="0" y="20311"/>
                  <a:pt x="12" y="20300"/>
                  <a:pt x="25" y="20300"/>
                </a:cubicBezTo>
                <a:cubicBezTo>
                  <a:pt x="39" y="20300"/>
                  <a:pt x="50" y="20311"/>
                  <a:pt x="50" y="20325"/>
                </a:cubicBezTo>
                <a:close/>
                <a:moveTo>
                  <a:pt x="50" y="20675"/>
                </a:moveTo>
                <a:lnTo>
                  <a:pt x="50" y="20825"/>
                </a:lnTo>
                <a:cubicBezTo>
                  <a:pt x="50" y="20839"/>
                  <a:pt x="39" y="20850"/>
                  <a:pt x="25" y="20850"/>
                </a:cubicBezTo>
                <a:cubicBezTo>
                  <a:pt x="12" y="20850"/>
                  <a:pt x="0" y="20839"/>
                  <a:pt x="0" y="20825"/>
                </a:cubicBezTo>
                <a:lnTo>
                  <a:pt x="0" y="20675"/>
                </a:lnTo>
                <a:cubicBezTo>
                  <a:pt x="0" y="20661"/>
                  <a:pt x="12" y="20650"/>
                  <a:pt x="25" y="20650"/>
                </a:cubicBezTo>
                <a:cubicBezTo>
                  <a:pt x="39" y="20650"/>
                  <a:pt x="50" y="20661"/>
                  <a:pt x="50" y="20675"/>
                </a:cubicBezTo>
                <a:close/>
                <a:moveTo>
                  <a:pt x="50" y="21025"/>
                </a:moveTo>
                <a:lnTo>
                  <a:pt x="50" y="21175"/>
                </a:lnTo>
                <a:cubicBezTo>
                  <a:pt x="50" y="21189"/>
                  <a:pt x="39" y="21200"/>
                  <a:pt x="25" y="21200"/>
                </a:cubicBezTo>
                <a:cubicBezTo>
                  <a:pt x="12" y="21200"/>
                  <a:pt x="0" y="21189"/>
                  <a:pt x="0" y="21175"/>
                </a:cubicBezTo>
                <a:lnTo>
                  <a:pt x="0" y="21025"/>
                </a:lnTo>
                <a:cubicBezTo>
                  <a:pt x="0" y="21011"/>
                  <a:pt x="12" y="21000"/>
                  <a:pt x="25" y="21000"/>
                </a:cubicBezTo>
                <a:cubicBezTo>
                  <a:pt x="39" y="21000"/>
                  <a:pt x="50" y="21011"/>
                  <a:pt x="50" y="21025"/>
                </a:cubicBezTo>
                <a:close/>
                <a:moveTo>
                  <a:pt x="50" y="21375"/>
                </a:moveTo>
                <a:lnTo>
                  <a:pt x="50" y="21525"/>
                </a:lnTo>
                <a:cubicBezTo>
                  <a:pt x="50" y="21539"/>
                  <a:pt x="39" y="21550"/>
                  <a:pt x="25" y="21550"/>
                </a:cubicBezTo>
                <a:cubicBezTo>
                  <a:pt x="12" y="21550"/>
                  <a:pt x="0" y="21539"/>
                  <a:pt x="0" y="21525"/>
                </a:cubicBezTo>
                <a:lnTo>
                  <a:pt x="0" y="21375"/>
                </a:lnTo>
                <a:cubicBezTo>
                  <a:pt x="0" y="21361"/>
                  <a:pt x="12" y="21350"/>
                  <a:pt x="25" y="21350"/>
                </a:cubicBezTo>
                <a:cubicBezTo>
                  <a:pt x="39" y="21350"/>
                  <a:pt x="50" y="21361"/>
                  <a:pt x="50" y="21375"/>
                </a:cubicBezTo>
                <a:close/>
                <a:moveTo>
                  <a:pt x="50" y="21725"/>
                </a:moveTo>
                <a:lnTo>
                  <a:pt x="50" y="21875"/>
                </a:lnTo>
                <a:cubicBezTo>
                  <a:pt x="50" y="21889"/>
                  <a:pt x="39" y="21900"/>
                  <a:pt x="25" y="21900"/>
                </a:cubicBezTo>
                <a:cubicBezTo>
                  <a:pt x="12" y="21900"/>
                  <a:pt x="0" y="21889"/>
                  <a:pt x="0" y="21875"/>
                </a:cubicBezTo>
                <a:lnTo>
                  <a:pt x="0" y="21725"/>
                </a:lnTo>
                <a:cubicBezTo>
                  <a:pt x="0" y="21711"/>
                  <a:pt x="12" y="21700"/>
                  <a:pt x="25" y="21700"/>
                </a:cubicBezTo>
                <a:cubicBezTo>
                  <a:pt x="39" y="21700"/>
                  <a:pt x="50" y="21711"/>
                  <a:pt x="50" y="21725"/>
                </a:cubicBezTo>
                <a:close/>
                <a:moveTo>
                  <a:pt x="50" y="22075"/>
                </a:moveTo>
                <a:lnTo>
                  <a:pt x="50" y="22225"/>
                </a:lnTo>
                <a:cubicBezTo>
                  <a:pt x="50" y="22239"/>
                  <a:pt x="39" y="22250"/>
                  <a:pt x="25" y="22250"/>
                </a:cubicBezTo>
                <a:cubicBezTo>
                  <a:pt x="12" y="22250"/>
                  <a:pt x="0" y="22239"/>
                  <a:pt x="0" y="22225"/>
                </a:cubicBezTo>
                <a:lnTo>
                  <a:pt x="0" y="22075"/>
                </a:lnTo>
                <a:cubicBezTo>
                  <a:pt x="0" y="22061"/>
                  <a:pt x="12" y="22050"/>
                  <a:pt x="25" y="22050"/>
                </a:cubicBezTo>
                <a:cubicBezTo>
                  <a:pt x="39" y="22050"/>
                  <a:pt x="50" y="22061"/>
                  <a:pt x="50" y="22075"/>
                </a:cubicBezTo>
                <a:close/>
                <a:moveTo>
                  <a:pt x="50" y="22425"/>
                </a:moveTo>
                <a:lnTo>
                  <a:pt x="50" y="22575"/>
                </a:lnTo>
                <a:cubicBezTo>
                  <a:pt x="50" y="22589"/>
                  <a:pt x="39" y="22600"/>
                  <a:pt x="25" y="22600"/>
                </a:cubicBezTo>
                <a:cubicBezTo>
                  <a:pt x="12" y="22600"/>
                  <a:pt x="0" y="22589"/>
                  <a:pt x="0" y="22575"/>
                </a:cubicBezTo>
                <a:lnTo>
                  <a:pt x="0" y="22425"/>
                </a:lnTo>
                <a:cubicBezTo>
                  <a:pt x="0" y="22411"/>
                  <a:pt x="12" y="22400"/>
                  <a:pt x="25" y="22400"/>
                </a:cubicBezTo>
                <a:cubicBezTo>
                  <a:pt x="39" y="22400"/>
                  <a:pt x="50" y="22411"/>
                  <a:pt x="50" y="22425"/>
                </a:cubicBezTo>
                <a:close/>
                <a:moveTo>
                  <a:pt x="50" y="22775"/>
                </a:moveTo>
                <a:lnTo>
                  <a:pt x="50" y="22925"/>
                </a:lnTo>
                <a:cubicBezTo>
                  <a:pt x="50" y="22939"/>
                  <a:pt x="39" y="22950"/>
                  <a:pt x="25" y="22950"/>
                </a:cubicBezTo>
                <a:cubicBezTo>
                  <a:pt x="12" y="22950"/>
                  <a:pt x="0" y="22939"/>
                  <a:pt x="0" y="22925"/>
                </a:cubicBezTo>
                <a:lnTo>
                  <a:pt x="0" y="22775"/>
                </a:lnTo>
                <a:cubicBezTo>
                  <a:pt x="0" y="22761"/>
                  <a:pt x="12" y="22750"/>
                  <a:pt x="25" y="22750"/>
                </a:cubicBezTo>
                <a:cubicBezTo>
                  <a:pt x="39" y="22750"/>
                  <a:pt x="50" y="22761"/>
                  <a:pt x="50" y="22775"/>
                </a:cubicBezTo>
                <a:close/>
              </a:path>
            </a:pathLst>
          </a:custGeom>
          <a:solidFill>
            <a:srgbClr val="ff3300"/>
          </a:solidFill>
          <a:ln w="324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604680" y="801720"/>
            <a:ext cx="228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0360" y="1268280"/>
            <a:ext cx="360" cy="4392720"/>
            <a:chOff x="5940360" y="1268280"/>
            <a:chExt cx="360" cy="4392720"/>
          </a:xfrm>
        </p:grpSpPr>
        <p:sp>
          <p:nvSpPr>
            <p:cNvPr id="118" name="Line 8"/>
            <p:cNvSpPr/>
            <p:nvPr/>
          </p:nvSpPr>
          <p:spPr>
            <a:xfrm>
              <a:off x="5940360" y="1268280"/>
              <a:ext cx="0" cy="4392720"/>
            </a:xfrm>
            <a:prstGeom prst="line">
              <a:avLst/>
            </a:prstGeom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940360" y="1268280"/>
              <a:ext cx="360" cy="439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000" y="7621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219320" y="3581280"/>
            <a:ext cx="5257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6920" y="7650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932360" y="76500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规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-324000" y="278136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盛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859280" y="270828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煮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2278800" y="2708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花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284720" y="270828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种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562720" y="1828800"/>
            <a:ext cx="30477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71640" y="62064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364000" y="54936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继承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1908000" y="49417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一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780000" y="4941720"/>
            <a:ext cx="63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高兴的表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4952880"/>
            <a:ext cx="26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066680" y="19890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看着一盆盆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鲜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207360" y="19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8885880" y="52293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花"/>
          <p:cNvPicPr/>
          <p:nvPr/>
        </p:nvPicPr>
        <p:blipFill>
          <a:blip r:embed="rId2"/>
          <a:stretch/>
        </p:blipFill>
        <p:spPr>
          <a:xfrm>
            <a:off x="5472000" y="0"/>
            <a:ext cx="3672000" cy="2138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88000" y="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00720" y="1341360"/>
            <a:ext cx="368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育花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556000" y="256536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心地培育花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09480" y="4005360"/>
            <a:ext cx="900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十分用心地培育花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547640" y="422100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楷体_GB2312"/>
              </a:rPr>
              <a:t>十分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95280" y="5229360"/>
            <a:ext cx="907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)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心地培育花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42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5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