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D9D-A80D-4F52-836D-245747EB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E6D-FDAF-4540-8D90-58D1522B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357-8CE0-4C6D-B590-DDABDB5D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214-9D00-405C-93D3-70F961F2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26D8-7D9A-4283-8C43-16339ADF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F8B9-9F57-4634-8B48-6C06319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927-BCE5-4B57-9C72-7372E91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6300-C0AE-4203-BA4E-31094E6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65C7-2D2E-4374-B589-BDA390C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26E2-D739-43B8-801C-6AC4F6B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A774-99BA-41F0-8CDF-4DFFBE8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AD7-8204-498E-97D2-31C7B43F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CD87-F50E-4FFC-8EFD-FD8E746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1D7-CD14-4BD9-AD3B-ABBC924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5DCF-6978-4A39-BBB5-617F3870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0749-BF6A-4D2C-9A6D-2C3AE29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CDC-0B62-404E-AA4E-E7BE4D9B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5782-E717-4CC8-B096-47B0C6AA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3BAF-6C76-4D03-B39D-462605D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8B0EE-5C97-40E5-BFEA-7960C333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0071-ADBB-45D0-B385-D03DDBC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8F71-FF05-4F69-AFE5-A85A3F5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87C-1343-4402-AE30-D7E595A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74DE-DCAE-42EB-8FC3-0B460C31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BA75-0E9E-4C99-9372-75D7042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6E6F-F79D-4695-AC0E-059BE42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4218-57B6-4FBE-9D19-7704BBD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03B9-C09B-4B1B-BDC1-5F9F0B28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C7EF-0BF8-4918-B296-2489FE92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895A-EC9C-43D6-A532-44A67B8C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4CA-198F-4B76-BE91-F8E58F8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5A9-83CC-40E8-A55A-6B4B932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55E-3C83-4A60-931D-DB2360B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261-4A6B-4884-BFFD-04FC549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045-03DE-4AAD-B804-EAF94D9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FED-6450-4B5A-8120-6ABFDAA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BC09-F610-4411-ACA9-E6B261342E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C83B-2C17-4E44-B1E3-FAFC6C2D00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C5AB-6A4C-4B21-9078-9CA4F111E1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FBA-5A52-417A-8AAC-D97C2350111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0"/>
          <p:cNvSpPr/>
          <p:nvPr/>
        </p:nvSpPr>
        <p:spPr>
          <a:xfrm>
            <a:off x="2870280" y="521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结束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155880" y="4797360"/>
            <a:ext cx="1521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1ff"/>
                </a:solidFill>
                <a:latin typeface="Times New Roman"/>
                <a:ea typeface="华文行楷"/>
              </a:rPr>
              <a:t>布丰</a:t>
            </a:r>
            <a:r>
              <a:rPr b="0" lang="zh-CN" sz="2400" spc="-1" strike="noStrike">
                <a:solidFill>
                  <a:srgbClr val="ffc1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2"/>
          <a:srcRect l="0" t="0" r="0" b="4460"/>
          <a:stretch/>
        </p:blipFill>
        <p:spPr>
          <a:xfrm>
            <a:off x="2870280" y="1844640"/>
            <a:ext cx="6273720" cy="37465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343160" y="1190520"/>
            <a:ext cx="68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松鼠人教版课件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295280" y="8380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以致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259092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请你分别以“漂亮”、“驯良”、“乖巧”为中心描述一下右边小动物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9" descr="campus_lns_200210291202"/>
          <p:cNvPicPr/>
          <p:nvPr/>
        </p:nvPicPr>
        <p:blipFill>
          <a:blip r:embed="rId1"/>
          <a:stretch/>
        </p:blipFill>
        <p:spPr>
          <a:xfrm>
            <a:off x="4724280" y="3533760"/>
            <a:ext cx="4419720" cy="332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Dog-1"/>
          <p:cNvPicPr/>
          <p:nvPr/>
        </p:nvPicPr>
        <p:blipFill>
          <a:blip r:embed="rId2"/>
          <a:stretch/>
        </p:blipFill>
        <p:spPr>
          <a:xfrm>
            <a:off x="4724280" y="533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31" name="写作.mp3" descr=""/>
          <p:cNvPicPr/>
          <p:nvPr/>
        </p:nvPicPr>
        <p:blipFill>
          <a:blip r:embed="rId3"/>
          <a:stretch/>
        </p:blipFill>
        <p:spPr>
          <a:xfrm>
            <a:off x="2133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>
            <a:off x="9144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能读准并理解以下生字吗？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44432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驯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31968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矫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0922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蛰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219320" y="20415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ù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988360" y="204156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iǎ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877280" y="2041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h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909120" y="2955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苔 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573600" y="2041560"/>
            <a:ext cx="8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388640" y="204156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i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ǎ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23372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298656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97520" y="2863800"/>
            <a:ext cx="56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733440" y="2787480"/>
            <a:ext cx="157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 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7083000" y="5089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帽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1327320" y="49719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榛子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329832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榉实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520344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褐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7405920" y="492120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1341720" y="48448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310716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1"/>
          <p:cNvSpPr/>
          <p:nvPr/>
        </p:nvSpPr>
        <p:spPr>
          <a:xfrm>
            <a:off x="499932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42"/>
          <p:cNvSpPr/>
          <p:nvPr/>
        </p:nvSpPr>
        <p:spPr>
          <a:xfrm>
            <a:off x="7345440" y="425124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ī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3"/>
          <p:cNvSpPr/>
          <p:nvPr/>
        </p:nvSpPr>
        <p:spPr>
          <a:xfrm>
            <a:off x="1234800" y="425124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hē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3160080" y="4251240"/>
            <a:ext cx="7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ǔ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5"/>
          <p:cNvSpPr/>
          <p:nvPr/>
        </p:nvSpPr>
        <p:spPr>
          <a:xfrm>
            <a:off x="5078880" y="4251240"/>
            <a:ext cx="8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è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本文中的小松鼠有什么特点？</a:t>
            </a: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</a:t>
            </a:r>
            <a:r>
              <a:rPr b="0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请用一句简洁的话来概括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华文新魏"/>
                <a:ea typeface="华文新魏"/>
              </a:rPr>
              <a:t>课文是在哪些段落分别阐述这些特点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295280" y="83808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自由朗读课文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81" name="Picture 7" descr="吃果子的松鼠"/>
          <p:cNvPicPr/>
          <p:nvPr/>
        </p:nvPicPr>
        <p:blipFill>
          <a:blip r:embed="rId1"/>
          <a:stretch/>
        </p:blipFill>
        <p:spPr>
          <a:xfrm>
            <a:off x="5105520" y="4362480"/>
            <a:ext cx="3581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0610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漂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8954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乖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2133720" y="2027160"/>
            <a:ext cx="533160" cy="40388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92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949840" y="510372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生理特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经济价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825480" y="305892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松鼠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2895480" y="31701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驯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2590920" y="1189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讨人喜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4800600" y="2179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4800600" y="32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6"/>
          <p:cNvSpPr/>
          <p:nvPr/>
        </p:nvSpPr>
        <p:spPr>
          <a:xfrm>
            <a:off x="4724280" y="4160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4-5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4876920" y="52275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4876920" y="1189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9" descr="松鼠8"/>
          <p:cNvPicPr/>
          <p:nvPr/>
        </p:nvPicPr>
        <p:blipFill>
          <a:blip r:embed="rId1"/>
          <a:stretch/>
        </p:blipFill>
        <p:spPr>
          <a:xfrm>
            <a:off x="6400800" y="4871880"/>
            <a:ext cx="2286000" cy="1605240"/>
          </a:xfrm>
          <a:prstGeom prst="rect">
            <a:avLst/>
          </a:prstGeom>
          <a:ln w="0">
            <a:noFill/>
          </a:ln>
        </p:spPr>
      </p:pic>
      <p:sp>
        <p:nvSpPr>
          <p:cNvPr id="195" name="WordArt 40"/>
          <p:cNvSpPr txBox="1"/>
          <p:nvPr/>
        </p:nvSpPr>
        <p:spPr>
          <a:xfrm>
            <a:off x="533520" y="304920"/>
            <a:ext cx="1904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理清思路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1588320" y="21081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脸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清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79400" y="278748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眼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闪闪有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990720" y="3397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体</a:t>
            </a: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:    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矫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28920" y="4006800"/>
            <a:ext cx="13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肢： 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401920" y="4692600"/>
            <a:ext cx="1285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尾巴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帽缨形、美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908360" y="530208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吃相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坐着   用前爪送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6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203" name="WordArt 20"/>
          <p:cNvSpPr txBox="1"/>
          <p:nvPr/>
        </p:nvSpPr>
        <p:spPr>
          <a:xfrm>
            <a:off x="1523880" y="6858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漂亮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04" name="文本框 8194"/>
          <p:cNvSpPr/>
          <p:nvPr/>
        </p:nvSpPr>
        <p:spPr>
          <a:xfrm>
            <a:off x="1044720" y="177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1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>
            <a:off x="1295280" y="9144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感情的朗诵第二节 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3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219320" y="25146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读出松鼠的活泼可爱，讨人喜欢的语气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PTW_046"/>
          <p:cNvPicPr/>
          <p:nvPr/>
        </p:nvPicPr>
        <p:blipFill>
          <a:blip r:embed="rId1"/>
          <a:stretch/>
        </p:blipFill>
        <p:spPr>
          <a:xfrm>
            <a:off x="6934320" y="4737240"/>
            <a:ext cx="1981080" cy="18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287000" y="21495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活动范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-1828800" y="3139920"/>
            <a:ext cx="76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活动时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-1752480" y="413064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主食种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WordArt 12"/>
          <p:cNvSpPr txBox="1"/>
          <p:nvPr/>
        </p:nvSpPr>
        <p:spPr>
          <a:xfrm>
            <a:off x="1447920" y="685800"/>
            <a:ext cx="1904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驯良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114800" y="2209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林（不侵扰人类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191120" y="3168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夜晚（不骚扰人类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191120" y="4267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果实（不伤害人畜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9"/>
          <p:cNvSpPr txBox="1"/>
          <p:nvPr/>
        </p:nvSpPr>
        <p:spPr>
          <a:xfrm>
            <a:off x="1295280" y="76212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乖巧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523880" y="24382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62120" y="21337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通过什么来表现松鼠的乖巧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676520" y="335268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动作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676520" y="487692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筑窝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18" descr="冬天的松鼠"/>
          <p:cNvPicPr/>
          <p:nvPr/>
        </p:nvPicPr>
        <p:blipFill>
          <a:blip r:embed="rId1"/>
          <a:stretch/>
        </p:blipFill>
        <p:spPr>
          <a:xfrm>
            <a:off x="4343400" y="3276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0B5-4D2C-4D6F-8473-4F5B534939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5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