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breeze.wav" ContentType="audio/x-wav"/>
  <Override PartName="/ppt/media/image6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chimes.wav" ContentType="audio/x-wav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846-B89E-4A64-8840-667C6204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DB7-5D6F-4091-A1FA-FE99D5F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CB8-43BB-4F80-8A48-55599EF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56B-FD38-4778-95A3-EFE6D25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39E-264C-4219-9ED1-AE0A34CF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34C-3DB1-47D2-8E99-30E05BD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742-6318-496E-B2DC-BFD7F93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734-B67C-48BC-A24D-8C9DEA8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D67-04DE-466C-87DA-6C90CCB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A5E-A99E-4F85-8C46-A145977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FAD-6D0C-412E-A9B2-15CD01D8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AE7-8049-4864-B11C-67ED4077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652C4-63F4-455E-9DBB-FE923D6FBE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FA9E3-1805-4338-8504-9ABFB2B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4CD46-1D47-4787-A00A-CE47D747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7501-AE43-4DE8-BBB2-7C8751B3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C413E-B4B8-4B25-B350-BFCF68AE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A77AB-ED91-43C7-8E43-F6112043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B683B-73A0-4FC0-98D1-031E309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3F581-AFD4-4BF3-8AF9-DFCE704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1E89-BD21-44E9-8AFE-4492126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BC573-3BF1-4CF8-90E7-622AC54E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BEFA1-725D-4B6D-9FDD-C1C587C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6EC27-D7A7-4C5C-8577-FB28883820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76DD5-72D0-43D3-A0ED-260C3DC6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1140B-37EA-482E-9A7F-6B2C7C0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71684-8EA6-4228-B7AD-5F203ECA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7FE1F-B110-4C00-AFE0-3CD3D9EE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28DD1-17A4-4DC0-B320-31A1FD6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71401-FFC4-47CD-8DF4-83E64E8C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D9F66-EC24-4AC0-8631-0327AD3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C0FCC-93D6-4B5E-B47E-27338E99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1E2EF-277C-4A39-AC91-FCEE123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BF6EA-E257-4D75-A379-DA1B5BFB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2C4DF-69E1-450A-9FEF-17420B5A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FF5E5-FFC1-46E0-8C0C-1DF19FE1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E4E6-E9CA-4F59-8269-6DFFDD0211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2C1-73D3-4258-9E64-DB762F3010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361-98F3-48F4-83AF-81268B4042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4F2-AD1D-44AD-AEE1-304F306E53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hyperlink" Target="http://www.eeppt.com/moban/" TargetMode="External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1143000" y="2133720"/>
            <a:ext cx="71420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琥珀"/>
              </a:rPr>
              <a:t>上、下、前、后小学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琥珀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琥珀"/>
              </a:rPr>
              <a:t>课件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60" name="WordArt 8"/>
          <p:cNvSpPr txBox="1"/>
          <p:nvPr/>
        </p:nvSpPr>
        <p:spPr>
          <a:xfrm>
            <a:off x="685800" y="110952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位置</a:t>
            </a:r>
            <a:endParaRPr b="0" lang="en-US" sz="2800" spc="-1" strike="noStrike">
              <a:ln w="0">
                <a:noFill/>
              </a:ln>
              <a:solidFill>
                <a:srgbClr val="7030a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12"/>
          <p:cNvPicPr/>
          <p:nvPr/>
        </p:nvPicPr>
        <p:blipFill>
          <a:blip r:embed="rId1"/>
          <a:stretch/>
        </p:blipFill>
        <p:spPr>
          <a:xfrm>
            <a:off x="228600" y="169920"/>
            <a:ext cx="7696080" cy="59259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6"/>
          <p:cNvSpPr txBox="1"/>
          <p:nvPr/>
        </p:nvSpPr>
        <p:spPr>
          <a:xfrm>
            <a:off x="6095880" y="68580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6248520" y="213372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6172200" y="350532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6248520" y="495288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文本框 8196"/>
          <p:cNvSpPr/>
          <p:nvPr/>
        </p:nvSpPr>
        <p:spPr>
          <a:xfrm>
            <a:off x="990720" y="6248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13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7"/>
          <p:cNvSpPr txBox="1"/>
          <p:nvPr/>
        </p:nvSpPr>
        <p:spPr>
          <a:xfrm>
            <a:off x="380880" y="304920"/>
            <a:ext cx="7467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森林运动会开始啦！请将正确的答案圈起来。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6"/>
          <p:cNvSpPr txBox="1"/>
          <p:nvPr/>
        </p:nvSpPr>
        <p:spPr>
          <a:xfrm>
            <a:off x="685800" y="45720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拍手操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143000" y="15397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小手拍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拍拍，下拍拍，前拍拍，后拍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小手举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hs_saru1c"/>
          <p:cNvPicPr/>
          <p:nvPr/>
        </p:nvPicPr>
        <p:blipFill>
          <a:blip r:embed="rId3"/>
          <a:stretch/>
        </p:blipFill>
        <p:spPr>
          <a:xfrm>
            <a:off x="6705720" y="5335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92F9-C0D9-4375-9E21-944A8DBDBA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WordArt 5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4521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9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2"/>
          <p:cNvPicPr/>
          <p:nvPr/>
        </p:nvPicPr>
        <p:blipFill>
          <a:blip r:embed="rId16"/>
          <a:stretch/>
        </p:blipFill>
        <p:spPr>
          <a:xfrm>
            <a:off x="228600" y="22860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990720" y="533520"/>
            <a:ext cx="396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南京长江大桥</a:t>
            </a:r>
            <a:endParaRPr b="1" lang="en-US" sz="1800" spc="-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3"/>
          <p:cNvPicPr/>
          <p:nvPr/>
        </p:nvPicPr>
        <p:blipFill>
          <a:blip r:embed="rId2"/>
          <a:stretch/>
        </p:blipFill>
        <p:spPr>
          <a:xfrm>
            <a:off x="533520" y="4648320"/>
            <a:ext cx="1447560" cy="838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2256480" y="482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4"/>
          <p:cNvPicPr/>
          <p:nvPr/>
        </p:nvPicPr>
        <p:blipFill>
          <a:blip r:embed="rId3"/>
          <a:stretch/>
        </p:blipFill>
        <p:spPr>
          <a:xfrm>
            <a:off x="2743200" y="4648320"/>
            <a:ext cx="1419120" cy="868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4676400" y="48402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4"/>
          <p:cNvPicPr/>
          <p:nvPr/>
        </p:nvPicPr>
        <p:blipFill>
          <a:blip r:embed="rId4"/>
          <a:stretch/>
        </p:blipFill>
        <p:spPr>
          <a:xfrm>
            <a:off x="533520" y="5715000"/>
            <a:ext cx="1419120" cy="868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227232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3"/>
          <p:cNvPicPr/>
          <p:nvPr/>
        </p:nvPicPr>
        <p:blipFill>
          <a:blip r:embed="rId5"/>
          <a:stretch/>
        </p:blipFill>
        <p:spPr>
          <a:xfrm>
            <a:off x="2743200" y="5715000"/>
            <a:ext cx="1447920" cy="838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4692240" y="58672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1375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21388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6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上、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5"/>
          <p:cNvPicPr/>
          <p:nvPr/>
        </p:nvPicPr>
        <p:blipFill>
          <a:blip r:embed="rId2"/>
          <a:stretch/>
        </p:blipFill>
        <p:spPr>
          <a:xfrm>
            <a:off x="533520" y="4952880"/>
            <a:ext cx="164772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3079440" y="5121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上面有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上、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2256480" y="482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676400" y="48402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272320" y="586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692240" y="58672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（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1375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前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21388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后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6"/>
          <p:cNvPicPr/>
          <p:nvPr/>
        </p:nvPicPr>
        <p:blipFill>
          <a:blip r:embed="rId2"/>
          <a:stretch/>
        </p:blipFill>
        <p:spPr>
          <a:xfrm>
            <a:off x="457200" y="4648320"/>
            <a:ext cx="1600200" cy="761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3"/>
          <p:cNvPicPr/>
          <p:nvPr/>
        </p:nvPicPr>
        <p:blipFill>
          <a:blip r:embed="rId3"/>
          <a:stretch/>
        </p:blipFill>
        <p:spPr>
          <a:xfrm>
            <a:off x="2743200" y="4572000"/>
            <a:ext cx="150984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3"/>
          <p:cNvPicPr/>
          <p:nvPr/>
        </p:nvPicPr>
        <p:blipFill>
          <a:blip r:embed="rId4"/>
          <a:stretch/>
        </p:blipFill>
        <p:spPr>
          <a:xfrm>
            <a:off x="533520" y="5562720"/>
            <a:ext cx="15094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6"/>
          <p:cNvPicPr/>
          <p:nvPr/>
        </p:nvPicPr>
        <p:blipFill>
          <a:blip r:embed="rId5"/>
          <a:stretch/>
        </p:blipFill>
        <p:spPr>
          <a:xfrm>
            <a:off x="2743200" y="5715000"/>
            <a:ext cx="1600200" cy="7621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20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前、后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文本框 8196"/>
          <p:cNvSpPr/>
          <p:nvPr/>
        </p:nvSpPr>
        <p:spPr>
          <a:xfrm>
            <a:off x="1295280" y="64771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2883960" y="5148360"/>
            <a:ext cx="30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前面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7"/>
          <p:cNvPicPr/>
          <p:nvPr/>
        </p:nvPicPr>
        <p:blipFill>
          <a:blip r:embed="rId2"/>
          <a:stretch/>
        </p:blipFill>
        <p:spPr>
          <a:xfrm>
            <a:off x="533520" y="4876920"/>
            <a:ext cx="173808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3"/>
          <p:cNvPicPr/>
          <p:nvPr/>
        </p:nvPicPr>
        <p:blipFill>
          <a:blip r:embed="rId3"/>
          <a:stretch/>
        </p:blipFill>
        <p:spPr>
          <a:xfrm>
            <a:off x="4343400" y="4724280"/>
            <a:ext cx="1509840" cy="838440"/>
          </a:xfrm>
          <a:prstGeom prst="rect">
            <a:avLst/>
          </a:prstGeom>
          <a:ln w="0">
            <a:noFill/>
          </a:ln>
        </p:spPr>
      </p:pic>
      <p:sp>
        <p:nvSpPr>
          <p:cNvPr id="204" name="WordArt 10"/>
          <p:cNvSpPr txBox="1"/>
          <p:nvPr/>
        </p:nvSpPr>
        <p:spPr>
          <a:xfrm>
            <a:off x="457200" y="22860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前、后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724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10"/>
          <p:cNvPicPr/>
          <p:nvPr/>
        </p:nvPicPr>
        <p:blipFill>
          <a:blip r:embed="rId2"/>
          <a:stretch/>
        </p:blipFill>
        <p:spPr>
          <a:xfrm>
            <a:off x="2514600" y="5029200"/>
            <a:ext cx="3948120" cy="140976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8196"/>
          <p:cNvSpPr/>
          <p:nvPr/>
        </p:nvSpPr>
        <p:spPr>
          <a:xfrm>
            <a:off x="1371600" y="64008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47246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2362320" y="5257800"/>
            <a:ext cx="4495680" cy="1295280"/>
          </a:xfrm>
          <a:prstGeom prst="wedgeEllipseCallout">
            <a:avLst>
              <a:gd name="adj1" fmla="val -21611"/>
              <a:gd name="adj2" fmla="val 35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531960" y="5537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说清楚谁在谁的上面，谁在谁的下面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谁在谁的前面，谁在谁的后面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2012011410371713"/>
          <p:cNvPicPr/>
          <p:nvPr/>
        </p:nvPicPr>
        <p:blipFill>
          <a:blip r:embed="rId2"/>
          <a:stretch/>
        </p:blipFill>
        <p:spPr>
          <a:xfrm>
            <a:off x="30492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11"/>
          <p:cNvPicPr/>
          <p:nvPr/>
        </p:nvPicPr>
        <p:blipFill>
          <a:blip r:embed="rId1"/>
          <a:stretch/>
        </p:blipFill>
        <p:spPr>
          <a:xfrm>
            <a:off x="152280" y="169920"/>
            <a:ext cx="8610840" cy="5545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427000" y="1219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579640" y="441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06:34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0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