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DD36-8E24-437C-AFFB-004F64BE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3A00-31D5-45AF-873C-DF6207CA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031C-E3A7-4D30-B795-E4FAE926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EF34-C615-4857-8516-6A669046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DF13-1964-4ACB-B984-5BC43682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D787-35AF-4EFB-805E-BB296F7A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3AA6-56D9-49F8-B2DA-9528CAC8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F7A6-D05E-4F8B-8B35-4374E3AE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5429-E1F2-4C0B-892E-70DEA28A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14B9-334B-482B-81B0-7BE57F5E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56F7-6532-47CE-8DB3-B9C4DDE4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741-9245-4A15-8DFA-4CE9704B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8017-7307-4A2D-8B3B-5445868E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C7BF-3892-428E-AC09-A6E7C1D4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C393-1D03-42D5-93D3-0E4D53C7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4DEE-3F3A-4F72-8DD1-F59D4C40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E2B9-54F7-43A6-AF33-E1137921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425-5F50-4703-A1B2-232C9F4B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0E8A-BC1C-45F8-866C-ADA1D8ED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6C1-98E1-4035-9A7D-3682B50E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3082-CECA-42F5-9381-B9066A51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1D92-F4AF-47F9-8DD6-5433E4DC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3C5-B47C-4DE6-8145-785716C9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E280-D45D-4F36-A615-290C747C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1F0F-1757-4046-AA29-B587FFBE6C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8705-E2FE-4BF8-BEFE-FB3825E6CC9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A693-B1F0-409C-8758-7D1D5FD483F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755640" y="126828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11" descr="ato1k6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WordArt 12" descr=""/>
          <p:cNvPicPr/>
          <p:nvPr/>
        </p:nvPicPr>
        <p:blipFill>
          <a:blip r:embed="rId2"/>
          <a:stretch/>
        </p:blipFill>
        <p:spPr>
          <a:xfrm>
            <a:off x="1268280" y="1268280"/>
            <a:ext cx="6390000" cy="2143080"/>
          </a:xfrm>
          <a:prstGeom prst="rect">
            <a:avLst/>
          </a:prstGeom>
          <a:ln w="0">
            <a:noFill/>
          </a:ln>
        </p:spPr>
      </p:pic>
      <p:sp>
        <p:nvSpPr>
          <p:cNvPr id="88" name="WordArt 14"/>
          <p:cNvSpPr txBox="1"/>
          <p:nvPr/>
        </p:nvSpPr>
        <p:spPr>
          <a:xfrm>
            <a:off x="1441440" y="4149720"/>
            <a:ext cx="62596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幼圆"/>
              </a:rPr>
              <a:t>——</a:t>
            </a: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幼圆"/>
              </a:rPr>
              <a:t>《唐诗宋词元曲》（中国戏剧出版社）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8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9"/>
          <p:cNvSpPr/>
          <p:nvPr/>
        </p:nvSpPr>
        <p:spPr>
          <a:xfrm>
            <a:off x="5940360" y="1268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9" descr="213422Y2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30"/>
          <p:cNvSpPr/>
          <p:nvPr/>
        </p:nvSpPr>
        <p:spPr>
          <a:xfrm>
            <a:off x="950760" y="554040"/>
            <a:ext cx="700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031"/>
          <p:cNvSpPr/>
          <p:nvPr/>
        </p:nvSpPr>
        <p:spPr>
          <a:xfrm>
            <a:off x="324000" y="404640"/>
            <a:ext cx="828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宿新市徐公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宋）杨万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篱落疏疏一径深，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树头花落未成阴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儿童急走追黄蝶，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飞入菜花无处寻。</a:t>
            </a:r>
            <a:r>
              <a:rPr b="0" lang="zh-CN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213422Y2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2411280" y="1341360"/>
            <a:ext cx="52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在稀稀落落的篱笆旁，有一条小路伸向远方，路旁树上的花已经凋落了，而新叶却刚刚长出，还没有形成树阴。儿童们奔跑着，追扑翩翩飞舞的黄色的蝴蝶，可是黄色的蝴蝶飞到黄色的菜花丛中，孩子们再也分不清、找不到它们了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WordArt 10"/>
          <p:cNvSpPr txBox="1"/>
          <p:nvPr/>
        </p:nvSpPr>
        <p:spPr>
          <a:xfrm>
            <a:off x="684360" y="476280"/>
            <a:ext cx="165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幼圆"/>
              </a:rPr>
              <a:t>译文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03" name="文本框 8200"/>
          <p:cNvSpPr/>
          <p:nvPr/>
        </p:nvSpPr>
        <p:spPr>
          <a:xfrm>
            <a:off x="3132000" y="6922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13422Y2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2195640" y="981000"/>
            <a:ext cx="56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作者运用白描的手法，把景物与人物融为一体，描绘了一幅动静结合的画面，极富生活情趣，作者的喜悦之情也尽在对景物、人物的描写之中。 此诗一方面描绘了乡村幽静旖旎的风光，另一方面写出了农村儿童活泼可爱、顽皮天真的情趣。在这首诗的字里行间，洋溢着诗人对农家安逸生活的陶醉，也透出了诗人内心被天真烂漫的儿童所撩起的片片童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250920" y="189000"/>
            <a:ext cx="154620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幼圆"/>
              </a:rPr>
              <a:t>简析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幼圆"/>
              <a:ea typeface="幼圆"/>
            </a:endParaRPr>
          </a:p>
        </p:txBody>
      </p:sp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13422Y2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187280" y="62064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547640" y="836640"/>
            <a:ext cx="61214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Arial"/>
              </a:rPr>
              <a:t>名句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儿童急走追黄蝶，飞入菜花无处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此句描绘儿童捕蝶的欢乐场面。“急走”、“追”是快速奔跑追逐的意思。这两个动词十分形象贴切，将儿童的天真活泼、好奇好胜的神态和心理刻画得维妙维肖，跃然纸上。而“飞入菜花无处寻”则将活动的镜头突然转为静止。“无处寻”三字给读者留下想象回味的余地，仿佛我们面前又浮现出一个面对一片金黄菜花挠头犹豫、不知所措的儿童。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213422Y2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395280" y="476280"/>
            <a:ext cx="59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8" descr="20085417325845"/>
          <p:cNvPicPr/>
          <p:nvPr/>
        </p:nvPicPr>
        <p:blipFill>
          <a:blip r:embed="rId2"/>
          <a:stretch/>
        </p:blipFill>
        <p:spPr>
          <a:xfrm>
            <a:off x="5219640" y="189000"/>
            <a:ext cx="3557520" cy="546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200622116143541"/>
          <p:cNvPicPr/>
          <p:nvPr/>
        </p:nvPicPr>
        <p:blipFill>
          <a:blip r:embed="rId3"/>
          <a:stretch/>
        </p:blipFill>
        <p:spPr>
          <a:xfrm>
            <a:off x="250920" y="692280"/>
            <a:ext cx="4762440" cy="3333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4191-40C6-4175-AC12-8A6DAA33F1D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3bb22487751d9804c65cc3d9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9"/>
          <p:cNvSpPr txBox="1"/>
          <p:nvPr/>
        </p:nvSpPr>
        <p:spPr>
          <a:xfrm>
            <a:off x="3059280" y="1557360"/>
            <a:ext cx="26650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幼圆"/>
              </a:rPr>
              <a:t>完</a:t>
            </a:r>
            <a:endParaRPr b="1" lang="en-US" sz="96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7093080" y="6461280"/>
            <a:ext cx="22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  徐慧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7:15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52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