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chimes.wav" ContentType="audio/x-wav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7B3-EE3E-4B68-84F3-9F563A91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43F-A6EE-47B0-BD05-85271767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78D2-6350-4A79-8238-0C26F182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249-2095-4DB2-98F1-022259F6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AE34-D2D1-4B66-8B9B-518890A2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5137-62F1-4ABE-8A33-185692CD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3E34-39D1-49EC-B4C4-879F15B0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A9E3-CEC3-4E10-930E-C8A8CDCE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60D0-23BB-4474-A774-B1866662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DDF7-2E51-4F53-B18C-E9BB746F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5CB4-1448-4100-AACB-86C190DB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883-022E-400E-A57C-B3BDFC4B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154B-9E85-4553-B5B9-0B4A66A2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7F85-140C-406C-8691-28CCCEF1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34E5-C37A-4210-9D16-F977B828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74AF-00EA-4052-B792-979FA19F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8960-B958-4797-BF1D-CDCF530D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377-8170-4A71-8992-85BC30E2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25F2-2DF4-42E7-842F-6FD9D9F4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610F-AA09-4740-AF65-E9E97270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AA9-D738-4C21-9FA5-020C2FE7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D16-3BD4-41F3-BF5F-F2FFE06C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2BF-2E13-4616-A576-095C66FB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548-BDCC-4C59-A017-929530EA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0189-6301-417C-A0F6-20CA0AEE0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D616-0508-45BD-A74A-48766FA01B6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9142-71EA-4D71-9121-48EF39F684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26" descr="10103359_985979"/>
          <p:cNvPicPr/>
          <p:nvPr/>
        </p:nvPicPr>
        <p:blipFill>
          <a:blip r:embed="rId1"/>
          <a:stretch/>
        </p:blipFill>
        <p:spPr>
          <a:xfrm>
            <a:off x="0" y="0"/>
            <a:ext cx="7093080" cy="6867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28"/>
          <p:cNvSpPr/>
          <p:nvPr/>
        </p:nvSpPr>
        <p:spPr>
          <a:xfrm>
            <a:off x="2744640" y="0"/>
            <a:ext cx="459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9"/>
          <p:cNvSpPr/>
          <p:nvPr/>
        </p:nvSpPr>
        <p:spPr>
          <a:xfrm>
            <a:off x="826920" y="341784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32"/>
          <p:cNvSpPr/>
          <p:nvPr/>
        </p:nvSpPr>
        <p:spPr>
          <a:xfrm>
            <a:off x="1332000" y="692280"/>
            <a:ext cx="17272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033"/>
          <p:cNvSpPr/>
          <p:nvPr/>
        </p:nvSpPr>
        <p:spPr>
          <a:xfrm>
            <a:off x="1332000" y="765000"/>
            <a:ext cx="165564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34"/>
          <p:cNvSpPr/>
          <p:nvPr/>
        </p:nvSpPr>
        <p:spPr>
          <a:xfrm>
            <a:off x="1042920" y="476280"/>
            <a:ext cx="2233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文本框 2" descr=""/>
          <p:cNvPicPr/>
          <p:nvPr/>
        </p:nvPicPr>
        <p:blipFill>
          <a:blip r:embed="rId2"/>
          <a:stretch/>
        </p:blipFill>
        <p:spPr>
          <a:xfrm>
            <a:off x="1116000" y="825480"/>
            <a:ext cx="7272360" cy="701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990720" y="1600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447920" y="12193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8360" y="1341360"/>
            <a:ext cx="835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啊，多么明亮、多么美丽的世界呀！桃花笑红了脸，柳树摇着绿色的长辫子，小燕子叽叽喳喳地叫着 </a:t>
            </a: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Object 8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1295280" y="1600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桃花"/>
          <p:cNvPicPr/>
          <p:nvPr/>
        </p:nvPicPr>
        <p:blipFill>
          <a:blip r:embed="rId1"/>
          <a:stretch/>
        </p:blipFill>
        <p:spPr>
          <a:xfrm>
            <a:off x="1187280" y="333360"/>
            <a:ext cx="6913800" cy="4967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2268360" y="5516640"/>
            <a:ext cx="48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华文仿宋"/>
              </a:rPr>
              <a:t>桃花笑红了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1295280" y="1600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692360" y="52293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763640" y="5589720"/>
            <a:ext cx="61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华文仿宋"/>
              </a:rPr>
              <a:t>柳树摇着绿色的长辫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柳树"/>
          <p:cNvPicPr/>
          <p:nvPr/>
        </p:nvPicPr>
        <p:blipFill>
          <a:blip r:embed="rId1"/>
          <a:stretch/>
        </p:blipFill>
        <p:spPr>
          <a:xfrm>
            <a:off x="1187280" y="333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1295280" y="1600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979640" y="580536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小燕子叽叽喳喳地叫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燕子"/>
          <p:cNvPicPr/>
          <p:nvPr/>
        </p:nvPicPr>
        <p:blipFill>
          <a:blip r:embed="rId1"/>
          <a:stretch/>
        </p:blipFill>
        <p:spPr>
          <a:xfrm>
            <a:off x="1187280" y="333360"/>
            <a:ext cx="70567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990720" y="1600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447920" y="12193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341360"/>
            <a:ext cx="835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啊，多么明亮、多么美丽的世界呀！桃花笑红了脸，柳树摇着绿色的长辫子，小燕子叽叽喳喳地叫着 </a:t>
            </a: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Object 5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1295280" y="1600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476360" y="1341360"/>
            <a:ext cx="61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11280" y="1341360"/>
            <a:ext cx="8064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笋芽儿</a:t>
            </a:r>
            <a:r>
              <a:rPr b="0" lang="zh-CN" sz="4800" spc="-1" strike="noStrike">
                <a:solidFill>
                  <a:srgbClr val="ff3300"/>
                </a:solidFill>
                <a:latin typeface="楷体"/>
                <a:ea typeface="楷体"/>
              </a:rPr>
              <a:t>看看这儿，看看那儿，怎么也看不够。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她高兴地说</a:t>
            </a: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0" lang="zh-CN" sz="4800" spc="-1" strike="noStrike">
                <a:solidFill>
                  <a:srgbClr val="ff0066"/>
                </a:solidFill>
                <a:latin typeface="楷体"/>
                <a:ea typeface="楷体"/>
              </a:rPr>
              <a:t>多美好的春光啊！我要快快长大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！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Object 8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295280" y="1600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11280" y="907920"/>
            <a:ext cx="806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66"/>
                </a:solidFill>
                <a:latin typeface="楷体"/>
                <a:ea typeface="楷体"/>
              </a:rPr>
              <a:t>笋芽儿终于钻出了地面。她睁开眼睛一看，啊，多么明亮、多么美丽的世界呀！桃花笑红了脸，柳树摇着绿色的长辫子，小燕子叽叽喳喳地叫着 </a:t>
            </a:r>
            <a:r>
              <a:rPr b="0" lang="en-US" sz="3600" spc="-1" strike="noStrike">
                <a:solidFill>
                  <a:srgbClr val="000066"/>
                </a:solidFill>
                <a:latin typeface="楷体"/>
                <a:ea typeface="楷体"/>
              </a:rPr>
              <a:t>……</a:t>
            </a:r>
            <a:r>
              <a:rPr b="0" lang="zh-CN" sz="3600" spc="-1" strike="noStrike">
                <a:solidFill>
                  <a:srgbClr val="000066"/>
                </a:solidFill>
                <a:latin typeface="楷体"/>
                <a:ea typeface="楷体"/>
              </a:rPr>
              <a:t>笋芽儿看看这儿，看看那儿，怎么也看不够。她高兴地说</a:t>
            </a:r>
            <a:r>
              <a:rPr b="0" lang="en-US" sz="3600" spc="-1" strike="noStrike">
                <a:solidFill>
                  <a:srgbClr val="000066"/>
                </a:solidFill>
                <a:latin typeface="楷体"/>
                <a:ea typeface="楷体"/>
              </a:rPr>
              <a:t>:“</a:t>
            </a:r>
            <a:r>
              <a:rPr b="0" lang="zh-CN" sz="3600" spc="-1" strike="noStrike">
                <a:solidFill>
                  <a:srgbClr val="000066"/>
                </a:solidFill>
                <a:latin typeface="楷体"/>
                <a:ea typeface="楷体"/>
              </a:rPr>
              <a:t>多美好的春光啊！我要快快长大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Object 7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3" descr="566666666666666666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2247840" y="2282760"/>
            <a:ext cx="41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684360" y="112536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春雨姑娘爱抚着她</a:t>
            </a:r>
            <a:r>
              <a:rPr b="0" lang="en-US" sz="5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滋润着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太阳公公照射着她</a:t>
            </a:r>
            <a:r>
              <a:rPr b="0" lang="en-US" sz="5400" spc="-1" strike="noStrike">
                <a:solidFill>
                  <a:srgbClr val="000000"/>
                </a:solidFill>
                <a:latin typeface="楷体"/>
                <a:ea typeface="楷体"/>
              </a:rPr>
              <a:t>,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温暖着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826920" y="1484280"/>
            <a:ext cx="77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"/>
              </a:rPr>
              <a:t>笋芽儿脱下一件件衣服，长成了一株健壮的竹子。她站在山冈上，自豪地喊着：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"/>
              </a:rPr>
              <a:t>我长大啦！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492360" y="144288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"/>
              </a:rPr>
              <a:t>脱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58200" y="2162160"/>
            <a:ext cx="111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"/>
              </a:rPr>
              <a:t>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292720" y="281160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"/>
              </a:rPr>
              <a:t>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Object 9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1295280" y="1600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55640" y="1125360"/>
            <a:ext cx="7740720" cy="36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我想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"/>
                <a:ea typeface="楷体"/>
              </a:rPr>
              <a:t>（</a:t>
            </a:r>
            <a:r>
              <a:rPr b="1" lang="en-US" sz="3600" spc="-1" strike="noStrike">
                <a:solidFill>
                  <a:srgbClr val="000066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楷体"/>
                <a:ea typeface="楷体"/>
              </a:rPr>
              <a:t>）（    ）对笋芽儿说─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"/>
                <a:ea typeface="楷体"/>
              </a:rPr>
              <a:t>（</a:t>
            </a:r>
            <a:r>
              <a:rPr b="1" lang="en-US" sz="3600" spc="-1" strike="noStrike">
                <a:solidFill>
                  <a:srgbClr val="000066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楷体"/>
                <a:ea typeface="楷体"/>
              </a:rPr>
              <a:t>） 笋芽儿对（   ）说─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"/>
                <a:ea typeface="楷体"/>
              </a:rPr>
              <a:t>（</a:t>
            </a:r>
            <a:r>
              <a:rPr b="1" lang="en-US" sz="3600" spc="-1" strike="noStrike">
                <a:solidFill>
                  <a:srgbClr val="000066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0066"/>
                </a:solidFill>
                <a:latin typeface="楷体"/>
                <a:ea typeface="楷体"/>
              </a:rPr>
              <a:t>）我想对笋芽儿说─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Object 7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1028" descr=""/>
          <p:cNvPicPr/>
          <p:nvPr/>
        </p:nvPicPr>
        <p:blipFill>
          <a:blip r:embed="rId1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26"/>
          <p:cNvSpPr/>
          <p:nvPr/>
        </p:nvSpPr>
        <p:spPr>
          <a:xfrm>
            <a:off x="755640" y="981000"/>
            <a:ext cx="79930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笋芽儿   呼唤   揉眼睛   漆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轰隆隆   扭动   向上钻   唠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辫子   爱抚   滋润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冈       自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027" descr="PE01605_"/>
          <p:cNvPicPr/>
          <p:nvPr/>
        </p:nvPicPr>
        <p:blipFill>
          <a:blip r:embed="rId2"/>
          <a:stretch/>
        </p:blipFill>
        <p:spPr>
          <a:xfrm>
            <a:off x="6657840" y="3429000"/>
            <a:ext cx="2486160" cy="3279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6F10-1D0B-4D71-9731-60D10C26D3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295280" y="1600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990720" y="1600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447920" y="12193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95480" y="112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332000" y="141300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84360" y="1052640"/>
            <a:ext cx="784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沙沙沙，沙沙沙，春雨姑娘在绿色的叶丛中弹奏着乐曲，低声呼唤着沉睡的笋芽儿：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笋芽儿，醒醒啊，春天来啦！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Object 10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26" descr="笋4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027"/>
          <p:cNvSpPr/>
          <p:nvPr/>
        </p:nvSpPr>
        <p:spPr>
          <a:xfrm>
            <a:off x="4572000" y="3124080"/>
            <a:ext cx="2666880" cy="18288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是谁在叫我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219320" y="152388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762120" y="19051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39640" y="17002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笋芽儿被叫醒了。她揉了揉眼睛，伸了伸懒腰，看看四周仍然一片漆黑，撒娇地说：“是谁在叫我呀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?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659640" y="17002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"/>
              </a:rPr>
              <a:t>揉了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195640" y="2379600"/>
            <a:ext cx="18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"/>
              </a:rPr>
              <a:t>伸了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6154560" y="3027240"/>
            <a:ext cx="72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"/>
              </a:rPr>
              <a:t>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Object 11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990720" y="1600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447920" y="12193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023840" y="112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84360" y="141300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"/>
              </a:rPr>
              <a:t>轰隆隆！轰隆隆！雷公公把藏了好久的打鼓重重地敲了起来。他用粗重的嗓音呼唤着笋芽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4500720" y="4437000"/>
            <a:ext cx="151128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4427640" y="4437000"/>
            <a:ext cx="1152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Object 14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826920" y="16286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"/>
              </a:rPr>
              <a:t>笋芽儿扭动着身子，一个劲儿地向上钻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067280" y="157788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"/>
              </a:rPr>
              <a:t>扭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53080" y="2443320"/>
            <a:ext cx="11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"/>
              </a:rPr>
              <a:t>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Object 8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990720" y="1600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619280" y="407664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9640" y="1557360"/>
            <a:ext cx="813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楷体"/>
              </a:rPr>
              <a:t>妈妈见了，忙给笋芽儿穿上一件又一件衣服，还不停地唠叨：</a:t>
            </a:r>
            <a:r>
              <a:rPr b="0" lang="zh-CN" sz="4800" spc="-1" strike="noStrike">
                <a:solidFill>
                  <a:srgbClr val="000066"/>
                </a:solidFill>
                <a:latin typeface="楷体"/>
                <a:ea typeface="楷体"/>
              </a:rPr>
              <a:t>“</a:t>
            </a: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楷体"/>
              </a:rPr>
              <a:t>千万别着凉！</a:t>
            </a:r>
            <a:r>
              <a:rPr b="0" lang="zh-CN" sz="4800" spc="-1" strike="noStrike">
                <a:solidFill>
                  <a:srgbClr val="000066"/>
                </a:solidFill>
                <a:latin typeface="楷体"/>
                <a:ea typeface="楷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Object 8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11280" y="981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笋芽儿终于钻出了地面。她睁开眼睛一看，啊，多么明亮、多么美丽的世界呀！桃花笑红了脸，柳树摇着绿色的长辫子，小燕子叽叽喳喳地叫着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笋芽儿看看这儿，看看那儿，怎么也看不够。她高兴地说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多美好的春光啊！我要快快长大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492360" y="981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6732720" y="981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476360" y="1557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284720" y="31478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看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979640" y="3147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看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3852720" y="3724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12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8200"/>
          <p:cNvSpPr/>
          <p:nvPr/>
        </p:nvSpPr>
        <p:spPr>
          <a:xfrm>
            <a:off x="1116000" y="494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09:12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02Z</dcterms:modified>
  <cp:revision>6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