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8C9-5E51-43CD-99B7-CE468208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866-B94A-4D6C-9AC4-891568E7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1A2-0D67-49E8-AD8A-058D058A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63B-F66E-40B9-8C83-BFA91D67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25DD-C4B3-4873-8F52-527621A0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713E-74B0-4C75-B908-DE4574F1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8D07-5C00-4A4B-ACF4-C1F6B669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0ED6-79A2-43EB-B7DF-7F185D1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91FF-DF7C-46CD-8022-0BA5BFE4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34F6-0F5D-47EB-B29C-23E98B63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20E9-DB89-4366-B304-37D0D6C5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FF4-ED3F-41B4-A5BD-51C0550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EC3F-80A6-4FB0-9FDA-FE06E2A6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0E91-C591-4C21-BAA9-CF75A4DC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2B56-2AFA-40BC-A1F5-3601002F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7B57-E3F8-49B4-A8C2-B8463B7D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D8AE-67A9-4E89-819D-EE525D2B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A88-7897-4878-B09F-44FB1E16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F75-1ED9-4461-A81E-31A21DC8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9D1-F3A4-4670-8B5A-1804E240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041-71F3-47B3-B74B-9E8D6E93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69B-42AC-4ECF-BC8F-537456F6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1CF-F9CB-4E6C-AE6A-4A23B474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AAB-524A-438B-952D-20DBDD9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FC32-4327-459F-ADED-65A4E43CC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8CD4-B0F6-478E-8FD9-173C3367B0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7BC-5E93-42BD-A5C3-C073D49566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TW_072"/>
          <p:cNvPicPr/>
          <p:nvPr/>
        </p:nvPicPr>
        <p:blipFill>
          <a:blip r:embed="rId1"/>
          <a:stretch/>
        </p:blipFill>
        <p:spPr>
          <a:xfrm>
            <a:off x="2057400" y="-247680"/>
            <a:ext cx="7086600" cy="7105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33520" y="1143000"/>
            <a:ext cx="76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狮子和鹿语文课件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TW_082"/>
          <p:cNvPicPr/>
          <p:nvPr/>
        </p:nvPicPr>
        <p:blipFill>
          <a:blip r:embed="rId2"/>
          <a:stretch/>
        </p:blipFill>
        <p:spPr>
          <a:xfrm>
            <a:off x="-181080" y="3213000"/>
            <a:ext cx="6458040" cy="40258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611280" y="0"/>
            <a:ext cx="7273800" cy="3213000"/>
          </a:xfrm>
          <a:prstGeom prst="wedgeEllipseCallout">
            <a:avLst>
              <a:gd name="adj1" fmla="val -6611"/>
              <a:gd name="adj2" fmla="val 666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2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79280" y="40464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！我的身段多么匀称，我的角多么精美别致，好像两束美丽的珊瑚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611280" y="0"/>
            <a:ext cx="7273800" cy="3213000"/>
          </a:xfrm>
          <a:prstGeom prst="wedgeEllipseCallout">
            <a:avLst>
              <a:gd name="adj1" fmla="val -6611"/>
              <a:gd name="adj2" fmla="val 666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2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79280" y="40464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！我的身段多么匀称，我的角多么精美别致，好像两束美丽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珊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44000" cy="5977080"/>
            <a:chOff x="0" y="0"/>
            <a:chExt cx="9144000" cy="5977080"/>
          </a:xfrm>
        </p:grpSpPr>
        <p:pic>
          <p:nvPicPr>
            <p:cNvPr id="141" name="Picture 3" descr="36a605a3067f2993cbefd0b8"/>
            <p:cNvPicPr/>
            <p:nvPr/>
          </p:nvPicPr>
          <p:blipFill>
            <a:blip r:embed="rId1"/>
            <a:stretch/>
          </p:blipFill>
          <p:spPr>
            <a:xfrm>
              <a:off x="4284720" y="0"/>
              <a:ext cx="4859280" cy="597708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pic>
          <p:nvPicPr>
            <p:cNvPr id="142" name="Picture 4" descr="2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4427640" cy="5950080"/>
            </a:xfrm>
            <a:prstGeom prst="rect">
              <a:avLst/>
            </a:prstGeom>
            <a:ln w="22320">
              <a:solidFill>
                <a:srgbClr val="ff0000"/>
              </a:solidFill>
              <a:miter/>
            </a:ln>
          </p:spPr>
        </p:pic>
      </p:grpSp>
      <p:sp>
        <p:nvSpPr>
          <p:cNvPr id="143" name="Text Box 5"/>
          <p:cNvSpPr/>
          <p:nvPr/>
        </p:nvSpPr>
        <p:spPr>
          <a:xfrm>
            <a:off x="755640" y="6084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鹿角                    珊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611280" y="0"/>
            <a:ext cx="7273800" cy="3213000"/>
          </a:xfrm>
          <a:prstGeom prst="wedgeEllipseCallout">
            <a:avLst>
              <a:gd name="adj1" fmla="val -6611"/>
              <a:gd name="adj2" fmla="val 6660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2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79280" y="40464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！我的身段多么匀称，我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精美别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好像两束美丽的珊瑚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3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5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48" name="AutoShape 3"/>
          <p:cNvSpPr/>
          <p:nvPr/>
        </p:nvSpPr>
        <p:spPr>
          <a:xfrm>
            <a:off x="468360" y="404640"/>
            <a:ext cx="2087640" cy="71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547640" y="3573360"/>
            <a:ext cx="2376720" cy="18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971640" y="4581360"/>
            <a:ext cx="1584360" cy="100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52280" y="114300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，这四条腿太细了，怎么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上这两只美丽的角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3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5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53" name="AutoShape 3"/>
          <p:cNvSpPr/>
          <p:nvPr/>
        </p:nvSpPr>
        <p:spPr>
          <a:xfrm>
            <a:off x="468360" y="404640"/>
            <a:ext cx="2087640" cy="71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547640" y="3573360"/>
            <a:ext cx="2376720" cy="18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971640" y="4581360"/>
            <a:ext cx="1584360" cy="100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4300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，这四条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细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怎么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上这两只美丽的角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3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5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58" name="AutoShape 3"/>
          <p:cNvSpPr/>
          <p:nvPr/>
        </p:nvSpPr>
        <p:spPr>
          <a:xfrm>
            <a:off x="468360" y="404640"/>
            <a:ext cx="2087640" cy="71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547640" y="3573360"/>
            <a:ext cx="2376720" cy="18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971640" y="4581360"/>
            <a:ext cx="1584360" cy="100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52280" y="114300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，这四条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细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怎么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上这两只美丽的角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15228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忽然看到了自己的腿，不禁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u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了嘴，皱起了眉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3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5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64" name="AutoShape 3"/>
          <p:cNvSpPr/>
          <p:nvPr/>
        </p:nvSpPr>
        <p:spPr>
          <a:xfrm>
            <a:off x="468360" y="404640"/>
            <a:ext cx="2087640" cy="71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547640" y="3573360"/>
            <a:ext cx="2376720" cy="18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971640" y="4581360"/>
            <a:ext cx="1584360" cy="100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52280" y="114300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唉，这四条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太细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怎么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上这两只美丽的角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0" y="15228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忽然看到了自己的腿，不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撅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u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了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皱起了眉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4343400" y="18288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抱怨</a:t>
            </a:r>
            <a:endParaRPr b="1" lang="en-US" sz="2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文本框 8200"/>
          <p:cNvSpPr/>
          <p:nvPr/>
        </p:nvSpPr>
        <p:spPr>
          <a:xfrm>
            <a:off x="2438280" y="83808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FR2070"/>
          <p:cNvPicPr/>
          <p:nvPr/>
        </p:nvPicPr>
        <p:blipFill>
          <a:blip r:embed="rId1"/>
          <a:stretch/>
        </p:blipFill>
        <p:spPr>
          <a:xfrm>
            <a:off x="685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28600" y="7621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我的身段是多么匀称，我的角多么精美别致，好像两束美丽的珊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357200" y="3505320"/>
            <a:ext cx="53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唉，这四条腿太细了，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配得上这两只美丽的角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FR2070"/>
          <p:cNvPicPr/>
          <p:nvPr/>
        </p:nvPicPr>
        <p:blipFill>
          <a:blip r:embed="rId1"/>
          <a:stretch/>
        </p:blipFill>
        <p:spPr>
          <a:xfrm>
            <a:off x="685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228600" y="7621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我的身段是多么匀称，我的角多么精美别致，好像两束美丽的珊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57200" y="3505320"/>
            <a:ext cx="534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唉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四条腿太细了，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配得上这两只美丽的角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95280" y="2421000"/>
            <a:ext cx="91440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2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900" spc="-1" strike="noStrike">
                <a:solidFill>
                  <a:srgbClr val="009999"/>
                </a:solidFill>
                <a:latin typeface="Arial"/>
                <a:ea typeface="楷体_GB2312"/>
              </a:rPr>
              <a:t>同学们好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4"/>
          <p:cNvGrpSpPr/>
          <p:nvPr/>
        </p:nvGrpSpPr>
        <p:grpSpPr>
          <a:xfrm>
            <a:off x="3809880" y="2060640"/>
            <a:ext cx="5549760" cy="1292040"/>
            <a:chOff x="3809880" y="2060640"/>
            <a:chExt cx="5549760" cy="1292040"/>
          </a:xfrm>
        </p:grpSpPr>
        <p:sp>
          <p:nvSpPr>
            <p:cNvPr id="181" name="AutoShape 5"/>
            <p:cNvSpPr/>
            <p:nvPr/>
          </p:nvSpPr>
          <p:spPr>
            <a:xfrm>
              <a:off x="3809880" y="2060640"/>
              <a:ext cx="5549760" cy="1292040"/>
            </a:xfrm>
            <a:prstGeom prst="cloudCallout">
              <a:avLst>
                <a:gd name="adj1" fmla="val -71837"/>
                <a:gd name="adj2" fmla="val -136490"/>
              </a:avLst>
            </a:prstGeom>
            <a:solidFill>
              <a:srgbClr val="85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咦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这是我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225680" y="210492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y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FR2070"/>
          <p:cNvPicPr/>
          <p:nvPr/>
        </p:nvPicPr>
        <p:blipFill>
          <a:blip r:embed="rId1"/>
          <a:stretch/>
        </p:blipFill>
        <p:spPr>
          <a:xfrm>
            <a:off x="6858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228600" y="5335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我的身段是多么匀称，我的角多么精美别致，好像两束美丽的珊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337400" y="2743200"/>
            <a:ext cx="487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唉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四条腿太细了，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配得上这两只美丽的角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007640" y="449568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咦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是我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39640" y="620640"/>
            <a:ext cx="820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32000" y="981000"/>
            <a:ext cx="1295280" cy="1440000"/>
          </a:xfrm>
          <a:custGeom>
            <a:avLst/>
            <a:gdLst>
              <a:gd name="textAreaLeft" fmla="*/ 297360 w 1295280"/>
              <a:gd name="textAreaRight" fmla="*/ 997920 w 1295280"/>
              <a:gd name="textAreaTop" fmla="*/ 330480 h 1440000"/>
              <a:gd name="textAreaBottom" fmla="*/ 1109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4920" y="360360"/>
            <a:ext cx="9217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美丽的角差点儿送了我的命，可四条难看的腿却让我狮口逃生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2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28600" y="-152280"/>
            <a:ext cx="86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开始抱怨起自己的腿来。就在他没精打采地准备离开的时候，忽然听到远处传来一阵脚步声。他机灵地支起耳朵，不错，正是脚步声！鹿猛一回头，哎呀，一头狮子正悄悄地向自己逼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80880" y="2549520"/>
            <a:ext cx="849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不敢犹豫，撒开长腿就跑。有力的长腿在灌木从中蹦来跳去，不一会儿，就把凶猛的狮子远远地甩在了后面。就在狮子灰心丧气不想再追的时候，鹿的角却被树枝挂住了。狮子赶紧抓住这个机会，猛扑过来。眼看就要追上了，鹿用尽全身力气，使劲一扯，才把两只角从树枝中挣脱出来，然后又拼命向前奔去。这次，狮子再也没有追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狮子2"/>
          <p:cNvPicPr/>
          <p:nvPr/>
        </p:nvPicPr>
        <p:blipFill>
          <a:blip r:embed="rId1"/>
          <a:stretch/>
        </p:blipFill>
        <p:spPr>
          <a:xfrm>
            <a:off x="7696080" y="5943600"/>
            <a:ext cx="1447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28600" y="-152280"/>
            <a:ext cx="86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开始抱怨起自己的腿来。就在他没精打采地准备离开的时候，忽然听到远处传来一阵脚步声。他机灵地支起耳朵，不错，正是脚步声！鹿猛一回头，哎呀，一头狮子正悄悄地向自己逼近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好险啊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0880" y="2549520"/>
            <a:ext cx="849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不敢犹豫，撒开长腿就跑。有力的长腿在灌木从中蹦来跳去，不一会儿，就把凶猛的狮子远远地甩在了后面。就在狮子灰心丧气不想再追的时候，鹿的角却被树枝挂住了。狮子赶紧抓住这个机会，猛扑过来。眼看就要追上了，鹿用尽全身力气，使劲一扯，才把两只角从树枝中挣脱出来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好险啊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又拼命向前奔去。这次，狮子再也没有追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狮子2"/>
          <p:cNvPicPr/>
          <p:nvPr/>
        </p:nvPicPr>
        <p:blipFill>
          <a:blip r:embed="rId1"/>
          <a:stretch/>
        </p:blipFill>
        <p:spPr>
          <a:xfrm>
            <a:off x="7696080" y="5943600"/>
            <a:ext cx="1447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539640" y="620640"/>
            <a:ext cx="820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332000" y="981000"/>
            <a:ext cx="1295280" cy="1440000"/>
          </a:xfrm>
          <a:custGeom>
            <a:avLst/>
            <a:gdLst>
              <a:gd name="textAreaLeft" fmla="*/ 297360 w 1295280"/>
              <a:gd name="textAreaRight" fmla="*/ 997920 w 1295280"/>
              <a:gd name="textAreaTop" fmla="*/ 330480 h 1440000"/>
              <a:gd name="textAreaBottom" fmla="*/ 1109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39840" y="152280"/>
            <a:ext cx="8804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叹了口气，说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角差点儿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送了我的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四条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难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腿却让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狮口逃生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2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9640" y="620640"/>
            <a:ext cx="820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395280" y="981000"/>
            <a:ext cx="2016000" cy="1295640"/>
          </a:xfrm>
          <a:custGeom>
            <a:avLst/>
            <a:gdLst>
              <a:gd name="textAreaLeft" fmla="*/ 295200 w 2016000"/>
              <a:gd name="textAreaRight" fmla="*/ 1720800 w 2016000"/>
              <a:gd name="textAreaTop" fmla="*/ 189720 h 1295640"/>
              <a:gd name="textAreaBottom" fmla="*/ 11059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续写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79280" y="1773360"/>
            <a:ext cx="865980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小鹿叹了口气，说：“两只美丽的角差点儿送了我的命，可四条难看的腿却让我狮口逃生！原来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——————————————————————————————————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———————————————————————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4067280" y="692280"/>
            <a:ext cx="3097080" cy="1296720"/>
          </a:xfrm>
          <a:prstGeom prst="cloudCallout">
            <a:avLst>
              <a:gd name="adj1" fmla="val -43078"/>
              <a:gd name="adj2" fmla="val 7056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924360" y="9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会拿起笔写一写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5405_1251738685n2pn"/>
          <p:cNvPicPr/>
          <p:nvPr/>
        </p:nvPicPr>
        <p:blipFill>
          <a:blip r:embed="rId1"/>
          <a:stretch/>
        </p:blipFill>
        <p:spPr>
          <a:xfrm>
            <a:off x="4495680" y="609480"/>
            <a:ext cx="4384800" cy="5319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0" y="685800"/>
            <a:ext cx="4267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龟兔赛跑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乌鸦喝水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狼来了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农夫和蛇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酸的和甜的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C008-A359-4414-8071-B49C974518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2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"/>
          <p:cNvSpPr/>
          <p:nvPr/>
        </p:nvSpPr>
        <p:spPr>
          <a:xfrm>
            <a:off x="1332000" y="549360"/>
            <a:ext cx="1295280" cy="1439640"/>
          </a:xfrm>
          <a:custGeom>
            <a:avLst/>
            <a:gdLst>
              <a:gd name="textAreaLeft" fmla="*/ 297360 w 1295280"/>
              <a:gd name="textAreaRight" fmla="*/ 997920 w 1295280"/>
              <a:gd name="textAreaTop" fmla="*/ 330480 h 1439640"/>
              <a:gd name="textAreaBottom" fmla="*/ 11091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42920" y="620640"/>
            <a:ext cx="70930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再见，小朋友们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寓言两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28600" y="55627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揠苗助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20100901-a4068e60"/>
          <p:cNvPicPr/>
          <p:nvPr/>
        </p:nvPicPr>
        <p:blipFill>
          <a:blip r:embed="rId1"/>
          <a:stretch/>
        </p:blipFill>
        <p:spPr>
          <a:xfrm>
            <a:off x="228600" y="114300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2008081522310432"/>
          <p:cNvPicPr/>
          <p:nvPr/>
        </p:nvPicPr>
        <p:blipFill>
          <a:blip r:embed="rId2"/>
          <a:stretch/>
        </p:blipFill>
        <p:spPr>
          <a:xfrm>
            <a:off x="4419720" y="762120"/>
            <a:ext cx="4419360" cy="487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4495680" y="55627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守株待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405_1251738685n2pn"/>
          <p:cNvPicPr/>
          <p:nvPr/>
        </p:nvPicPr>
        <p:blipFill>
          <a:blip r:embed="rId1"/>
          <a:stretch/>
        </p:blipFill>
        <p:spPr>
          <a:xfrm>
            <a:off x="4495680" y="609480"/>
            <a:ext cx="4384800" cy="531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57200" y="9907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伊索寓言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是一部世界上最早的寓言故事集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362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1218960"/>
            <a:ext cx="70866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阅读提示：</a:t>
            </a:r>
            <a:br>
              <a:rPr sz="4000"/>
            </a:b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、努力把课文读通、读顺，注意要把   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带有拼音的词语读准确。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、读完后想想课文讲了一件什么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9810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咦  珊瑚  抱怨  配得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逼近  犹豫  撅起嘴  凶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泛起波纹  挣脱  甩掉  使劲一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lnSpc>
                <a:spcPct val="9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765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219320" y="1066680"/>
            <a:ext cx="6781680" cy="7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90920" y="1371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hān 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876920" y="1371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u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219320" y="26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352680" y="2666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0958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553080" y="2666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i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6320" y="4038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f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74320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495680" y="4038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hu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anniu"/>
          <p:cNvPicPr/>
          <p:nvPr/>
        </p:nvPicPr>
        <p:blipFill>
          <a:blip r:embed="rId1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8"/>
          <p:cNvSpPr/>
          <p:nvPr/>
        </p:nvSpPr>
        <p:spPr>
          <a:xfrm>
            <a:off x="7924680" y="40384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4419720" y="2666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u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FR2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04920" y="2286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音字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66680" y="99072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752480" y="12952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352680" y="9907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匀称    称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352680" y="1828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称    称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887040" y="1317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04920" y="304812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963360" y="3375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175248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819520" y="3048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开长腿  撒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819520" y="3757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种  播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1828800" y="259092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468144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鹿口渴了，来到池塘边喝水。它非常（    ）自己那对美丽的角，却十分（     ）四条长得难看的腿。可就是那四条难看的长腿帮她（       ），而两只美丽的角差点儿让他（       ）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抱怨  欣赏 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送命  狮口逃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681800" cy="60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鹿口渴了，来到池塘边喝水。它非常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欣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己那对美丽的角，却十分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抱怨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四条长得难看的腿。可就是那四条难看的长腿帮她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狮口逃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而两只美丽的角差点儿让他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送命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抱怨  欣赏 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送命  狮口逃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09:37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7Z</dcterms:modified>
  <cp:revision>1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