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C5A-F78F-4598-96BA-794F6E2F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92F-1737-4FF3-B7BB-98341FB8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E42-5E9B-4620-9E07-5C38BCF3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49D-0390-4A9D-BAA1-F65CE51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595-7FC4-4F53-AD68-148C798C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4AC-B9AD-4BDF-99D1-D4194B0B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559-89C4-425C-9AB7-5CEF149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7C1B-BB38-44F2-9E8C-75A0868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C88C-3250-4D02-BE8D-6DD043B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CD6-01F9-4950-847B-12C5BFD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5ECE-7667-419A-92EC-23AA4A7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BCC-85FC-4985-9556-8F15EDD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169-C4C1-459A-8241-696D4F8D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9F5D-F986-4C79-9097-F64DC18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C994-79B5-4A41-B1E3-135EDE3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C46-099A-4CCF-81AC-DA7C612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ABD-F06D-40CF-AECA-7730E3B7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6C4E-4A96-419D-AD01-B5DCCE47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9087-F690-45DB-9559-30808C33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978E-CAA7-428E-9095-1639359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3448-7F8E-4C35-8808-C87C06E0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A19B-2DDB-41F7-BF96-81B6F101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145-6540-49D5-A3EC-6D904DD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6590-7FD8-4F64-99D4-04E179DD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C7F0-A6B1-4EEE-82A1-B459A82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0230-EA5F-4C52-9CD7-3956F1F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2655-B888-4DEE-AF2E-0E03CAD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2F2C-F8B9-4405-9DE6-CE0AA1F0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E97A-2DC5-43E1-B412-1968B6C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B92F-1C20-490C-94BD-8EB78EBC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D0E7B-912B-45B6-8869-98FBF439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321D-C717-4EED-81BD-11975B6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703F-4937-4112-B1B5-380F741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7ED-CEC3-43F3-B957-8578BEA4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F893-98C1-4DE7-8E6C-E819D64F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6644-C13A-4EBC-968C-F67778B3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E1E2-B3A0-499B-95EC-6BCB79A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7C25-A387-49AF-B534-D4241D0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405D-EC1C-4EE3-B1AE-511ED81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E368-6C92-46A8-A38D-4D07303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9340-1F6C-49ED-98BA-172F3B0A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65E1-3AA3-4625-8BAA-67EDE1C7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EF52-21FC-4E3B-BAA2-8F33E331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98DFA-85CA-46F9-98F9-F914A36B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8EB-6E2E-49B4-876E-2AEA0739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0A5A8-0D23-4A55-82E7-45FC8B32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9014F-F14D-4BE0-A4A3-C4D598F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30EFC-AD25-4D53-9A40-DC1AD400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E0614-C008-401A-8A6C-16CA85F1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A4101-53D2-448A-89CB-795C9CF0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13BD7-188E-439E-A6B0-CF6E3CC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5F861-DD07-4F59-8870-3E2EE38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D125F-0AA9-420A-B2AB-F235141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004AC-BAB3-49AB-9ECF-A7CE8841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4D5EE-1F26-44BF-BEE2-5D680FE5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C9E-5ABF-4580-837A-7D27545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08A48-759F-4780-B22A-5974684C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D2E4-45EB-464F-8859-EB19A69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FC70-492B-4A44-BDE9-DD717CE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85D1-12B4-49F5-8A68-335227A2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45C4E-E0FB-4D6E-ABF2-C83E6D2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5E07C-4A6C-49A7-B64E-796F228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AB4E-ACC0-4F40-B462-85CBEBD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328C-AF72-42B3-B4C2-A643AF0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DD5F-A1E0-4337-A46E-E40B6FB3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1D1E-F898-47CF-8995-0A8297F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EDE-CD68-46C7-A3D3-D57B126F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7043-25AD-4519-A522-09530F8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7A11-C946-472B-A6E0-162964D0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D48F-EB08-4C66-AE98-7147781C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E4E3-DA92-47D6-9D01-EF27A96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29DB-86EC-4014-9CF7-68D023FE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BE11-54B8-4C80-BDFE-B8E13785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7F73-666B-4834-9145-B2611D6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9687-99FA-403F-A415-31A5E65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053B1-82FA-4D17-8262-D9083F5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AFC3-8D83-4470-BC10-8F4154F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4A2-D158-4B52-ABB3-032FDA6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60B2-0F28-46F5-B6C0-C1247CA2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1C0E9-6BFA-4F4B-9A91-E00787B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16A33-3D55-419A-B9B9-FDCB8A5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9C01-0032-4684-AD36-9FF611FC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27EA7-DE5A-44F7-BA43-BA443400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0E3-03B7-4DE7-AC8F-5C78EA0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B1A7-DEC5-4AD0-AC13-8E72C391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64C5-ACE3-4089-AAB0-B347B926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80D1-1617-44FE-9649-3A8729EB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42E-8FCB-49B7-8FFE-FBCEF5BF31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B80D-542F-4C53-94CF-9BD202262C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602F-0FDA-422C-91D6-1D2BF2C0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249D-BB74-4081-9A8C-3DB7D1119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A43A-AE51-48B2-9B43-F0BB7B4B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8"/>
          <p:cNvSpPr/>
          <p:nvPr/>
        </p:nvSpPr>
        <p:spPr>
          <a:xfrm>
            <a:off x="468360" y="2852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ffcc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图片 1" descr=""/>
          <p:cNvPicPr/>
          <p:nvPr/>
        </p:nvPicPr>
        <p:blipFill>
          <a:blip r:embed="rId16"/>
          <a:srcRect l="0" t="0" r="0" b="4179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0" y="620640"/>
            <a:ext cx="91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通往广场的路不止一条语文课件</a:t>
            </a:r>
            <a:r>
              <a:rPr b="1" lang="en-US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方正稚艺简体"/>
                <a:ea typeface="方正稚艺简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　　课文讲了哪几件事？是哪几个自然段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-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登塔顶，受教诲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二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4-11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另辟鼷径，走出新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三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2-1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面对困难，再找出  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四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14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感谢父亲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生受用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文本框 8194"/>
          <p:cNvSpPr/>
          <p:nvPr/>
        </p:nvSpPr>
        <p:spPr>
          <a:xfrm>
            <a:off x="971640" y="38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410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脚底下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星罗棋布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的村庄</a:t>
            </a: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环抱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着罗马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如蛛网般交叉的街道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一条条通往城市广场</a:t>
            </a: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ABF-17B0-4451-B294-1DBEA111EB1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332000" y="549360"/>
            <a:ext cx="66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通往广场的路不止一条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生活也是这样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假如你发现走这条路不能到达目的地的话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宋体"/>
              </a:rPr>
              <a:t>就可以走另一条路试试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1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