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chimes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BDE-E6A0-45FF-BF57-4974C508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57C-0968-49F4-84D1-9742C79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E5C-953F-4C52-9BEE-4ECA6E1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335-2D19-46D2-973B-AD3ACE2B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FF0B-B7F3-454E-98BE-3C744ABC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3507-D0D3-4382-9951-67ADD848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B3F2-4505-483F-A60E-1A82FD5E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6F37-9FD4-43B6-B203-CB1D901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6448-3568-4677-A1D7-237F8E80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9BE-7F8D-4D66-A38C-41767A5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48DF-72B7-48FF-87B7-3DC38345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BA5-4670-4626-8D7B-892B067E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5C67-C5B8-4442-9E49-E85D68EF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38E7-2C44-4658-B42F-BAD174E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5272-B9FE-4977-8CC3-695C764E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F750-C80F-4B1E-A4E6-54D3D860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CD2B-888B-40E3-B4F3-816F7E2B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75BCD-51D5-4175-A20C-637B7571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B24E7-4BC2-4EAE-98AE-EC85D82A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73061-0201-47B0-80FB-337B5D37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7CBB2-E9B9-446D-9CC1-911449B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36EE-8C73-44D9-9652-F80C1795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962-EC75-4EC4-9128-F61DB3A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D043-6F2F-42C5-93DF-01C26084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173F-DCF5-45BB-BF52-209AE53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B950-CEE8-4720-BD54-C3C206B2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AEF6-94B7-4A5B-9927-82A53EFA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A3EE-33D7-4392-A0B3-174EFD71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1BE7-80A5-4A10-8F7C-FCCDBADF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296E-7124-4F1D-907F-73545492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B5F61-0E78-4064-92DB-B0AE1A90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9C9C-4DA6-4072-BAD2-BC660FBE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3617-41EE-4C0E-9448-C2C4A132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575-00AB-4507-ABAF-36D8AC05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6E5B-CD63-4F1E-87C3-C027D8F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C05E5-75BE-405B-A00C-3F66B57A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F75D-F850-4835-B947-1A73ED26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AF1FD-2B52-4834-960A-B16A63CC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9E45-14E6-4EA5-A80B-D5FD43F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2890-E3F0-483E-9757-31B3E82D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318CF-047E-4922-9121-51F6A26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B01B-DDD2-4E2D-8905-0CF8E5EA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E92F-A074-440C-AD28-7E338731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C59D2-9085-4910-9C8A-909B7C4B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E0B-0CA7-41C8-A56B-41206EEF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18FE-45CF-4D65-A645-848A2F9C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B3AD1-59E9-42DF-A607-A629E05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10CA-0E26-40FE-ACAF-D7DE096E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88CF-5E4A-4152-ADF6-80599942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FE406-C760-4458-9A73-358B80BF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E796-B1B9-4A7E-9E83-22B159B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F5F2-F74C-4AFA-BA77-C5A7F8E9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CB254-7E57-44EC-A3CC-5600FB90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8A9F-911F-42E9-95DC-DAAC6C2A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D4BF5-12ED-41D0-8020-80FBBFE5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CF6A-2B7A-4759-A411-D7E3D7F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D9442-46DD-400C-881F-AF7CD5A6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A64-462F-4157-869D-A23ED8DC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253-F81E-47C4-9B2D-E4A6973F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FA7-D048-416F-A765-01A003C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CD7-B397-4379-A145-72420542D4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9233-4401-4314-A1A2-2DF0DF84F8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332A-63B9-45B4-9F24-AE27294C3DD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924F-ECA4-4AFC-A29E-EF6BA3CD3A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D237-F25A-4D93-875A-A9EA567DA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19EC-3055-4484-9A7E-2E9A6E4BE670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-1,-1,NEXT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9,5,&#24187;&#28783;&#29255; 5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-1,-1,NEX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8,3,&#24187;&#28783;&#29255; 3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xlb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>
            <a:hlinkClick r:id="" action="ppaction://hlinkshowjump?jump=nextslide"/>
          </p:cNvPr>
          <p:cNvSpPr/>
          <p:nvPr/>
        </p:nvSpPr>
        <p:spPr>
          <a:xfrm>
            <a:off x="203040" y="622440"/>
            <a:ext cx="8637840" cy="785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2"/>
              </a:rPr>
              <a:t>题西林壁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语文古诗课件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PPT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模板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23880" y="1611360"/>
            <a:ext cx="61722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黑体"/>
                <a:hlinkClick r:id="rId1"/>
              </a:rPr>
              <a:t>侧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5435640" y="765000"/>
            <a:ext cx="1800360" cy="1079640"/>
          </a:xfrm>
          <a:prstGeom prst="cloudCallout">
            <a:avLst>
              <a:gd name="adj1" fmla="val -45236"/>
              <a:gd name="adj2" fmla="val 63384"/>
            </a:avLst>
          </a:prstGeom>
          <a:solidFill>
            <a:srgbClr val="ccff33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侧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523880" y="1611360"/>
            <a:ext cx="61722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黑体"/>
                <a:hlinkClick r:id="rId1"/>
              </a:rPr>
              <a:t>不 识 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5435640" y="765000"/>
            <a:ext cx="1800360" cy="1079640"/>
          </a:xfrm>
          <a:prstGeom prst="cloudCallout">
            <a:avLst>
              <a:gd name="adj1" fmla="val -45236"/>
              <a:gd name="adj2" fmla="val 63384"/>
            </a:avLst>
          </a:prstGeom>
          <a:solidFill>
            <a:srgbClr val="ccff33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宋体"/>
              </a:rPr>
              <a:t>侧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文本框 8200"/>
          <p:cNvSpPr/>
          <p:nvPr/>
        </p:nvSpPr>
        <p:spPr>
          <a:xfrm>
            <a:off x="1835280" y="630864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</a:t>
            </a:r>
            <a:r>
              <a:rPr b="1" lang="zh-CN" sz="48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</a:rPr>
              <a:t>识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 庐 山  真 </a:t>
            </a:r>
            <a:r>
              <a:rPr b="1" lang="zh-CN" sz="4800" spc="-1" strike="noStrike" u="sng">
                <a:solidFill>
                  <a:srgbClr val="cc6600"/>
                </a:solidFill>
                <a:uFillTx/>
                <a:latin typeface="Times New Roman"/>
                <a:ea typeface="黑体"/>
              </a:rPr>
              <a:t>面 目</a:t>
            </a: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2916360" y="2421000"/>
            <a:ext cx="2592360" cy="1295280"/>
          </a:xfrm>
          <a:prstGeom prst="cloudCallout">
            <a:avLst>
              <a:gd name="adj1" fmla="val -44611"/>
              <a:gd name="adj2" fmla="val 69976"/>
            </a:avLst>
          </a:prstGeom>
          <a:solidFill>
            <a:srgbClr val="ffff99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认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6732720" y="2205000"/>
            <a:ext cx="2087280" cy="1295280"/>
          </a:xfrm>
          <a:prstGeom prst="cloudCallout">
            <a:avLst>
              <a:gd name="adj1" fmla="val -88097"/>
              <a:gd name="adj2" fmla="val 69976"/>
            </a:avLst>
          </a:prstGeom>
          <a:solidFill>
            <a:srgbClr val="ffff99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面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7427880" y="3619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庐山所呈现的景象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523880" y="1611360"/>
            <a:ext cx="61722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黑体"/>
                <a:hlinkClick r:id="rId1"/>
              </a:rPr>
              <a:t>缘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843280" y="3716280"/>
            <a:ext cx="2016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cccc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因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523880" y="1611360"/>
            <a:ext cx="61722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黑体"/>
                <a:hlinkClick r:id="rId1"/>
              </a:rPr>
              <a:t>身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635280" y="3645000"/>
            <a:ext cx="2089080" cy="936360"/>
          </a:xfrm>
          <a:prstGeom prst="cloudCallout">
            <a:avLst>
              <a:gd name="adj1" fmla="val -42703"/>
              <a:gd name="adj2" fmla="val 89828"/>
            </a:avLst>
          </a:prstGeom>
          <a:solidFill>
            <a:srgbClr val="ffff99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自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724040" y="1197000"/>
            <a:ext cx="5496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黑体"/>
              </a:rPr>
              <a:t>从正面看庐山，山岭连绵起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黑体"/>
              </a:rPr>
              <a:t>伏，从侧面看，是巍然耸立的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黑体"/>
              </a:rPr>
              <a:t>峰，从远处、近处、高处、低处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黑体"/>
              </a:rPr>
              <a:t>看庐山，看到的景色各不相同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221"/>
                </a:solidFill>
                <a:latin typeface="Times New Roman"/>
                <a:ea typeface="黑体"/>
              </a:rPr>
              <a:t>认不清庐山的真面目，只因为自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221"/>
                </a:solidFill>
                <a:latin typeface="Times New Roman"/>
                <a:ea typeface="黑体"/>
              </a:rPr>
              <a:t>己在这座山当中，视野太窄了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468360" y="40464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</a:rPr>
              <a:t>诗的大意是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026"/>
          <p:cNvSpPr/>
          <p:nvPr/>
        </p:nvSpPr>
        <p:spPr>
          <a:xfrm>
            <a:off x="1835280" y="404640"/>
            <a:ext cx="56386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               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(</a:t>
            </a:r>
            <a:r>
              <a:rPr b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宋</a:t>
            </a:r>
            <a:r>
              <a:rPr b="1" lang="en-US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)</a:t>
            </a: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1"/>
              </a:rPr>
              <a:t>苏轼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1027"/>
          <p:cNvSpPr/>
          <p:nvPr/>
        </p:nvSpPr>
        <p:spPr>
          <a:xfrm>
            <a:off x="1547640" y="2565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5" name="1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020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6381720"/>
            <a:ext cx="647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1656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611280" y="134136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e65074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e65074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e65074"/>
                </a:solidFill>
                <a:latin typeface="Arial"/>
              </a:rPr>
              <a:t>）你认为怎样才能看清庐山的真面目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5074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e65074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e65074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e65074"/>
                </a:solidFill>
                <a:latin typeface="Arial"/>
              </a:rPr>
              <a:t>）“从不同角度观察，结果各不相同。”你碰到过这样的情况吗？举个例子说一说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B7B1-DF3E-4256-9FD6-9A1C1F87FB43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457200" y="709560"/>
            <a:ext cx="839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诗歌描写了（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572000" y="6858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从不同角度看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0" y="16286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山所看到的不同景象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5029200" y="1600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 </a:t>
            </a: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），</a:t>
            </a:r>
            <a:r>
              <a:rPr b="1" lang="zh-CN" sz="4400" spc="-1" strike="noStrike">
                <a:solidFill>
                  <a:srgbClr val="002221"/>
                </a:solidFill>
                <a:latin typeface="Times New Roman"/>
                <a:ea typeface="黑体"/>
              </a:rPr>
              <a:t>启发我们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304920" y="2438280"/>
            <a:ext cx="883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002221"/>
                </a:solidFill>
                <a:latin typeface="Times New Roman"/>
                <a:ea typeface="黑体"/>
              </a:rPr>
              <a:t>要想认识事物的本质，必须客观全面地把握，冷静地分析，才不会被局部的想象所迷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580000" y="3860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黑体"/>
              </a:rPr>
              <a:t>）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0" y="24382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7667640" y="6093000"/>
            <a:ext cx="865080" cy="459720"/>
          </a:xfrm>
          <a:prstGeom prst="rect">
            <a:avLst/>
          </a:prstGeom>
          <a:solidFill>
            <a:srgbClr val="cd5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395280" y="620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苏轼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(1037—1101)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字子瞻，号东坡居士，今四川眉山人，北宋著名文学家、书画家。他的诗、文、书、画都很专精，是“唐宋八大家”之一，与其父苏洵、其弟苏辙被合称“三苏”。他一生坎坷，屡遭贬谪，曾在杭州、密州、湖州、黄州、颍州任职。宋元丰七年（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1084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年），苏轼经过九江，游览庐山，瑰丽的山水触发逸兴壮思，于是写下了五首庐山记游诗。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题西林壁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是最后一首。西林寺创建于东晋年间，是庐山最古老的名刹之一，寺后有著名的唐建千佛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908000" y="692280"/>
            <a:ext cx="563904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1"/>
              </a:rPr>
              <a:t>题</a:t>
            </a: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547640" y="2565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26"/>
          <p:cNvSpPr/>
          <p:nvPr/>
        </p:nvSpPr>
        <p:spPr>
          <a:xfrm>
            <a:off x="1908000" y="69228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1027"/>
          <p:cNvSpPr/>
          <p:nvPr/>
        </p:nvSpPr>
        <p:spPr>
          <a:xfrm>
            <a:off x="1547640" y="2565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</a:t>
            </a:r>
            <a:r>
              <a:rPr b="1" lang="zh-CN" sz="4800" spc="-1" strike="noStrike">
                <a:solidFill>
                  <a:srgbClr val="00ffff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AutoShape 1028"/>
          <p:cNvSpPr/>
          <p:nvPr/>
        </p:nvSpPr>
        <p:spPr>
          <a:xfrm>
            <a:off x="2987640" y="0"/>
            <a:ext cx="3456000" cy="1125360"/>
          </a:xfrm>
          <a:prstGeom prst="cloudCallout">
            <a:avLst>
              <a:gd name="adj1" fmla="val -46097"/>
              <a:gd name="adj2" fmla="val 65375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书写，题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026"/>
          <p:cNvSpPr/>
          <p:nvPr/>
        </p:nvSpPr>
        <p:spPr>
          <a:xfrm>
            <a:off x="1908000" y="692280"/>
            <a:ext cx="563904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</a:t>
            </a:r>
            <a:r>
              <a:rPr b="0" lang="zh-CN" sz="8800" spc="-1" strike="noStrike" u="sng">
                <a:solidFill>
                  <a:srgbClr val="dc5900"/>
                </a:solidFill>
                <a:uFillTx/>
                <a:latin typeface="Times New Roman"/>
                <a:ea typeface="隶书"/>
                <a:hlinkClick r:id="rId1"/>
              </a:rPr>
              <a:t>西林</a:t>
            </a: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1547640" y="2565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026"/>
          <p:cNvSpPr/>
          <p:nvPr/>
        </p:nvSpPr>
        <p:spPr>
          <a:xfrm>
            <a:off x="1908000" y="69228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1027"/>
          <p:cNvSpPr/>
          <p:nvPr/>
        </p:nvSpPr>
        <p:spPr>
          <a:xfrm>
            <a:off x="1547640" y="2565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AutoShape 1028"/>
          <p:cNvSpPr/>
          <p:nvPr/>
        </p:nvSpPr>
        <p:spPr>
          <a:xfrm>
            <a:off x="5076720" y="0"/>
            <a:ext cx="4067280" cy="1413000"/>
          </a:xfrm>
          <a:prstGeom prst="cloudCallout">
            <a:avLst>
              <a:gd name="adj1" fmla="val -52300"/>
              <a:gd name="adj2" fmla="val 42921"/>
            </a:avLst>
          </a:prstGeom>
          <a:solidFill>
            <a:srgbClr val="ebf7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221"/>
                </a:solidFill>
                <a:latin typeface="Arial"/>
              </a:rPr>
              <a:t>西林寺，在江西庐山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026"/>
          <p:cNvSpPr/>
          <p:nvPr/>
        </p:nvSpPr>
        <p:spPr>
          <a:xfrm>
            <a:off x="1908000" y="69228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027"/>
          <p:cNvSpPr/>
          <p:nvPr/>
        </p:nvSpPr>
        <p:spPr>
          <a:xfrm>
            <a:off x="1547640" y="2565360"/>
            <a:ext cx="617220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c5900"/>
                </a:solidFill>
                <a:uFillTx/>
                <a:latin typeface="Times New Roman"/>
                <a:ea typeface="黑体"/>
                <a:hlinkClick r:id="rId1"/>
              </a:rPr>
              <a:t>横 看 </a:t>
            </a: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2438280" y="0"/>
            <a:ext cx="5639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ff"/>
                </a:solidFill>
                <a:latin typeface="Times New Roman"/>
                <a:ea typeface="隶书"/>
              </a:rPr>
              <a:t>题西林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523880" y="1611360"/>
            <a:ext cx="6172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ff"/>
                </a:solidFill>
                <a:latin typeface="Times New Roman"/>
                <a:ea typeface="黑体"/>
              </a:rPr>
              <a:t>横 看 成 岭  侧 成 峰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221"/>
                </a:solidFill>
                <a:latin typeface="Times New Roman"/>
                <a:ea typeface="黑体"/>
              </a:rPr>
              <a:t>远 近 高 低  各 不 同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黑体"/>
              </a:rPr>
              <a:t>不 识 庐 山  真 面 目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只 缘 身 在  此 山 中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2916360" y="549360"/>
            <a:ext cx="3384360" cy="1295280"/>
          </a:xfrm>
          <a:prstGeom prst="cloudCallout">
            <a:avLst>
              <a:gd name="adj1" fmla="val -44699"/>
              <a:gd name="adj2" fmla="val 71078"/>
            </a:avLst>
          </a:prstGeom>
          <a:solidFill>
            <a:srgbClr val="00ffff"/>
          </a:solidFill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从正面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7T09:36:3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14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