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FB93-83D4-49C6-9579-5BF88519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99FD-FC5D-4D16-AEE4-A2648283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479D-EB5C-4388-A490-7AD20987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E5F9-8925-4F37-AE1A-5D794D5A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77B2-F8E6-4220-AAA5-17A7ABD8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8040-BCA2-4CF2-99F8-8BF0D95C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E1F5-2823-44BD-9453-E51FEFA8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C01B-A5F6-43D8-B379-3D81AF39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1854-BDC9-4740-B1A7-D2F674E2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1B86-8C71-4FC1-8018-19914292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6372-8007-406E-BF9D-610A05A5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3D55-3A30-449F-983B-BE7A45D0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2D4B-8A8B-4A75-935E-684914CF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8799-B125-405C-914D-59231F22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C175-DC32-40A8-8F67-FF9EFE97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B61D-3E06-4E1D-8F98-06EB5221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8EAD-C736-4A9F-8CB4-9EAED227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FC05-C12E-4274-A00F-13F339CD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D676-0A9A-490D-9458-C732833B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E5A4-56B1-459A-8480-F8129C80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B9C6-872B-47C2-BA2B-8861319C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C81D-F97D-47FE-AFBE-BC8F78F2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BF32-6622-4BD8-99A5-DE248025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1E90-EF68-4ADC-94E3-EDB85D12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C33A-0576-4237-AE11-61E040F90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BDE5-7E77-4651-93EC-32CE0D88773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22FF-E403-4468-89D7-7158C3FE265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stg?BookPath=+Rzpc0KHRp9PvzsRcc3Vubnlib29rc1xkYXQvQm9vazZiLmRhdA==&amp;StrmName=+t-LD5s28xqxcMDYtMjVGLmpwZw==&amp;isDemo=False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文本框 2" descr=""/>
          <p:cNvPicPr/>
          <p:nvPr/>
        </p:nvPicPr>
        <p:blipFill>
          <a:blip r:embed="rId2"/>
          <a:stretch/>
        </p:blipFill>
        <p:spPr>
          <a:xfrm>
            <a:off x="250920" y="1339920"/>
            <a:ext cx="80787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9E1E-8BC5-412F-842C-3E48EE99436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2627280" y="1844640"/>
            <a:ext cx="6265800" cy="4032360"/>
          </a:xfrm>
          <a:prstGeom prst="cloudCallout">
            <a:avLst>
              <a:gd name="adj1" fmla="val -59273"/>
              <a:gd name="adj2" fmla="val 58425"/>
            </a:avLst>
          </a:prstGeom>
          <a:solidFill>
            <a:srgbClr val="f20c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我想对别的国家里的小朋友说几句话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005_JPG"/>
          <p:cNvPicPr/>
          <p:nvPr/>
        </p:nvPicPr>
        <p:blipFill>
          <a:blip r:embed="rId1"/>
          <a:stretch/>
        </p:blipFill>
        <p:spPr>
          <a:xfrm>
            <a:off x="0" y="0"/>
            <a:ext cx="2575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324000" y="333360"/>
            <a:ext cx="165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要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539640" y="2133720"/>
            <a:ext cx="7777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自由读课文，注意读准生字的读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边读边想，课文主要讲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002_JPG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6"/>
          <p:cNvSpPr/>
          <p:nvPr/>
        </p:nvSpPr>
        <p:spPr>
          <a:xfrm>
            <a:off x="1325520" y="52848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395280" y="404640"/>
            <a:ext cx="2521080" cy="1295640"/>
          </a:xfrm>
          <a:prstGeom prst="ellipse">
            <a:avLst/>
          </a:prstGeom>
          <a:solidFill>
            <a:srgbClr val="f20c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我会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84360" y="2781360"/>
            <a:ext cx="7920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彤                 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红彤彤          陪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/>
          <p:cNvSpPr/>
          <p:nvPr/>
        </p:nvSpPr>
        <p:spPr>
          <a:xfrm>
            <a:off x="395280" y="476280"/>
            <a:ext cx="2376360" cy="1152360"/>
          </a:xfrm>
          <a:prstGeom prst="ellipse">
            <a:avLst/>
          </a:prstGeom>
          <a:solidFill>
            <a:srgbClr val="f20c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想一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68360" y="25653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每节诗分别讲了什么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stg?BookPath=+Rzpc0KHRp9PvzsRcc3Vubnlib29rc1xkYXQvQm9vazZiLmRhdA==&amp;StrmName=+zbzGrNDAyc1cMDYtMjVULTMuanBn&amp;isDemo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stg?BookPath=+Rzpc0KHRp9PvzsRcc3Vubnlib29rc1xkYXQvQm9vazZiLmRhdA==&amp;StrmName=+zbzGrNDAyc1cMDYtMjVULTQuSlBH&amp;isDemo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8200"/>
          <p:cNvSpPr/>
          <p:nvPr/>
        </p:nvSpPr>
        <p:spPr>
          <a:xfrm>
            <a:off x="611280" y="2997360"/>
            <a:ext cx="4419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stg?BookPath=+Rzpc0KHRp9PvzsRcc3Vubnlib29rc1xkYXQvQm9vazZiLmRhdA==&amp;StrmName=+zbzGrNDAyc1cMDYtMjVULTYuanBn&amp;isDemo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stg?BookPath=+Rzpc0KHRp9PvzsRcc3Vubnlib29rc1xkYXQvQm9vazZiLmRhdA==&amp;StrmName=+zbzGrNDAyc1cMDYtMjVULTIuSlBH&amp;isDemo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68360" y="333360"/>
            <a:ext cx="2519280" cy="1008000"/>
          </a:xfrm>
          <a:prstGeom prst="rect">
            <a:avLst/>
          </a:prstGeom>
          <a:solidFill>
            <a:srgbClr val="f20c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拓展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95280" y="2924280"/>
            <a:ext cx="8282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学习了这首诗后，你有什么感想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08:09:1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46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