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png" ContentType="image/pn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BD6-BEFC-4402-A674-A27CBAAE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0F4-3E26-4E33-A7A1-E70553B7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2D3-2EE9-4801-B94A-9614D0F1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753-EDA8-47DE-9DD3-615CD0EC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92AA-D3FE-424C-87EE-ECFCACD7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10C6-574F-4772-A3D1-F0E362B9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2804-0F70-4ECE-A248-27E4EEC9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BBC9-3CFB-4B59-9190-C2D4BB69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2D79-F56B-42AB-8640-46ADFCD5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BBBF-AA5B-457B-A019-CC746B4C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9ABD-E894-4E92-B7D8-56E85A8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CDC-5E6C-4961-A168-51C42E38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C1CF-C8C4-4022-9667-D6F335FB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F3ED-D791-4EBA-8464-C9DF720B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5DE8-D228-4C1E-B53D-BCF62A8B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F7D0-2716-45CC-9113-3AC8C330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BE1C-9B1D-4940-A6C6-E6AE5DDB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55F7C-F14E-41BD-86A5-C8B5AF71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B14A-C188-4BE4-AC48-2F37D92E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6623-A635-43F8-9127-FBFC6ADB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4701-5404-444F-B8B6-65A04C16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21EA6-9336-47DD-9992-833291B5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7DC-CB27-47F2-8328-67EB4173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CD48-B2B9-428A-A677-9D3C5EF1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4DDB-8F7D-46E4-9740-AC60AF86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1EF0E-0EEA-4013-B130-AD09D380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93B0-C15B-4939-8DC5-36D01E0A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945E-67B6-47D3-8E9E-5C5E9F92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CC58-6644-4B9F-9C27-E8E01BEA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735A-E37E-4415-944A-BE4DF716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D04-1650-4E7C-B091-D332781C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0DB-79FD-4159-8AC3-B3DD0EF8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BC1-7DD5-482D-B3F8-0D82746D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F77-406C-4B9B-8826-21BB5793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EAD-8A98-45FB-A8AE-626A79C9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3D1-7C00-4C3B-8835-1ECF4B09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9E4A-0756-45A1-A571-4F181C8735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4C23-57F8-4E3F-9881-AE7976C0E2E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6300-BDE3-42FF-8E27-474A6BF523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88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BF13-E389-43E5-A6CC-3251D8CA8EB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T3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1648800" y="609480"/>
            <a:ext cx="53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宋体"/>
                <a:ea typeface="宋体"/>
              </a:rPr>
              <a:t>我不是最弱小的课件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3059280" y="5084640"/>
            <a:ext cx="324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蔷薇</a:t>
            </a:r>
            <a:endParaRPr b="0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69" name="Picture 3" descr="野蔷薇一"/>
          <p:cNvPicPr/>
          <p:nvPr/>
        </p:nvPicPr>
        <p:blipFill>
          <a:blip r:embed="rId1"/>
          <a:stretch/>
        </p:blipFill>
        <p:spPr>
          <a:xfrm>
            <a:off x="1619280" y="-270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20090625_6bf633b262a96770d28dwa0skvsYgAZw"/>
          <p:cNvPicPr/>
          <p:nvPr/>
        </p:nvPicPr>
        <p:blipFill>
          <a:blip r:embed="rId1"/>
          <a:stretch/>
        </p:blipFill>
        <p:spPr>
          <a:xfrm>
            <a:off x="0" y="304920"/>
            <a:ext cx="5562720" cy="5790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3970232_081204027922_2"/>
          <p:cNvPicPr/>
          <p:nvPr/>
        </p:nvPicPr>
        <p:blipFill>
          <a:blip r:embed="rId2"/>
          <a:stretch/>
        </p:blipFill>
        <p:spPr>
          <a:xfrm>
            <a:off x="5562720" y="304920"/>
            <a:ext cx="3581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2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5023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250920" y="5589720"/>
            <a:ext cx="88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52280" y="4419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有一丛野蔷薇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铃兰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簇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出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朵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粉红色的花。带着露珠的花朵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风舞动，芬芳扑鼻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022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5791320" y="12193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雷声大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174330995863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44953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600" spc="-1" strike="noStrike">
                <a:solidFill>
                  <a:srgbClr val="000000"/>
                </a:solidFill>
                <a:latin typeface="Arial"/>
                <a:ea typeface="楷体_GB2312"/>
              </a:rPr>
              <a:t>突然，雷声大作，天上飘下几滴雨点，紧接着，下起了倾盆大雨。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003640" y="404640"/>
            <a:ext cx="362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倾盆大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152280" y="228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大雨已经打掉了</a:t>
            </a: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两片</a:t>
            </a: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蔷薇花瓣，花儿</a:t>
            </a: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无力</a:t>
            </a: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地垂着头，显得</a:t>
            </a: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更加娇嫩</a:t>
            </a: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蔷薇1"/>
          <p:cNvPicPr/>
          <p:nvPr/>
        </p:nvPicPr>
        <p:blipFill>
          <a:blip r:embed="rId1"/>
          <a:stretch/>
        </p:blipFill>
        <p:spPr>
          <a:xfrm>
            <a:off x="990720" y="304812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ic020"/>
          <p:cNvPicPr/>
          <p:nvPr/>
        </p:nvPicPr>
        <p:blipFill>
          <a:blip r:embed="rId1"/>
          <a:srcRect l="8130" t="8125" r="0" b="0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066680" y="685800"/>
            <a:ext cx="807732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自由读课文，思考：你听到花在呻吟吗？她仿佛在说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看到花被雨点打成这样，文中的萨沙为花做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（萨沙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掀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起雨衣，轻轻地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遮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在蔷薇花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萨沙为什么要为花遮挡风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24000" y="1573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812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萨沙不解地问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，您和托利亚都需要雨衣呀，为什么要给我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24000" y="234936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萨沙又问：“这就是说，我是最弱小的了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24000" y="3068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12f"/>
                </a:solidFill>
                <a:latin typeface="Arial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要是你谁也保护不了，那你就是最弱小的。”妈妈说着摸了摸萨沙的脑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395280" y="1268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12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回答说：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我们应该保护比自己弱小的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4000" y="42210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萨沙问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妈妈，现在我还是最弱小的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萨沙问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24000" y="5300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12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笑着说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，不，你能保护更弱小的，你是勇敢的孩子啦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89596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295280" y="19810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Impact"/>
                <a:ea typeface="幼圆"/>
              </a:rPr>
              <a:t>我不是最弱小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95280" y="40464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295280" y="457200"/>
            <a:ext cx="4724640" cy="87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b812f"/>
                </a:solidFill>
                <a:latin typeface="Times New Roman"/>
                <a:ea typeface="楷体_GB2312"/>
              </a:rPr>
              <a:t>狂风暴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b812f"/>
                </a:solidFill>
                <a:latin typeface="Arial"/>
                <a:ea typeface="楷体_GB2312"/>
              </a:rPr>
              <a:t>瓢泼大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b812f"/>
                </a:solidFill>
                <a:latin typeface="Arial"/>
                <a:ea typeface="楷体_GB2312"/>
              </a:rPr>
              <a:t>倾盆大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b812f"/>
                </a:solidFill>
                <a:latin typeface="Arial"/>
                <a:ea typeface="楷体_GB2312"/>
              </a:rPr>
              <a:t>疾风骤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84360" y="220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6"/>
          <p:cNvSpPr/>
          <p:nvPr/>
        </p:nvSpPr>
        <p:spPr>
          <a:xfrm>
            <a:off x="281160" y="9144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20089198948639_2"/>
          <p:cNvPicPr/>
          <p:nvPr/>
        </p:nvPicPr>
        <p:blipFill>
          <a:blip r:embed="rId1"/>
          <a:stretch/>
        </p:blipFill>
        <p:spPr>
          <a:xfrm>
            <a:off x="-1981080" y="-542880"/>
            <a:ext cx="11315520" cy="943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1143000" y="533520"/>
            <a:ext cx="8001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  周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末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拥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嫩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托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亚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萨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铃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倾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盆大雨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芬芳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舞动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聊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1B7A-7286-40F7-84E8-5BE9EEE4E2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95280" y="162864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的一个周末，五岁的（      ）和哥哥（         ），跟（       ）一起到森林中去玩。在他们赏花聊天的时候，突然下起了（             ）。妈妈把雨衣递给（           ），（          ）又把雨衣递给了（      ）。最后，（      ）掀起雨衣，遮住了（           ）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6948360" y="4581360"/>
            <a:ext cx="71640" cy="142920"/>
          </a:xfrm>
          <a:prstGeom prst="ellipse">
            <a:avLst/>
          </a:prstGeom>
          <a:solidFill>
            <a:srgbClr val="ffffff"/>
          </a:solidFill>
          <a:ln cap="rnd" w="0">
            <a:solidFill>
              <a:srgbClr val="ffff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7308720" y="3213000"/>
            <a:ext cx="71640" cy="142920"/>
          </a:xfrm>
          <a:prstGeom prst="ellipse">
            <a:avLst/>
          </a:prstGeom>
          <a:solidFill>
            <a:srgbClr val="ffffff"/>
          </a:solidFill>
          <a:ln cap="rnd" w="0">
            <a:solidFill>
              <a:srgbClr val="ffff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012000" y="4797360"/>
            <a:ext cx="71280" cy="142920"/>
          </a:xfrm>
          <a:prstGeom prst="ellipse">
            <a:avLst/>
          </a:prstGeom>
          <a:solidFill>
            <a:srgbClr val="ffffff"/>
          </a:solidFill>
          <a:ln cap="rnd" w="0">
            <a:solidFill>
              <a:srgbClr val="ffff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659640" y="162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ahoma"/>
              </a:rPr>
              <a:t>萨沙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590920" y="22096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ahoma"/>
              </a:rPr>
              <a:t>托利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6477120" y="2209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ahoma"/>
              </a:rPr>
              <a:t>家人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4648320" y="3276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ahoma"/>
              </a:rPr>
              <a:t>倾盆大雨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219320" y="441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ahoma"/>
              </a:rPr>
              <a:t>托利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809880" y="38098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ahoma"/>
              </a:rPr>
              <a:t>托利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181480" y="495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ahoma"/>
              </a:rPr>
              <a:t>萨沙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1066680" y="495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ahoma"/>
              </a:rPr>
              <a:t>萨沙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3581280" y="5562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ahoma"/>
              </a:rPr>
              <a:t>蔷薇花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68360" y="333360"/>
            <a:ext cx="8136000" cy="59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ò       mò      xiān      t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弱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3b812f"/>
                </a:solidFill>
                <a:latin typeface="Times New Roman"/>
              </a:rPr>
              <a:t>末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à         cù       líng      d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簇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铃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递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iāo       qīng    fēn      li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娇          倾       芬        聊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āng      su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468360" y="333360"/>
            <a:ext cx="8136000" cy="59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ò         mò   xiān    t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弱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周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末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起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托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利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à        cù      lí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沙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簇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拥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兰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ì        jiāo    qī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递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给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娇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嫩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倾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盆大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ēn fāng        liáo      su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芬    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天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风舞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扑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（扑灭）（扑打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托</a:t>
            </a:r>
            <a:r>
              <a:rPr b="1" lang="zh-CN" sz="3000" spc="-1" strike="noStrike">
                <a:solidFill>
                  <a:srgbClr val="3b812f"/>
                </a:solidFill>
                <a:latin typeface="Arial"/>
              </a:rPr>
              <a:t>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（委托）（寄托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摸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（抚摸）（摸索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利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（锐利）（顺利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铃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（门铃）（彩铃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弱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（弱小）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脆弱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末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（周末）（末尾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芬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（芬芳）（清芬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夏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（夏天）（立夏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应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（应该）（应当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该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（应该）（该校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070"/>
          <p:cNvPicPr/>
          <p:nvPr/>
        </p:nvPicPr>
        <p:blipFill>
          <a:blip r:embed="rId1"/>
          <a:srcRect l="2598" t="3334" r="3332" b="2593"/>
          <a:stretch/>
        </p:blipFill>
        <p:spPr>
          <a:xfrm>
            <a:off x="-216000" y="-343080"/>
            <a:ext cx="9360000" cy="7588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143000" y="1274760"/>
            <a:ext cx="1981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弱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276720" y="1295280"/>
            <a:ext cx="16160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周末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791320" y="1219320"/>
            <a:ext cx="1761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拉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520" y="3657600"/>
            <a:ext cx="2987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托儿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143000" y="2422440"/>
            <a:ext cx="1628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铃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203640" y="2422440"/>
            <a:ext cx="1749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花簇 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645080" y="2422440"/>
            <a:ext cx="2365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随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156360" y="2427120"/>
            <a:ext cx="22255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芬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130560" y="3645000"/>
            <a:ext cx="22795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聊天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4714920" y="3645000"/>
            <a:ext cx="4048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倾盆大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4800600" y="4952880"/>
            <a:ext cx="1905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递给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914400" y="4941720"/>
            <a:ext cx="1857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娇嫩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2895480" y="4952880"/>
            <a:ext cx="251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掀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9640" y="2276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主要讲了（          ）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雨衣为（              ）遮雨的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796000" y="213372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萨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843280" y="3213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野蔷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PM_001"/>
          <p:cNvPicPr/>
          <p:nvPr/>
        </p:nvPicPr>
        <p:blipFill>
          <a:blip r:embed="rId1"/>
          <a:stretch/>
        </p:blipFill>
        <p:spPr>
          <a:xfrm>
            <a:off x="0" y="-299880"/>
            <a:ext cx="9539280" cy="72356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3"/>
          <p:cNvSpPr/>
          <p:nvPr/>
        </p:nvSpPr>
        <p:spPr>
          <a:xfrm>
            <a:off x="755640" y="692280"/>
            <a:ext cx="7056360" cy="4392360"/>
          </a:xfrm>
          <a:prstGeom prst="cloudCallout">
            <a:avLst>
              <a:gd name="adj1" fmla="val 24939"/>
              <a:gd name="adj2" fmla="val 7981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685800" y="549360"/>
            <a:ext cx="20574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小组讨论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116000" y="1484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由朗读一、二自然段。想一想森林美吗？从哪些语句可以看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143000" y="3124080"/>
            <a:ext cx="6335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们在森林中还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野蔷薇美么？从哪些句子看出蔷薇花的美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bsenlin"/>
          <p:cNvPicPr/>
          <p:nvPr/>
        </p:nvPicPr>
        <p:blipFill>
          <a:blip r:embed="rId1"/>
          <a:srcRect l="35412" t="0" r="12509" b="0"/>
          <a:stretch/>
        </p:blipFill>
        <p:spPr>
          <a:xfrm>
            <a:off x="4500720" y="0"/>
            <a:ext cx="4643280" cy="4038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_2_01"/>
          <p:cNvPicPr/>
          <p:nvPr/>
        </p:nvPicPr>
        <p:blipFill>
          <a:blip r:embed="rId2"/>
          <a:stretch/>
        </p:blipFill>
        <p:spPr>
          <a:xfrm>
            <a:off x="0" y="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0" y="4019400"/>
            <a:ext cx="9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的一个周末，五岁的萨沙和哥哥托利亚，跟父母一起到森林中去玩。森林里的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景色是那么美好，空气是那么清新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来到林中的一片空地。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那里盛开着美丽的铃兰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一个美丽的故事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237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9T14:11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29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