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E7F-4106-4B3F-AB73-F70B89A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79A-859A-4AB4-BA1F-8EBAAA6F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D06-DDE7-45A4-9B34-1C44FEF5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381-7FBE-4D03-82D7-531EF192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7145-A2F9-4343-A480-573280A1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ADEB-80E0-4E8A-A881-AA76BA54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F03-893E-46E0-BA11-48E9001E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742-0195-42E7-9047-BAE363F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82B-9B56-4B4C-888E-60CB975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1BEE-E025-49F9-AA71-721251F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9C3-E243-4629-AAD7-365846A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E55-4A17-4CA6-86C5-990DC7A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C787-2581-4ACA-9E0E-404DC1A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CF6-B2D5-4BB0-BABE-1E4DA31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AE0E-2A13-41E5-958E-8AB4612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D9B-E1CB-492C-B1FF-B0508C27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6F2E-B43E-4378-A39D-A5BF7703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EEDE-9D97-46BD-A21F-FF5107A5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9834-EB75-4FBE-B7E2-ADDF9E8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E871-4415-4262-A9A9-ACC4D44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DF3C-E512-472C-BEB8-620E116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BA32-198A-4938-AE5D-E521682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134-9162-41A4-B57F-178965D5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E481-6D10-452F-A459-F1E68A64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431C-7790-46E2-BCC3-87C9932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24C2-18C9-4CA6-96B8-A9C8A32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2908-5A08-43CF-8505-808E974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AE59-779A-450B-804E-F95426B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57D7-C7E2-487E-B484-00A443C1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5FCF-E536-4686-B818-72A8446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1300-F985-441B-B5E6-E5EDAA9D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CDE6-605E-49CF-AA88-D6CBCA0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5D52-0DA8-4246-B426-E63BB0E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1E7-46DE-4A7F-B68A-1C07059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7D1C-DF02-403F-A31B-22FA1EB4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10BA-CD45-49E7-A397-8DB8CA8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D372-2262-488C-934E-783009C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4D4A-D8A4-496C-AF30-A52C648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8BE6-CB5F-425C-9E36-B75EDBF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17FC-EF9B-4125-823B-5E227C0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3605-9267-4A6B-AE1D-375F1583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3533-9358-4681-AAC2-60442028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2E7D-B11F-454D-AB51-94A3FF7B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444-3FD1-45D6-BCB4-DB316B6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BB2-6A00-4305-9B8F-C16FF9D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A60-BF8A-4E47-B387-0D6A92B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F72-C06E-495F-9885-DA14999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952-896F-4BA4-B570-EDA4C2C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882-878E-4714-90FC-98B8A88003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8AD7-A76E-4043-AAD3-4246BF2C03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B69-C486-4A55-A53E-81DD72483F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ABDD-F7C0-429A-ADC8-026B9A3447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8AF-485C-4DD9-B5E6-40A7BE45CB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矩形 1" descr=""/>
          <p:cNvPicPr/>
          <p:nvPr/>
        </p:nvPicPr>
        <p:blipFill>
          <a:blip r:embed="rId2"/>
          <a:stretch/>
        </p:blipFill>
        <p:spPr>
          <a:xfrm>
            <a:off x="87480" y="295200"/>
            <a:ext cx="8292960" cy="7430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" descr=""/>
          <p:cNvPicPr/>
          <p:nvPr/>
        </p:nvPicPr>
        <p:blipFill>
          <a:blip r:embed="rId3"/>
          <a:srcRect l="14793" t="0" r="22813" b="13135"/>
          <a:stretch/>
        </p:blipFill>
        <p:spPr>
          <a:xfrm>
            <a:off x="1390680" y="2924280"/>
            <a:ext cx="3384360" cy="31287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74560" y="1989000"/>
            <a:ext cx="8569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不言而喻       囫囵吞枣     不求甚解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如饥似渴       别出心裁      千篇一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念念不忘      心安理得       流光溢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津津有味      与众不同       悲欢离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流光溢彩      呕心沥血        牵肠挂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华文楷体"/>
                <a:ea typeface="华文楷体"/>
              </a:rPr>
              <a:t>如醉如痴      滚瓜烂熟       大显身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291960" y="160200"/>
            <a:ext cx="6782040" cy="1508040"/>
            <a:chOff x="291960" y="160200"/>
            <a:chExt cx="6782040" cy="1508040"/>
          </a:xfrm>
        </p:grpSpPr>
        <p:sp>
          <p:nvSpPr>
            <p:cNvPr id="170" name="Rectangle 6"/>
            <p:cNvSpPr/>
            <p:nvPr/>
          </p:nvSpPr>
          <p:spPr>
            <a:xfrm>
              <a:off x="291960" y="15937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602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WordArt 8"/>
            <p:cNvSpPr txBox="1"/>
            <p:nvPr/>
          </p:nvSpPr>
          <p:spPr>
            <a:xfrm>
              <a:off x="2273400" y="7570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2691360" y="907920"/>
            <a:ext cx="272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知道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00000" y="234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阅读文章，想想作者写了童年读书、作文的哪几件事？从中悟出了什么道理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4"/>
          <p:cNvPicPr/>
          <p:nvPr/>
        </p:nvPicPr>
        <p:blipFill>
          <a:blip r:embed="rId2"/>
          <a:stretch/>
        </p:blipFill>
        <p:spPr>
          <a:xfrm>
            <a:off x="0" y="476280"/>
            <a:ext cx="2700360" cy="20448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8194"/>
          <p:cNvSpPr/>
          <p:nvPr/>
        </p:nvSpPr>
        <p:spPr>
          <a:xfrm>
            <a:off x="1692360" y="486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AAD-B464-4F7C-B3E8-7670929CE0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ccffcc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想问题"/>
          <p:cNvPicPr/>
          <p:nvPr/>
        </p:nvPicPr>
        <p:blipFill>
          <a:blip r:embed="rId1"/>
          <a:stretch/>
        </p:blipFill>
        <p:spPr>
          <a:xfrm>
            <a:off x="0" y="0"/>
            <a:ext cx="1665360" cy="198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图片1"/>
          <p:cNvPicPr/>
          <p:nvPr/>
        </p:nvPicPr>
        <p:blipFill>
          <a:blip r:embed="rId2"/>
          <a:stretch/>
        </p:blipFill>
        <p:spPr>
          <a:xfrm flipH="1">
            <a:off x="7308360" y="5229360"/>
            <a:ext cx="1692360" cy="1447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940480" y="6922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的感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62120" y="23083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Times New Roman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  <a:ea typeface="隶书"/>
              </a:rPr>
              <a:t>读了课文，你感受最深的是什么？把你的想法和同学交流一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3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