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EB4-E7BD-4760-92E7-CBA2FBB9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DD5-8814-4D8C-9D7C-F34450A6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EAF-550F-40C6-8961-40F0E677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386-9EBC-4B05-ABB1-F12A474A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8EE0-DB0D-4E86-954D-405E2D7F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5C25-4DD0-4CF5-A991-F574756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944-EDD3-40E7-8D71-01F02F32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70AB-B3B2-45B3-8F73-43D6F45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7FD6-912A-44FC-BE2A-443331F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606E-C047-4D8D-8D0F-6DF86BAF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D5E2-554C-45C7-A02E-F72CFD3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6D9-C66B-4C30-836F-A0F34C0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E751-B8FC-46D4-9D27-A360039B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EA70-79DF-4870-89EA-2A811E2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5D5-79C5-4AB5-9206-38EB62C7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D5F7-1B5F-4B95-9554-47E135FF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E60B-359F-4CCB-B2F8-90BE27B4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E26B5-E315-4744-A290-C0034BF1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ADD3-CDA7-4452-B2DE-AE96BBE1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40B5-4EF5-42B2-B146-3B8E24F4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6946-5714-4D0E-B5EE-4B8D7E9D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B6D3-C702-4297-9DFE-FAFAB895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821-72AB-4A11-9D72-5B66557D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EC4B-CFCB-4BA4-939B-EB0D0E9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79A1-1FE0-4400-8CA2-E7B0597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7E9D-C282-4989-9565-014505A6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2F21-9297-4CF1-B62B-BB4C557B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F8ED-C53C-4280-87D3-77BC3FD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6866-9BB8-457A-A6FE-ABB736CA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97CA-8016-4B3A-8B0A-D5B4689F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287-6B3D-474F-84EB-7B83F7B4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C87-9AA8-4498-8367-ED03B0F0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1CC-8DEB-43CB-8FC3-FA6D12C1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554-A6D2-428A-AFA2-4819AEA7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C48-B11F-48EB-B63F-B90E6C7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814-AEF0-4D62-B7D5-1775278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6EE-BFE0-46F7-8FFA-C04603B320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7A64-6C5B-4E87-B6A4-35F583BC55F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F35C-DEC3-4F8B-BD7C-D2C9A3A04F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2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6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7BE6-921D-4992-BAC3-C9A239F437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ku.cc/tp/xzy/zyfg/332784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pic_14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1447920" y="1295280"/>
            <a:ext cx="6248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望洞庭语文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PPT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课件模板下载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5292720" y="3962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刘禹锡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wd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979640" y="1699920"/>
            <a:ext cx="691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遥望：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远远地看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青螺：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这里形容洞庭湖中的君山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768200" y="1049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遥望洞庭山水色，白银盘里一青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124000" y="407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  <a:ea typeface="楷体_GB2312"/>
              </a:rPr>
              <a:t>远远地看去，洞庭湖山水苍色，像银盘子里放着一只青青的田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"/>
                            </p:stCondLst>
                            <p:childTnLst>
                              <p:par>
                                <p:cTn id="14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"/>
                            </p:stCondLst>
                            <p:childTnLst>
                              <p:par>
                                <p:cTn id="15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a11e96d941cabb7032fa1c2b"/>
          <p:cNvPicPr/>
          <p:nvPr/>
        </p:nvPicPr>
        <p:blipFill>
          <a:blip r:embed="rId1"/>
          <a:stretch/>
        </p:blipFill>
        <p:spPr>
          <a:xfrm>
            <a:off x="152280" y="17524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Fei_Cui_Luo__0"/>
          <p:cNvPicPr/>
          <p:nvPr/>
        </p:nvPicPr>
        <p:blipFill>
          <a:blip r:embed="rId2"/>
          <a:stretch/>
        </p:blipFill>
        <p:spPr>
          <a:xfrm>
            <a:off x="4572000" y="152280"/>
            <a:ext cx="4572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W020080216571446568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Comic Sans MS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每一首诗都藏着作者不同的情感，你能用你的朗读把这不同的情感表现出来吗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18284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诗歌表达了诗人怎样的情感？读一读，想一想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文本框 8200"/>
          <p:cNvSpPr/>
          <p:nvPr/>
        </p:nvSpPr>
        <p:spPr>
          <a:xfrm>
            <a:off x="2286000" y="4800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523880" y="685800"/>
            <a:ext cx="62802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望洞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           刘禹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潭面无风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镜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遥望洞庭山水色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白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银盘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里一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青螺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133720" y="23623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请同学们依据下列图画描     述一下你眼中的洞庭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9A4A-F66A-4032-82AD-591153D6FE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261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Comic Sans MS"/>
              </a:rPr>
              <a:t>小小赛诗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望洞庭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独坐敬亭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刘禹锡                唐　李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湖光秋月两相和，      众鸟高飞尽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潭面无风镜未磨。      孤云独去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遥望洞庭山水色，      相看两不厌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白银盘里一青螺。      只有敬亭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7"/>
          <p:cNvSpPr/>
          <p:nvPr/>
        </p:nvSpPr>
        <p:spPr>
          <a:xfrm>
            <a:off x="3733920" y="1600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hina"/>
          <p:cNvPicPr/>
          <p:nvPr/>
        </p:nvPicPr>
        <p:blipFill>
          <a:blip r:embed="rId1"/>
          <a:srcRect l="0" t="0" r="695" b="29284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  <p:sp>
        <p:nvSpPr>
          <p:cNvPr id="200" name="Oval 3"/>
          <p:cNvSpPr/>
          <p:nvPr/>
        </p:nvSpPr>
        <p:spPr>
          <a:xfrm>
            <a:off x="5651640" y="4581360"/>
            <a:ext cx="1008000" cy="863640"/>
          </a:xfrm>
          <a:prstGeom prst="ellipse">
            <a:avLst/>
          </a:prstGeom>
          <a:noFill/>
          <a:ln w="79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83664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找找看</a:t>
            </a:r>
            <a:endParaRPr b="0" lang="en-US" sz="1800" spc="-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unan"/>
          <p:cNvPicPr/>
          <p:nvPr/>
        </p:nvPicPr>
        <p:blipFill>
          <a:blip r:embed="rId1"/>
          <a:srcRect l="0" t="0" r="841" b="6026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Oval 3"/>
          <p:cNvSpPr/>
          <p:nvPr/>
        </p:nvSpPr>
        <p:spPr>
          <a:xfrm>
            <a:off x="5508720" y="1557360"/>
            <a:ext cx="1942920" cy="1295280"/>
          </a:xfrm>
          <a:prstGeom prst="ellipse">
            <a:avLst/>
          </a:prstGeom>
          <a:noFill/>
          <a:ln w="79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75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828360" y="1555920"/>
            <a:ext cx="727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洞庭湖位于湖南省的北部，岳阳市附近，是我国第二大淡水湖。八百里洞庭，烟波浩淼。水天相接，朝晖夕阴，气象万千。湖中有君山，山上有诸多名胜。著名诗人范仲淹来到洞庭，留下了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先天下之忧而忧，后天下之乐而乐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经典之作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611280" y="102708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e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你知道吗</a:t>
            </a:r>
            <a:endParaRPr b="0" lang="en-US" sz="1800" spc="-1" strike="noStrike">
              <a:ln w="0">
                <a:noFill/>
              </a:ln>
              <a:solidFill>
                <a:srgbClr val="ffe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5" descr="20069201439125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8200"/>
          <p:cNvSpPr/>
          <p:nvPr/>
        </p:nvSpPr>
        <p:spPr>
          <a:xfrm>
            <a:off x="3581280" y="28195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00510716142570496"/>
          <p:cNvPicPr/>
          <p:nvPr/>
        </p:nvPicPr>
        <p:blipFill>
          <a:blip r:embed="rId1"/>
          <a:srcRect l="0" t="0" r="39143" b="262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87280" y="1842840"/>
            <a:ext cx="8461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波光粼粼、银光闪闪、水平如镜、水天一色、迷迷蒙蒙、朦朦胧胧、宁静和谐、月明星稀、风清月朗、风月无边、皓月当空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611280" y="1027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e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说一说、读一读</a:t>
            </a:r>
            <a:endParaRPr b="0" lang="en-US" sz="1800" spc="-1" strike="noStrike">
              <a:ln w="0">
                <a:noFill/>
              </a:ln>
              <a:solidFill>
                <a:srgbClr val="ffe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066680" y="152280"/>
            <a:ext cx="648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240" y="190512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刘禹锡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7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4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7" descr="刘锡禹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523880" y="685800"/>
            <a:ext cx="62802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望洞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           刘禹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潭面无风镜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遥望洞庭山水色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白银盘里一青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必背古诗-望洞庭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83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图片1;''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50920" y="1917360"/>
            <a:ext cx="8137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：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和谐，这里指水色和月色融为一体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秋月：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点明时间</a:t>
            </a:r>
            <a:r>
              <a:rPr b="1" lang="en-US" sz="3200" spc="-1" strike="noStrike">
                <a:solidFill>
                  <a:srgbClr val="703d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秋天洞庭湖水色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秋天的月色融为一体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125600" y="1265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湖光秋月两相和，潭面无风镜未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539640" y="884160"/>
            <a:ext cx="23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诗句品读</a:t>
            </a:r>
            <a:endParaRPr b="0" lang="en-US" sz="1800" spc="-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55640" y="4221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洞庭湖水色和秋天的月色融为一体，湖面上没有一点风吹过，就像一面还没有磨过的镜子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"/>
                            </p:stCondLst>
                            <p:childTnLst>
                              <p:par>
                                <p:cTn id="9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"/>
                            </p:stCondLst>
                            <p:childTnLst>
                              <p:par>
                                <p:cTn id="9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"/>
                            </p:stCondLst>
                            <p:childTnLst>
                              <p:par>
                                <p:cTn id="11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48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4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