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0DE3-70D9-4DA4-BB12-3A439AE1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3D5E-E507-4116-BE6D-74372253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4CB-0E64-4D0B-85C0-A11796B3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A49-2486-45DE-8AC7-46600215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2D84-761C-4EBF-8758-E5DAFFDE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6E36-EBA2-4A94-860F-DA7B2A59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D5C4-6EA6-42D2-ADB3-7600775E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0AC7-F152-4065-A36E-0FC9D56E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50B8-89D5-42AA-BF44-11F63A18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E4D-7832-4775-89F7-49D3D8A0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2D41-66BC-4574-BA22-FC8811FD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7828-5727-4961-B797-61DE2051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324D-7092-4A0B-982B-61854D30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6ECD-FD2D-4B7B-BED7-7A744713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B217-16DD-43B5-AA77-978EA3AE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11EB-E772-4911-A4B0-63CC690C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A98-6730-4BBE-B223-2DC66DE7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C6D-229D-4843-AFBA-ACA36920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D6F-1A82-400F-9AAD-75EC463B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B40-115F-4A15-885E-1CD02A64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07F2-C5BC-4C23-A87F-FDE172A5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655-EBCE-4261-8D48-81261950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A8C-77E3-4256-9411-A9DFDCC4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BBE-246B-445F-BC1E-6B6EA07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ABB-C026-43E1-9443-6306B73E2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CD4D-6917-4CDD-A3F9-E6668503AA9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B361-FAA3-4D9A-930D-3307D719F7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xilang.cclsu.com/mass_index.asp?id=775" TargetMode="Externa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xxjs.net/Article/kgbk/xxxbk/xytp/erx/List_1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.mofile.com/picture/R0VXJJO5GP_105" TargetMode="Externa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0724151832816"/>
          <p:cNvPicPr/>
          <p:nvPr/>
        </p:nvPicPr>
        <p:blipFill>
          <a:blip r:embed="rId1"/>
          <a:stretch/>
        </p:blipFill>
        <p:spPr>
          <a:xfrm>
            <a:off x="0" y="1325520"/>
            <a:ext cx="9144000" cy="5532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玩具柜台前的孩子语文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200782385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写给玩具柜台前的孩子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14400" y="1844640"/>
            <a:ext cx="8229600" cy="452592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的目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晶莹的露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你的心灵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像芬芳的鲜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男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让我们一起开始梦的旅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不要拒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梦中那一辆辆飞跑的汽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那是我们爱的祝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2"/>
          <p:cNvSpPr/>
          <p:nvPr/>
        </p:nvSpPr>
        <p:spPr>
          <a:xfrm>
            <a:off x="1503360" y="2521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200724151832816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79280" y="1325520"/>
            <a:ext cx="8964720" cy="5532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1871640" cy="1366920"/>
          </a:xfrm>
          <a:prstGeom prst="rect">
            <a:avLst/>
          </a:prstGeom>
          <a:solidFill>
            <a:srgbClr val="ffcc99">
              <a:alpha val="64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jù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玩 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42920" y="475920"/>
            <a:ext cx="143964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柜 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5148360" y="620640"/>
            <a:ext cx="2879640" cy="1127160"/>
          </a:xfrm>
          <a:prstGeom prst="rect">
            <a:avLst/>
          </a:prstGeom>
          <a:solidFill>
            <a:srgbClr val="cc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hòu h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售   货   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39640" y="2421000"/>
            <a:ext cx="1871640" cy="1366920"/>
          </a:xfrm>
          <a:prstGeom prst="rect">
            <a:avLst/>
          </a:prstGeom>
          <a:solidFill>
            <a:srgbClr val="ffcc99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药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843280" y="2637000"/>
            <a:ext cx="1439640" cy="1126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咱  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148360" y="2492280"/>
            <a:ext cx="208764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q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抢    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1763640" y="4508640"/>
            <a:ext cx="1440000" cy="112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y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富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95280" y="1699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我只是看看，不要妈妈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抢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826920" y="328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男孩喜欢小汽车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90756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柜台前有个小男孩，只要看到谁买小汽车，他就马上跟过去，目不转睛地盯着柜台上跑动的汽车，眼里闪着兴奋的光芒。他是多么喜欢小汽车啊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229360"/>
            <a:ext cx="1943280" cy="134460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2556000" y="2349360"/>
            <a:ext cx="647640" cy="360"/>
            <a:chOff x="2556000" y="2349360"/>
            <a:chExt cx="647640" cy="360"/>
          </a:xfrm>
        </p:grpSpPr>
        <p:sp>
          <p:nvSpPr>
            <p:cNvPr id="103" name="Line 8"/>
            <p:cNvSpPr/>
            <p:nvPr/>
          </p:nvSpPr>
          <p:spPr>
            <a:xfrm>
              <a:off x="2556000" y="2349360"/>
              <a:ext cx="64764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2556000" y="2349360"/>
              <a:ext cx="6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003640" y="2349360"/>
            <a:ext cx="1513080" cy="360"/>
            <a:chOff x="5003640" y="2349360"/>
            <a:chExt cx="1513080" cy="360"/>
          </a:xfrm>
        </p:grpSpPr>
        <p:sp>
          <p:nvSpPr>
            <p:cNvPr id="106" name="Line 9"/>
            <p:cNvSpPr/>
            <p:nvPr/>
          </p:nvSpPr>
          <p:spPr>
            <a:xfrm>
              <a:off x="5003640" y="2349360"/>
              <a:ext cx="151308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5003640" y="2349360"/>
              <a:ext cx="15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003640" y="3141720"/>
            <a:ext cx="649440" cy="360"/>
            <a:chOff x="5003640" y="3141720"/>
            <a:chExt cx="649440" cy="360"/>
          </a:xfrm>
        </p:grpSpPr>
        <p:sp>
          <p:nvSpPr>
            <p:cNvPr id="109" name="Line 10"/>
            <p:cNvSpPr/>
            <p:nvPr/>
          </p:nvSpPr>
          <p:spPr>
            <a:xfrm>
              <a:off x="5003640" y="3141720"/>
              <a:ext cx="64944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003640" y="314172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63640" y="3789360"/>
            <a:ext cx="649440" cy="360"/>
            <a:chOff x="1763640" y="3789360"/>
            <a:chExt cx="649440" cy="360"/>
          </a:xfrm>
        </p:grpSpPr>
        <p:sp>
          <p:nvSpPr>
            <p:cNvPr id="112" name="Line 11"/>
            <p:cNvSpPr/>
            <p:nvPr/>
          </p:nvSpPr>
          <p:spPr>
            <a:xfrm>
              <a:off x="1763640" y="3789360"/>
              <a:ext cx="649440" cy="0"/>
            </a:xfrm>
            <a:prstGeom prst="line">
              <a:avLst/>
            </a:prstGeom>
            <a:ln w="507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1763640" y="3789360"/>
              <a:ext cx="64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242064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我只是看看，不要妈妈买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小男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826920" y="9810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孩子的妈妈叹了口气，说：“他爸爸长年病着，家里生活不富裕。孩子心疼我，什么也不让我给他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9236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读懂了什么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1692360" y="350028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小兵心里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539640" y="3429000"/>
            <a:ext cx="77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爸爸常年病着，家里生活不富裕。我要体谅妈妈，不能让她给我买东西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691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儿听了，连忙从玩具里找出一辆漂亮的小汽车，请妈妈带给那个男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200724151838208_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64000" y="5084640"/>
            <a:ext cx="1943280" cy="1344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539640" y="278136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售货员阿姨天天盼着再见到那个男孩，好把小汽车送给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691920"/>
            <a:ext cx="822960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把最想说的话写下来送给小兵，可以是祝福的，可以是鼓励的，也可以是称赞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R0VXJJO5GP_1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3068640"/>
            <a:ext cx="2735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6B9E-1963-4CAC-AF11-A84C538155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5:05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42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