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9.jpeg" ContentType="image/jpeg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15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086-C5D8-4139-84D1-403D3168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959-B200-4292-B941-E137CD2D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6CA-8465-4FB0-836B-179AA1F2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17B-B1D9-4DEF-B01A-9F23F96A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FDFC-2AFF-4484-B984-B53AFBAE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DED8-70C3-46CD-975F-F973418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2DE4-3A5B-404A-90D3-8CDC01D7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6BE9-3F24-4233-9A9D-73EBF742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6B20-AF5F-4107-9770-EDB2687F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17DF-F911-42C7-AE7D-DBF4F2DE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596-2FFE-46B0-A66A-23B3A9B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ECA-667C-46C6-A449-F59BCDC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B9B4-9FE3-45B2-B1FB-8F6E422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AA90-555F-4BB5-98B0-EB7CD880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8B34-5831-40B7-A5ED-D0AA9005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72ED-B433-4297-82E5-2DED41CC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998D-A557-476A-BE5A-2D5721C7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012-9A21-4D15-844B-D8CF5E6B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CC9-F49C-4F26-B547-D03C9098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017-E029-4783-B927-CF136489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6BB-4D10-4AAF-AD2B-28AB9C6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DD3-C531-4879-9DA8-55E8271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D38-039B-441E-BE0F-321A1BB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5C9-F00E-478D-AA2A-5B950A1F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E893-C1D9-4710-916E-4BF6A54F8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A5F-287F-4AF4-BD49-FB96EACD7C2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95B6-1C31-41A4-938A-B895D03807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22320" y="839880"/>
            <a:ext cx="9050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9966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latin typeface="Arial"/>
              </a:rPr>
              <a:t>我家跨上了“信息高速路”课件 </a:t>
            </a:r>
            <a:r>
              <a:rPr b="1" lang="en-US" sz="4000" spc="1" strike="noStrike">
                <a:ln w="9360">
                  <a:solidFill>
                    <a:srgbClr val="ff9966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latin typeface="Arial"/>
              </a:rPr>
              <a:t>PPT</a:t>
            </a:r>
            <a:r>
              <a:rPr b="1" lang="zh-CN" sz="4000" spc="1" strike="noStrike">
                <a:ln w="9360">
                  <a:solidFill>
                    <a:srgbClr val="ff9966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latin typeface="Arial"/>
              </a:rPr>
              <a:t>模板下载</a:t>
            </a:r>
            <a:endParaRPr b="1" lang="en-US" sz="4000" spc="1" strike="noStrike">
              <a:ln w="9360">
                <a:solidFill>
                  <a:srgbClr val="ff9966"/>
                </a:solidFill>
                <a:round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611280" y="2565360"/>
            <a:ext cx="822960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五湖四海的人随时可以交流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684360" y="981000"/>
            <a:ext cx="467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有了网络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39640" y="4221000"/>
            <a:ext cx="822960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咱们的地球就变成了一个小村庄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33" name="Picture 5" descr="20041213_003558_57953"/>
          <p:cNvPicPr/>
          <p:nvPr/>
        </p:nvPicPr>
        <p:blipFill>
          <a:blip r:embed="rId1"/>
          <a:stretch/>
        </p:blipFill>
        <p:spPr>
          <a:xfrm>
            <a:off x="6443640" y="620640"/>
            <a:ext cx="1496880" cy="179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20041213_003558_57953"/>
          <p:cNvPicPr/>
          <p:nvPr/>
        </p:nvPicPr>
        <p:blipFill>
          <a:blip r:embed="rId2"/>
          <a:stretch/>
        </p:blipFill>
        <p:spPr>
          <a:xfrm>
            <a:off x="6877080" y="-531720"/>
            <a:ext cx="2822400" cy="33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20041213_003558_57953"/>
          <p:cNvPicPr/>
          <p:nvPr/>
        </p:nvPicPr>
        <p:blipFill>
          <a:blip r:embed="rId3"/>
          <a:stretch/>
        </p:blipFill>
        <p:spPr>
          <a:xfrm>
            <a:off x="0" y="4365720"/>
            <a:ext cx="2822400" cy="33782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200"/>
          <p:cNvSpPr/>
          <p:nvPr/>
        </p:nvSpPr>
        <p:spPr>
          <a:xfrm>
            <a:off x="826920" y="213372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2004323173117963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2"/>
          <p:cNvSpPr txBox="1"/>
          <p:nvPr/>
        </p:nvSpPr>
        <p:spPr>
          <a:xfrm>
            <a:off x="1619280" y="1989000"/>
            <a:ext cx="5486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我感到地球一下子变小了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0" name="WordArt 3"/>
          <p:cNvSpPr txBox="1"/>
          <p:nvPr/>
        </p:nvSpPr>
        <p:spPr>
          <a:xfrm>
            <a:off x="1619280" y="3716280"/>
            <a:ext cx="5486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知识的大门向我敞开了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BF6-3C28-4266-99DA-1FEC12CFC3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100589637837"/>
          <p:cNvPicPr/>
          <p:nvPr/>
        </p:nvPicPr>
        <p:blipFill>
          <a:blip r:embed="rId1"/>
          <a:stretch/>
        </p:blipFill>
        <p:spPr>
          <a:xfrm>
            <a:off x="826920" y="260280"/>
            <a:ext cx="770436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23"/>
          <p:cNvPicPr/>
          <p:nvPr/>
        </p:nvPicPr>
        <p:blipFill>
          <a:blip r:embed="rId1"/>
          <a:stretch/>
        </p:blipFill>
        <p:spPr>
          <a:xfrm>
            <a:off x="2600280" y="404640"/>
            <a:ext cx="4094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169236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2001717155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26" descr="pic"/>
          <p:cNvPicPr/>
          <p:nvPr/>
        </p:nvPicPr>
        <p:blipFill>
          <a:blip r:embed="rId1"/>
          <a:stretch/>
        </p:blipFill>
        <p:spPr>
          <a:xfrm>
            <a:off x="2124000" y="2205000"/>
            <a:ext cx="3333960" cy="400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27" descr="pic_003"/>
          <p:cNvPicPr/>
          <p:nvPr/>
        </p:nvPicPr>
        <p:blipFill>
          <a:blip r:embed="rId2"/>
          <a:stretch/>
        </p:blipFill>
        <p:spPr>
          <a:xfrm>
            <a:off x="4932360" y="1052640"/>
            <a:ext cx="2316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6" descr="tn_008"/>
          <p:cNvPicPr/>
          <p:nvPr/>
        </p:nvPicPr>
        <p:blipFill>
          <a:blip r:embed="rId1"/>
          <a:stretch/>
        </p:blipFill>
        <p:spPr>
          <a:xfrm>
            <a:off x="2484360" y="1628640"/>
            <a:ext cx="43196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11280" y="549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信息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771640" y="54936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网络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5364000" y="242100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遍布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7236000" y="549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信箱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4859280" y="54936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迫不及待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611280" y="242100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五湖四海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3564000" y="5445000"/>
            <a:ext cx="2378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恋恋不舍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6372360" y="393372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目不转睛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3419640" y="4005360"/>
            <a:ext cx="194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米老鼠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6732720" y="544500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赞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900000" y="5445000"/>
            <a:ext cx="17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敞开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6" name="WordArt 13"/>
          <p:cNvSpPr txBox="1"/>
          <p:nvPr/>
        </p:nvSpPr>
        <p:spPr>
          <a:xfrm>
            <a:off x="826920" y="400536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新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3203640" y="2421000"/>
            <a:ext cx="143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家庭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7308720" y="2421000"/>
            <a:ext cx="13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功能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9" name="WordArt 16"/>
          <p:cNvSpPr txBox="1"/>
          <p:nvPr/>
        </p:nvSpPr>
        <p:spPr>
          <a:xfrm>
            <a:off x="3471840" y="507960"/>
            <a:ext cx="7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络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0" name="WordArt 17"/>
          <p:cNvSpPr txBox="1"/>
          <p:nvPr/>
        </p:nvSpPr>
        <p:spPr>
          <a:xfrm>
            <a:off x="3944880" y="242100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庭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1" name="WordArt 18"/>
          <p:cNvSpPr txBox="1"/>
          <p:nvPr/>
        </p:nvSpPr>
        <p:spPr>
          <a:xfrm>
            <a:off x="920880" y="5445000"/>
            <a:ext cx="71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敞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564000" y="5495760"/>
            <a:ext cx="107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恋恋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3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2"/>
          <p:cNvSpPr txBox="1"/>
          <p:nvPr/>
        </p:nvSpPr>
        <p:spPr>
          <a:xfrm>
            <a:off x="395280" y="907920"/>
            <a:ext cx="345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爸爸告诉我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539640" y="2133720"/>
            <a:ext cx="7920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电脑网络如同一个遍布全球的蜘蛛网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468360" y="3789360"/>
            <a:ext cx="83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把每个国家、每座城市甚至每个家庭都连在了一起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8" name="Picture 8" descr="gifbj009"/>
          <p:cNvPicPr/>
          <p:nvPr/>
        </p:nvPicPr>
        <p:blipFill>
          <a:blip r:embed="rId1"/>
          <a:stretch/>
        </p:blipFill>
        <p:spPr>
          <a:xfrm>
            <a:off x="5508720" y="0"/>
            <a:ext cx="2336760" cy="2803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ifbj009"/>
          <p:cNvPicPr/>
          <p:nvPr/>
        </p:nvPicPr>
        <p:blipFill>
          <a:blip r:embed="rId2"/>
          <a:stretch/>
        </p:blipFill>
        <p:spPr>
          <a:xfrm>
            <a:off x="395280" y="4869000"/>
            <a:ext cx="16574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21973__e0602t01.jpg"/>
          <p:cNvPicPr/>
          <p:nvPr/>
        </p:nvPicPr>
        <p:blipFill>
          <a:blip r:embed="rId1"/>
          <a:stretch/>
        </p:blipFill>
        <p:spPr>
          <a:xfrm>
            <a:off x="395280" y="111240"/>
            <a:ext cx="8748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900000" y="1052640"/>
            <a:ext cx="7344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可以迅速找到所需要的各种信息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900000" y="2708280"/>
            <a:ext cx="784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可以用电子信箱和全世界的小朋友建立联系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900000" y="4508640"/>
            <a:ext cx="741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还可以进行网上购物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27" name="Picture 5" descr="20041213_003558_11708"/>
          <p:cNvPicPr/>
          <p:nvPr/>
        </p:nvPicPr>
        <p:blipFill>
          <a:blip r:embed="rId1"/>
          <a:stretch/>
        </p:blipFill>
        <p:spPr>
          <a:xfrm>
            <a:off x="7407360" y="-603360"/>
            <a:ext cx="1736640" cy="208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0041213_003558_62945"/>
          <p:cNvPicPr/>
          <p:nvPr/>
        </p:nvPicPr>
        <p:blipFill>
          <a:blip r:embed="rId2"/>
          <a:stretch/>
        </p:blipFill>
        <p:spPr>
          <a:xfrm>
            <a:off x="0" y="4702320"/>
            <a:ext cx="17971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4:23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2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