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gif" ContentType="image/gif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gif" ContentType="image/gif"/>
  <Override PartName="/ppt/media/image16.jpeg" ContentType="image/jpeg"/>
  <Override PartName="/ppt/media/image13.jpeg" ContentType="image/jpeg"/>
  <Override PartName="/ppt/media/image14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DA4-D463-40E0-90B2-C515126C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F72-9DA9-4EFC-8856-8A0776A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DDB-2E56-4D49-A71E-AA765C54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C39-BAF8-4391-A035-AD1CCD78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2AF8-8471-4A6F-9B64-47AB3393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03C6-6A06-48CC-A53F-D1D3D3E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11DE-BC79-448C-A4CA-6F985FA5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7ACE-7902-4708-9C9A-BC45E50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85D-0516-4C31-A6A2-A5F12DE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F92-62A5-4D6C-BE68-DD62F56C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D35E-2EE0-4125-8CF9-EADA232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5C0-7AEB-43FF-8EDC-CB5E6948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335E-EE28-47E3-8539-AF0C5C6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C880-971B-432E-8D36-AB49330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1A92-0DDA-41D2-B084-342ED71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5F19-4211-475B-AE41-7AD95AAF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B98-A1CE-4998-8A5F-62389E78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9E9-88FC-4094-969A-03F25DEB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46-DEA8-4C9A-B77A-9A341B5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7F9-475D-434C-90F6-CF22499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3C8-6CC6-4D23-8E21-F95D0A5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847-79EA-4650-9E09-D9F58B6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067-B545-4056-8799-2A96F10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B8D-7343-4AAA-8F96-F86194E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BA2-5BDB-4990-B9F7-E9BA020FD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C0AA-578F-4C5D-B4F2-27AB802DAD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46E0-841B-42BC-8317-DEFD22B321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320364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 Box 3" descr=""/>
          <p:cNvPicPr/>
          <p:nvPr/>
        </p:nvPicPr>
        <p:blipFill>
          <a:blip r:embed="rId2"/>
          <a:stretch/>
        </p:blipFill>
        <p:spPr>
          <a:xfrm>
            <a:off x="952560" y="1619280"/>
            <a:ext cx="7812000" cy="700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304920" y="5334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907920"/>
            <a:ext cx="8569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危楼高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百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手可摘星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敢高声语，恐惊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天上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桃花潭水深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白发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三千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缘愁似个长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山鸟飞绝，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径人踪灭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324480" y="1600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257800" y="249228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562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壮丽景色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庐山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-06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2" name="Picture 5" descr="大天池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877320" y="55627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大天池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Picture 8" descr="东林寺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9"/>
            <p:cNvSpPr/>
            <p:nvPr/>
          </p:nvSpPr>
          <p:spPr>
            <a:xfrm>
              <a:off x="1105920" y="56386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东林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0" y="-152280"/>
            <a:ext cx="9144000" cy="7010280"/>
            <a:chOff x="0" y="-152280"/>
            <a:chExt cx="9144000" cy="7010280"/>
          </a:xfrm>
        </p:grpSpPr>
        <p:pic>
          <p:nvPicPr>
            <p:cNvPr id="128" name="Picture 11" descr="花径"/>
            <p:cNvPicPr/>
            <p:nvPr/>
          </p:nvPicPr>
          <p:blipFill>
            <a:blip r:embed="rId5"/>
            <a:stretch/>
          </p:blipFill>
          <p:spPr>
            <a:xfrm>
              <a:off x="0" y="-15228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2"/>
            <p:cNvSpPr/>
            <p:nvPr/>
          </p:nvSpPr>
          <p:spPr>
            <a:xfrm>
              <a:off x="6289200" y="537696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花  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0" y="0"/>
            <a:ext cx="9144000" cy="7086240"/>
            <a:chOff x="0" y="0"/>
            <a:chExt cx="9144000" cy="7086240"/>
          </a:xfrm>
        </p:grpSpPr>
        <p:pic>
          <p:nvPicPr>
            <p:cNvPr id="131" name="Picture 14" descr="龙首崖"/>
            <p:cNvPicPr/>
            <p:nvPr/>
          </p:nvPicPr>
          <p:blipFill>
            <a:blip r:embed="rId6"/>
            <a:srcRect l="0" t="15276" r="0" b="34724"/>
            <a:stretch/>
          </p:blipFill>
          <p:spPr>
            <a:xfrm>
              <a:off x="0" y="0"/>
              <a:ext cx="9144000" cy="70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5"/>
            <p:cNvSpPr/>
            <p:nvPr/>
          </p:nvSpPr>
          <p:spPr>
            <a:xfrm>
              <a:off x="6744960" y="5721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龙首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134" name="Picture 17" descr="桃花园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6652800" y="51148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桃花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9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37" name="Picture 20" descr="五老峰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1"/>
            <p:cNvSpPr/>
            <p:nvPr/>
          </p:nvSpPr>
          <p:spPr>
            <a:xfrm>
              <a:off x="6820920" y="54864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五老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0" y="0"/>
            <a:ext cx="9144000" cy="7238880"/>
            <a:chOff x="0" y="0"/>
            <a:chExt cx="9144000" cy="7238880"/>
          </a:xfrm>
        </p:grpSpPr>
        <p:pic>
          <p:nvPicPr>
            <p:cNvPr id="140" name="Picture 23" descr="三叠泉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43" name="Picture 3" descr="三叠泉水"/>
            <p:cNvPicPr/>
            <p:nvPr/>
          </p:nvPicPr>
          <p:blipFill>
            <a:blip r:embed="rId1"/>
            <a:srcRect l="0" t="4441" r="0" b="10002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596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1588"/>
          <p:cNvPicPr/>
          <p:nvPr/>
        </p:nvPicPr>
        <p:blipFill>
          <a:blip r:embed="rId2"/>
          <a:srcRect l="3336" t="4193" r="3336" b="90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676"/>
          <p:cNvPicPr/>
          <p:nvPr/>
        </p:nvPicPr>
        <p:blipFill>
          <a:blip r:embed="rId3"/>
          <a:srcRect l="0" t="6558" r="0" b="8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585"/>
          <p:cNvPicPr/>
          <p:nvPr/>
        </p:nvPicPr>
        <p:blipFill>
          <a:blip r:embed="rId1"/>
          <a:srcRect l="0" t="4999" r="1412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ANI_048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595(1)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ALL0156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EUR0688"/>
          <p:cNvPicPr/>
          <p:nvPr/>
        </p:nvPicPr>
        <p:blipFill>
          <a:blip r:embed="rId3"/>
          <a:srcRect l="0" t="0" r="0" b="889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584(1)"/>
          <p:cNvPicPr/>
          <p:nvPr/>
        </p:nvPicPr>
        <p:blipFill>
          <a:blip r:embed="rId4"/>
          <a:srcRect l="3294" t="1663" r="3294" b="667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77"/>
          <p:cNvPicPr/>
          <p:nvPr/>
        </p:nvPicPr>
        <p:blipFill>
          <a:blip r:embed="rId5"/>
          <a:srcRect l="5875" t="0" r="23531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7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pic>
          <p:nvPicPr>
            <p:cNvPr id="158" name="Picture 8" descr="3285(1)"/>
            <p:cNvPicPr/>
            <p:nvPr/>
          </p:nvPicPr>
          <p:blipFill>
            <a:blip r:embed="rId6"/>
            <a:srcRect l="2588" t="1663" r="1412" b="4999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ANI_048"/>
            <p:cNvPicPr/>
            <p:nvPr/>
          </p:nvPicPr>
          <p:blipFill>
            <a:blip r:embed="rId7"/>
            <a:stretch/>
          </p:blipFill>
          <p:spPr>
            <a:xfrm>
              <a:off x="8305920" y="60199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452-02FA-44F5-A1E5-28D5EAD30B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b3"/>
          <p:cNvPicPr/>
          <p:nvPr/>
        </p:nvPicPr>
        <p:blipFill>
          <a:blip r:embed="rId1"/>
          <a:stretch/>
        </p:blipFill>
        <p:spPr>
          <a:xfrm>
            <a:off x="0" y="-233280"/>
            <a:ext cx="9144000" cy="7091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0" y="0"/>
            <a:ext cx="558000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还没看见瀑布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先听见瀑布的声音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好像叠叠的浪涌上岸滩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又像阵阵的风吹过松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山路忽然一转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啊！望见了瀑布的全身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6360" y="3429000"/>
            <a:ext cx="6227640" cy="33858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这般景象没法比喻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千丈青山衬着一道白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站在瀑布脚下仰望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好伟大呀，一座珍珠的屏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时时来一阵风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把它吹得如烟，如雾，如尘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5508720" y="404640"/>
            <a:ext cx="34336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08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瀑布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468360" y="5734080"/>
            <a:ext cx="647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1-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5029200" y="533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1828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257800" y="234936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67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白简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李白（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76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）   字太白，号青莲居士。祖籍陇西成纪（今甘肃天水县附近），少年时博览群书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起在四川漫游，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25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出川东游。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42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岁做了翰林院学士，但不受重视，抱负不能实现，离开长安，安史之乱后，因受牵连被流放夜郎，《望庐山瀑布》就是在这次流放途中经过庐山时写的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    李白是我国历史上最伟大的诗人之一。他的诗表现了对封建秩序和权贵的不满，反映了人民的疾苦和愿望，描绘了祖国壮丽的山河。他的诗风格雄奇豪放，想像丰富，是屈原之后我国又一位伟大的浪漫主义诗人，被称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诗仙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。现存李白的诗有九百多首，有《李太白集》存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685800"/>
            <a:ext cx="84582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读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准字音，读通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想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首诗大致讲的是什么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3429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找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找出相关词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46483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幼圆"/>
                <a:ea typeface="幼圆"/>
              </a:rPr>
              <a:t>品：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品味词句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1066680" y="1676520"/>
            <a:ext cx="6629400" cy="36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望庐山瀑布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01" name="Picture 4" descr="pb1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pb2"/>
          <p:cNvPicPr/>
          <p:nvPr/>
        </p:nvPicPr>
        <p:blipFill>
          <a:blip r:embed="rId3"/>
          <a:stretch/>
        </p:blipFill>
        <p:spPr>
          <a:xfrm>
            <a:off x="0" y="0"/>
            <a:ext cx="8763120" cy="695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pb3"/>
          <p:cNvPicPr/>
          <p:nvPr/>
        </p:nvPicPr>
        <p:blipFill>
          <a:blip r:embed="rId4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望庐山瀑布朗读.wav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7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dur="indefinite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" dur="indefinite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dur="indefinite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2120" y="2286000"/>
            <a:ext cx="7924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瀑炉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609480"/>
            <a:ext cx="800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    pù   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zh-CN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日照香炉生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ls16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-300960" y="549360"/>
            <a:ext cx="2009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遥看瀑布挂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4241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s7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514120" y="260280"/>
            <a:ext cx="33998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7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3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