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A7A-A022-43AE-BF3B-F32A5ADB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884-B3D9-4338-9B56-94C37F18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D908D-F4B5-44DB-9ABA-1DDAF22A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44990-C9BC-4F9E-9855-1B9ED91F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125D3-21C1-4FAE-BCC3-0C614075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A6DBC-7C7E-401F-8C69-83E12E61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31777-EC93-472E-A64E-477751B2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12970-D5BF-4BF5-9D2C-78BF03DD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7895E-2D09-4056-B43D-CA060AC7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FB7E6-9BFB-4BF9-95C5-2CF8008F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E2628-459D-46B6-9CFB-B19ED78B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CCA0E-A300-49B6-BDD2-FE446620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A09-05F5-4070-81F0-B0DCB254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B7B8D-8518-4F43-9CE8-83E940C9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46230-DA57-4807-A443-30FCC727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1D702-7044-4329-B076-A55CA5BE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AB1D7-1616-4455-AE42-C85CBA88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AE4C1-AD99-483B-AA29-297E2DD4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4FFEE-D00E-4244-8877-B8AD0578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48CFA-6E04-4D33-B370-57A9B6AD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D77C5-F68D-4744-BB19-E8EE0C4E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8DAEF-5D50-4C2E-990F-5F697327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92D0B-6268-4869-8AAA-1DE7E29D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22E-63C8-4789-BF25-A2AB1433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D0CC0-647F-4AAD-8CC0-BF71BA04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44ECD-DA6E-4FA5-AC61-8E6D72CE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9C720-9ED2-4B60-9039-DC71F2DC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A2DBA-77F3-4483-BAA8-E9F8DD15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5AA58-8841-4E39-B303-F6CC462E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E0503-E78F-4573-B1A5-C2545CAA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62680-6097-4269-A017-649F0457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BDFBF-2935-4DC0-BE29-26C3FE67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36DE6-70EF-40D2-9B7E-1E31A42B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53767-C8D2-436B-8890-BEE2E44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6B7E-A247-4270-B9FE-ED170B14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3A28A-CC4F-495F-B4E3-E9ED2863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02E63-3B7D-499D-96C6-13C16CB8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F94C9-3D3A-4E57-9C22-AC2F6CCB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260F3-5C33-4F67-85C1-D88344A1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30732-67EF-41DF-96C3-3DFE6B7A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C0AF4-6E07-4D0D-8404-90757D4E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8D3DD-BD5C-48B7-807B-D354077D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03655-8550-4D69-8241-E88F1A22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E651C-9533-45E4-A505-A123B196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EE5A0-A256-43F4-BA0D-72008969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9C72-FF87-4C76-9906-7861DE80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2D448-3002-4A6F-A1EF-1F458166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686D7-BE75-4A6B-A1C1-AB01DB3B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35A08-F7C6-45E2-A2E6-3383EEB6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3C5DF-EC86-4FFD-B6ED-2D4C92B3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10F84-05ED-45E8-8DB5-2DDAE3C3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944DF-1BF9-499C-82DB-691FFB54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9EA96-329D-4EEB-9FB0-0F7CBE1D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88967-1603-4C3B-8064-7C9D759F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95E3E-5916-4557-B7FA-EE5BE8B9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3EA04-5147-436B-88DE-3C28BDEC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21E9-30B4-4788-B976-C20FCE84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AE913-C4F1-4312-A287-815453A8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33904-79AB-4225-8990-7DF370D2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CBB8F-1716-4EB6-8AB3-4EE7246A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47D72-3F21-436A-8357-CC0A1D4F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A64D4-71E2-4D08-A5AC-38D8E6D8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5039C-06FF-496F-93DD-21B50F7A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5D799-2AB8-4463-BC0A-D3C62560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3B15-3A68-42C1-98CA-A06BF32D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24CB-A31D-43C8-896A-4C18BDB5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C7A6-6BC5-41E4-9BD5-792AE3E0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DBC6-BEBE-4F75-8F19-C77FFD50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30D-AB80-46E3-A2CF-732357CE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38CC-5076-4C62-9BCF-FD73F6C7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C2AE-E58F-4CA9-89BB-F74633CB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8832-F5ED-4F0A-8020-E0DCDD02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3FE6-BF40-4843-904D-6BBAE77F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209B-33BA-4847-B4E0-E3698577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55FB-9E0D-4D01-B50A-8306A393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006E-5E13-44D4-A542-BC7D1DDC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7F16F-4EE9-46B3-B8B9-A49EFB8C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D2B67-FAC3-4BBB-B13D-B552CCF9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D72A-CDA8-4136-BB0F-9ACDD395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832-5E9E-4685-BCA7-B82A7E04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3D10-09AA-43B0-BC9B-5F9D5744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9E96-76F6-41CD-B544-DD46C1C5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13EC-A160-4623-A38B-9D7D2D07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B5CE-D89E-4C19-AC18-E75936CD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AE493-7E68-4DA2-BEA8-C6366454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8630-33D5-478F-AFFB-32A67266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AA854-9AEB-432F-B3A9-5D307FCB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5D15D-A349-4870-A64B-C8074326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8C45F-D539-487C-9E46-F6F5197E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9F1F-3E43-4CC6-91D8-3DF81EED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C42-A569-4F39-A33E-49C660DA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8AF7-57E5-4DFE-A784-5018A4CA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22ABC-ABDF-4E08-9A2F-06EB333E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0AAC9-CEAC-47E2-AA63-5B567529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ABE2-C9DD-4824-9345-9DF81F42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1C4D-4246-4CAC-956C-0AA9BA06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97023-D0A7-457F-9996-F5FC4F47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1D8BA-4E8E-4B86-98B5-6CDAED23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57448-0D33-48C8-9C67-8078C46F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AB529-DDF6-414C-95B7-C4A3360B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D585-13B7-4C5B-AE30-D6A8ACA3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56A-BD81-457B-83AE-2FA106FA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1DFC2-1AEA-42F7-B183-46135E1C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56300-8A35-4BA4-8FED-909BB26A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48D1A-6747-42D5-965F-012F093D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1CEA8-04DD-472C-A413-6724B874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1CC7-0C34-4821-BD9B-DE743C2C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D9302-F668-4FB3-86FC-F3BF807A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A6343-9946-4474-A875-96A8E73F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BB5DD-CBFB-4B4B-90AA-F6AD31D3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31D1-D973-4192-9355-4B9B1466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9B19-3441-4955-AB84-7AB4506F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10E-7F6B-4975-B093-5F59B581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6E31-0AC0-465F-B2DB-3AA60740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54DDA-B05F-4C80-AC9A-5868F933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BD0E9-F3DE-4664-8DE3-6D5C0886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9EAF6-5D65-4298-8313-9A49D69B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10DCA-22D7-4C74-9EA7-6E83FDDC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54BFD-132F-4F64-8D7E-B5451F45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7F305-3B24-4DB4-83FF-8DFEECFA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BE077-1006-4734-A067-05E8B750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991DD-6F74-4046-A860-157FAD82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A3E4E-A466-4AC7-9911-43C3917E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955-FF10-48FF-A817-64E0D39F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128D5-D4E5-4A54-94A9-DCE5199D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D6AFD-CA98-48A7-AF0E-2E389714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16163-8163-4522-B73A-D6FBED6A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EBD60-87F4-4536-9F6D-BE8373EB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431B1-41F7-4A06-AD5D-0CBDDB07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76881-430A-4083-8653-7406DC5D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A3914-549B-4FF5-A24D-142658D8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2F483-6DFB-4CA7-9AF1-B475E2D9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0DE57-E1FB-4FF4-82AF-B5242E4E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414BC-031E-4D59-BB41-BDECB817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668-8530-4B4A-AC96-FF990720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CC295-8562-49A6-AF7D-D0F36190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FDC69-ECD2-4184-9853-F6769DCD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9D6A4-14EA-444A-AD9E-26D9D5D6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FAA8E-4B44-4093-AA49-03416C16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280E4-A11C-4070-B0DD-B12CECB5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CCE5E-EF4A-45B3-9C06-EA436D84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BC71E-6547-44E1-A982-FDF9E929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10E5C-376B-4564-BFE0-67DA1131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F1749-F75F-4F8F-ADBF-FF475B0C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DA914-1C4D-4CBA-B3D0-A7DA7B51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C35-38EB-439A-8496-57C9D7BC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A34A5-BD5E-4ED7-8425-D89F287E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58DC7-CCF1-4D8F-840B-BE15A4BF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68ECE-5433-4423-AA8F-436EE178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68868-6AA7-4453-9E57-2A834320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35C50-D481-4B47-90B4-CC662FB5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68FC2-319B-4493-874F-17427109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07453-7E55-4FD1-B036-8E3B007C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20311-1B93-4D85-9677-BA180B51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D3FFB-ADE2-4784-9C46-A0FC6A38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B4509-55A1-4BC5-ADB4-CD5475BD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F95F-24EA-4CAC-A835-A6D4046A9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B0AD-7A1A-4A6C-A583-852CA3B45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15A5-CD49-43D0-A7D2-A212B0328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8646-91C5-4257-A6D9-E3F8ACD6A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C04C-63F3-4C52-A0BB-4E27206AF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BF04-9DA4-4FBA-A3A4-D4AFA489FD3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6815-BC9C-4C83-8DA4-DD9419ADDE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ED0-9BD5-46EF-83B0-B3D5E09D8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E2E3-05D0-4452-8253-065C6B9D1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CAC6-1CDE-4397-8028-224B78D65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35E8-B144-4147-83EB-DC5A0010F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F5A5-2BE6-476C-AA90-E5890B37E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F476-37D0-4D64-8B0C-44F0E7EAE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DB43-2CEE-4EE7-AD98-A32A83B77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34" name="WordArt 5" descr=""/>
          <p:cNvPicPr/>
          <p:nvPr/>
        </p:nvPicPr>
        <p:blipFill>
          <a:blip r:embed="rId2"/>
          <a:stretch/>
        </p:blipFill>
        <p:spPr>
          <a:xfrm>
            <a:off x="1427040" y="750960"/>
            <a:ext cx="6365880" cy="662040"/>
          </a:xfrm>
          <a:prstGeom prst="rect">
            <a:avLst/>
          </a:prstGeom>
          <a:ln w="0">
            <a:noFill/>
          </a:ln>
        </p:spPr>
      </p:pic>
      <p:sp>
        <p:nvSpPr>
          <p:cNvPr id="53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</a:rPr>
              <a:t>http://www.eeppt.com</a:t>
            </a:r>
            <a:endParaRPr b="1" lang="en-US" sz="16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5"/>
          <p:cNvSpPr/>
          <p:nvPr/>
        </p:nvSpPr>
        <p:spPr>
          <a:xfrm>
            <a:off x="1835280" y="11239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读读下列词语：</a:t>
            </a:r>
            <a:endParaRPr b="1" lang="en-US" sz="4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2048040" y="204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洗漱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2058840" y="488484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惬意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2013120" y="2859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享受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765600" y="4875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优惠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3427560" y="206064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摞书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5613480" y="206064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册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5486400" y="28908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书籍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3613320" y="37861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语塞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2013120" y="37861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解释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5573880" y="37638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反驳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3613320" y="290664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逻辑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3"/>
          <p:cNvSpPr/>
          <p:nvPr/>
        </p:nvSpPr>
        <p:spPr>
          <a:xfrm>
            <a:off x="1447920" y="1447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梵蒂冈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447920" y="5257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欧洲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447920" y="3365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恤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447920" y="4311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冰淇淋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4724280" y="3352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瑞士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1447920" y="2406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佛罗伦萨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4724280" y="4311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希腊</a:t>
            </a:r>
            <a:endParaRPr b="1" lang="en-US" sz="36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4"/>
          <p:cNvSpPr/>
          <p:nvPr/>
        </p:nvSpPr>
        <p:spPr>
          <a:xfrm>
            <a:off x="262080" y="18900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PPT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模板下载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moban/     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行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PPT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模板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hangye/ </a:t>
            </a:r>
            <a:endParaRPr b="1" lang="en-US" sz="100" spc="-1" strike="noStrike">
              <a:solidFill>
                <a:srgbClr val="ff33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节日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PPT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模板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素材下载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sucai/</a:t>
            </a:r>
            <a:endParaRPr b="1" lang="en-US" sz="100" spc="-1" strike="noStrike">
              <a:solidFill>
                <a:srgbClr val="ff33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PPT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背景图片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beijing/      PPT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图表下载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tubiao/      </a:t>
            </a:r>
            <a:endParaRPr b="1" lang="en-US" sz="100" spc="-1" strike="noStrike">
              <a:solidFill>
                <a:srgbClr val="ff33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优秀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PPT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下载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xiazai/        PPT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教程： 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powerpoint/      </a:t>
            </a:r>
            <a:endParaRPr b="1" lang="en-US" sz="100" spc="-1" strike="noStrike">
              <a:solidFill>
                <a:srgbClr val="ff33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ord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教程： 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教程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excel/  </a:t>
            </a:r>
            <a:endParaRPr b="1" lang="en-US" sz="100" spc="-1" strike="noStrike">
              <a:solidFill>
                <a:srgbClr val="ff33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资料下载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课件下载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kejian/ </a:t>
            </a:r>
            <a:endParaRPr b="1" lang="en-US" sz="100" spc="-1" strike="noStrike">
              <a:solidFill>
                <a:srgbClr val="ff33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范文下载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试卷下载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shiti/  </a:t>
            </a:r>
            <a:endParaRPr b="1" lang="en-US" sz="100" spc="-1" strike="noStrike">
              <a:solidFill>
                <a:srgbClr val="ff33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99ccff"/>
                </a:solidFill>
                <a:latin typeface="宋体"/>
              </a:rPr>
              <a:t>教案下载：</a:t>
            </a: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www.1ppt.com/jiaoan/  </a:t>
            </a:r>
            <a:endParaRPr b="1" lang="en-US" sz="100" spc="-1" strike="noStrike">
              <a:solidFill>
                <a:srgbClr val="ff33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99ccff"/>
                </a:solidFill>
                <a:latin typeface="宋体"/>
              </a:rPr>
              <a:t> </a:t>
            </a:r>
            <a:endParaRPr b="1" lang="en-US" sz="1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1835280" y="2781360"/>
            <a:ext cx="53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读读课文，想一想课文写了一些什么事，对这些事你有什么看法和见解。</a:t>
            </a: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  <p:pic>
        <p:nvPicPr>
          <p:cNvPr id="557" name="Picture 10" descr="图片98"/>
          <p:cNvPicPr/>
          <p:nvPr/>
        </p:nvPicPr>
        <p:blipFill>
          <a:blip r:embed="rId1"/>
          <a:stretch/>
        </p:blipFill>
        <p:spPr>
          <a:xfrm>
            <a:off x="1619280" y="189000"/>
            <a:ext cx="1398600" cy="2160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04"/>
          <p:cNvPicPr/>
          <p:nvPr/>
        </p:nvPicPr>
        <p:blipFill>
          <a:blip r:embed="rId2"/>
          <a:stretch/>
        </p:blipFill>
        <p:spPr>
          <a:xfrm>
            <a:off x="0" y="0"/>
            <a:ext cx="1187280" cy="704880"/>
          </a:xfrm>
          <a:prstGeom prst="rect">
            <a:avLst/>
          </a:prstGeom>
          <a:ln w="0">
            <a:noFill/>
          </a:ln>
        </p:spPr>
      </p:pic>
      <p:sp>
        <p:nvSpPr>
          <p:cNvPr id="559" name="文本框 8194"/>
          <p:cNvSpPr/>
          <p:nvPr/>
        </p:nvSpPr>
        <p:spPr>
          <a:xfrm>
            <a:off x="3276720" y="177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http://www.eeppt.com/moban/</a:t>
            </a:r>
            <a:endParaRPr b="1" lang="en-US" sz="16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6300720" y="1870200"/>
            <a:ext cx="151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国父母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担心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1333440" y="194148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外国父母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放心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6373800" y="30942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约束）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981080" y="33814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自由）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64" name="AutoShape 6"/>
          <p:cNvSpPr/>
          <p:nvPr/>
        </p:nvSpPr>
        <p:spPr>
          <a:xfrm>
            <a:off x="3708360" y="1509840"/>
            <a:ext cx="1944720" cy="2016000"/>
          </a:xfrm>
          <a:prstGeom prst="irregularSeal2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爱</a:t>
            </a:r>
            <a:endParaRPr b="1" lang="en-US" sz="7200" spc="-1" strike="noStrike">
              <a:solidFill>
                <a:srgbClr val="ff3300"/>
              </a:solidFill>
              <a:latin typeface="宋体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365440" y="2157480"/>
            <a:ext cx="864000" cy="576360"/>
            <a:chOff x="5365440" y="2157480"/>
            <a:chExt cx="864000" cy="576360"/>
          </a:xfrm>
        </p:grpSpPr>
        <p:sp>
          <p:nvSpPr>
            <p:cNvPr id="566" name="Line 7"/>
            <p:cNvSpPr/>
            <p:nvPr/>
          </p:nvSpPr>
          <p:spPr>
            <a:xfrm flipH="1">
              <a:off x="5365440" y="2157480"/>
              <a:ext cx="863640" cy="5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3300"/>
                </a:solidFill>
                <a:latin typeface="宋体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5365800" y="2157480"/>
              <a:ext cx="8636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3300"/>
                </a:solidFill>
                <a:latin typeface="宋体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844720" y="2446200"/>
            <a:ext cx="792360" cy="142920"/>
            <a:chOff x="2844720" y="2446200"/>
            <a:chExt cx="792360" cy="142920"/>
          </a:xfrm>
        </p:grpSpPr>
        <p:sp>
          <p:nvSpPr>
            <p:cNvPr id="569" name="Line 8"/>
            <p:cNvSpPr/>
            <p:nvPr/>
          </p:nvSpPr>
          <p:spPr>
            <a:xfrm>
              <a:off x="2844720" y="2446200"/>
              <a:ext cx="792360" cy="14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3300"/>
                </a:solidFill>
                <a:latin typeface="宋体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2844720" y="2446200"/>
              <a:ext cx="792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3300"/>
                </a:solidFill>
                <a:latin typeface="宋体"/>
              </a:endParaRPr>
            </a:p>
          </p:txBody>
        </p:sp>
      </p:grpSp>
      <p:sp>
        <p:nvSpPr>
          <p:cNvPr id="571" name="Text Box 9"/>
          <p:cNvSpPr/>
          <p:nvPr/>
        </p:nvSpPr>
        <p:spPr>
          <a:xfrm>
            <a:off x="3997440" y="48211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孩子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573440" y="3525840"/>
            <a:ext cx="216000" cy="1152360"/>
            <a:chOff x="4573440" y="3525840"/>
            <a:chExt cx="216000" cy="1152360"/>
          </a:xfrm>
        </p:grpSpPr>
        <p:sp>
          <p:nvSpPr>
            <p:cNvPr id="573" name="Line 10"/>
            <p:cNvSpPr/>
            <p:nvPr/>
          </p:nvSpPr>
          <p:spPr>
            <a:xfrm flipH="1">
              <a:off x="4573440" y="3525840"/>
              <a:ext cx="216000" cy="115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3300"/>
                </a:solidFill>
                <a:latin typeface="宋体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4573440" y="3525840"/>
              <a:ext cx="21600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33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1332000" y="14256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按要求改句子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042920" y="213372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她说她是乘火车旅行，因为年纪小，可以享受优惠，买一张全欧洲旅行联票，不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0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马克。（改为对话形式）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1116000" y="37162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爱孩子，为什么就不能让他们单儿出们？（改为陈述句）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78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http://www.eeppt.com/moban/</a:t>
            </a:r>
            <a:endParaRPr b="1" lang="en-US" sz="16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692360" y="1197000"/>
            <a:ext cx="54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词语认读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语塞  惬意  梵帝冈  一摞  冰淇淋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恤  逻辑  洗漱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1476360" y="263844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父母不让去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担心）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4427640" y="2276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父母支持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5003640" y="3357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放心）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1547640" y="414972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你满意父母这样做吗？也就是说你赞同中国父母谨慎小心的教育方式，还是赞同外国父母这种开放自由的教育方式？为什么？</a:t>
            </a:r>
            <a:endParaRPr b="1" lang="en-US" sz="2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84360" y="5229360"/>
            <a:ext cx="67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3300"/>
              </a:solidFill>
              <a:latin typeface="宋体"/>
            </a:endParaRPr>
          </a:p>
        </p:txBody>
      </p:sp>
      <p:sp>
        <p:nvSpPr>
          <p:cNvPr id="5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E859-3F92-425E-97CE-47D0D9F63B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4"/>
          <p:cNvSpPr txBox="1"/>
          <p:nvPr/>
        </p:nvSpPr>
        <p:spPr>
          <a:xfrm>
            <a:off x="1403280" y="1268280"/>
            <a:ext cx="5624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设计好旅行路线和日程</a:t>
            </a:r>
            <a:endParaRPr b="1" lang="en-US" sz="1800" spc="1" strike="noStrike">
              <a:ln w="19080">
                <a:solidFill>
                  <a:srgbClr val="ff99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0" name="WordArt 5"/>
          <p:cNvSpPr txBox="1"/>
          <p:nvPr/>
        </p:nvSpPr>
        <p:spPr>
          <a:xfrm>
            <a:off x="1403280" y="3782880"/>
            <a:ext cx="5624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9999"/>
                  </a:solidFill>
                  <a:round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给家里打电话或寄明信片</a:t>
            </a:r>
            <a:endParaRPr b="1" lang="en-US" sz="1800" spc="1" strike="noStrike">
              <a:ln w="19080">
                <a:solidFill>
                  <a:srgbClr val="009999"/>
                </a:solidFill>
                <a:round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1" name="WordArt 6"/>
          <p:cNvSpPr txBox="1"/>
          <p:nvPr/>
        </p:nvSpPr>
        <p:spPr>
          <a:xfrm>
            <a:off x="1403280" y="5078520"/>
            <a:ext cx="5624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3399"/>
                  </a:solidFill>
                  <a:round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旅行准备了</a:t>
            </a:r>
            <a:r>
              <a:rPr b="1" lang="en-US" sz="1800" spc="1" strike="noStrike">
                <a:ln w="19080">
                  <a:solidFill>
                    <a:srgbClr val="333399"/>
                  </a:solidFill>
                  <a:round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r>
              <a:rPr b="1" lang="zh-CN" sz="1800" spc="1" strike="noStrike">
                <a:ln w="19080">
                  <a:solidFill>
                    <a:srgbClr val="333399"/>
                  </a:solidFill>
                  <a:round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年</a:t>
            </a:r>
            <a:endParaRPr b="1" lang="en-US" sz="1800" spc="1" strike="noStrike">
              <a:ln w="19080">
                <a:solidFill>
                  <a:srgbClr val="333399"/>
                </a:solidFill>
                <a:round/>
              </a:ln>
              <a:solidFill>
                <a:srgbClr val="8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2" name="WordArt 7"/>
          <p:cNvSpPr txBox="1"/>
          <p:nvPr/>
        </p:nvSpPr>
        <p:spPr>
          <a:xfrm>
            <a:off x="1403280" y="2563920"/>
            <a:ext cx="5624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查警察局的电话号码</a:t>
            </a:r>
            <a:endParaRPr b="1" lang="en-US" sz="1800" spc="1" strike="noStrike">
              <a:ln w="19080">
                <a:solidFill>
                  <a:srgbClr val="99cc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7195320" y="549360"/>
            <a:ext cx="10947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新宋体"/>
                <a:ea typeface="新宋体"/>
              </a:rPr>
              <a:t>独自一人游欧洲</a:t>
            </a:r>
            <a:endParaRPr b="1" lang="en-US" sz="6000" spc="-1" strike="noStrike">
              <a:solidFill>
                <a:srgbClr val="ff33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7:3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51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第一PPT模板网-WWW.1PPT.COM">
    <vt:bool>1</vt:bool>
  </property>
</Properties>
</file>